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DAC6-5AFE-41BD-8025-368B21E8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F1E-07FC-4645-B674-369BDF79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A30-3749-4E4F-9E52-259FFAA2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EF4-FD2D-49D3-9126-369B52C6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40D-E63C-42AF-8002-87018F0D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5995-EAC2-4288-9F20-53D9889A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C460-07DB-4783-A42D-9386A4AA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57AD-58B6-4599-9CD6-51699737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942-3F3A-45EF-AD51-5CD656CA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B298-7FAE-475A-92B0-D8DE378B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1F3-9013-4B18-9117-0794C12D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589-FF46-41A8-B198-CCED9487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A0A0-E8C9-4181-9978-C43E44FFE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s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 R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tograp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is going to draw the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figures out what to write and how to make the writing l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 who researches the extra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Kee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ck the time, keep kids on tas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every student helps with each job but one kid is responsible for making sure it happ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the outline of the US and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de or use symbols to show where your region is lo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your reg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room for the additional inform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er Con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s on the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he question:  How did our region make the US/Canada rich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the answer to question #2 on your ma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three most important details/examples from the additional resear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all content is large enough to be read by students in the audien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1:56:51Z</dcterms:created>
  <dc:creator>CFISD</dc:creator>
  <dc:description/>
  <dc:language>en-US</dc:language>
  <cp:lastModifiedBy>CFISD</cp:lastModifiedBy>
  <dcterms:modified xsi:type="dcterms:W3CDTF">2008-10-16T12:25:22Z</dcterms:modified>
  <cp:revision>2</cp:revision>
  <dc:subject/>
  <dc:title>Regions Project</dc:title>
</cp:coreProperties>
</file>