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DEDC-68EC-4512-BE6D-E0830F73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EA97-2CED-4D87-B755-21C414C3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3B44-B31E-4CD5-B4D7-5DC789132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F7A2-A5D0-490E-B484-C3EA330EF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634A-CBD3-4D9E-965E-E4DB7863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612E-6E5F-482C-9719-86F28DE5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7413-632D-45CE-95FE-206BBE0F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8491-80A1-4245-BE45-E5BA14AC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F125-1D05-4FCE-A102-614F0A99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64D5-3738-4D5A-BF44-E07D55CC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7197-ED98-45B5-B014-979F2581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24CD-2DD4-4D29-8BCD-27B91CEF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452D-7EC6-4364-BA64-6E292BED8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s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ign Ro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tograp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son who is going to draw the ma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son who figures out what to write and how to make the writing loo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son who researches the extra inform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Kee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eck the time, keep kids on tas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every student helps with each job but one kid is responsible for making sure it happe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etch the outline of the US and Can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de or use symbols to show where your region is loc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 your reg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ve room for the additional inform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er Cont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the questions on the pap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the question:  How did our region make the US/Canada rich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the answer to question #2 on your ma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the three most important details/examples from the additional resear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all content is large enough to be read by students in the audie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1:56:51Z</dcterms:created>
  <dc:creator>CFISD</dc:creator>
  <dc:description/>
  <dc:language>en-US</dc:language>
  <cp:lastModifiedBy>CFISD</cp:lastModifiedBy>
  <dcterms:modified xsi:type="dcterms:W3CDTF">2008-10-16T12:25:22Z</dcterms:modified>
  <cp:revision>2</cp:revision>
  <dc:subject/>
  <dc:title>Regions Project</dc:title>
</cp:coreProperties>
</file>