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84F-2B41-4338-9B05-0C4CFEEAE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BB3D-F4F9-4F96-AF3D-E13A37A6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D13A-9F8D-404D-84B6-DD546DBD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734-95FD-44F3-86B0-A166387C8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2A11-73AB-4EF2-8971-8C42877B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AA22-0003-4583-A5B5-A0EBCBE5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79C5-FB03-4D6E-AE8F-97D8F361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B6D7-7DB1-4BD4-A197-CD1818AE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9C7D-7D40-4E5E-A02E-52143F65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ADB5-3F2A-42C2-B7D2-31A748B1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DB05-CE6F-4105-93EC-8985FB56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5D0-73B4-4FCF-9AF1-77DE796D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8B76-8353-4836-865F-E319120E0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s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 R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tograp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 who is going to draw the ma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 who figures out what to write and how to make the writing l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 who researches the extra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Kee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ck the time, keep kids on tas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every student helps with each job but one kid is responsible for making sure it happe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the outline of the US and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e or use symbols to show where your region is lo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your reg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room for the additional 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er 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questions on the pap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question:  How did our region make the US/Canada ric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the answer to question #2 on your ma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three most important details/examples from the additional resear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all content is large enough to be read by students in the audi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1:56:51Z</dcterms:created>
  <dc:creator>CFISD</dc:creator>
  <dc:description/>
  <dc:language>en-US</dc:language>
  <cp:lastModifiedBy>CFISD</cp:lastModifiedBy>
  <dcterms:modified xsi:type="dcterms:W3CDTF">2008-10-16T12:25:22Z</dcterms:modified>
  <cp:revision>2</cp:revision>
  <dc:subject/>
  <dc:title>Regions Project</dc:title>
</cp:coreProperties>
</file>