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287-AC92-4863-86FE-796DF08E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A7B-3F7B-4E42-86F4-BD76D9E0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3DE6-3186-493B-9A10-4F8CF82A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2BF-0C48-4386-9EC8-4F10F3AC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AAE-0715-44A0-A667-01D939A7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3D2-17AA-4925-9594-3AB31BAE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1FF-FFE1-4E3A-B3E8-1008C3A6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706-AB3C-43B6-8BAD-42E264AD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E5F4-4E78-4FCA-BC2E-95383CA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AC6-E71F-47E3-BA64-5898275F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F5E-C533-4211-949B-C005B43D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3EA-7614-4CA4-8A45-C249B6D3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17E8-5D43-45F2-AD14-DF5C92B6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is going to draw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figures out what to write and how to make the writing l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researches the extra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time, keep kids on ta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every student helps with each job but one kid is responsible for making sure it happ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he outline of the US an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 or use symbols to show where your region is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g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room for the additional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the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:  How did our region make the US/Canada ri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answer to question #2 on your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hree most important details/examples from the additional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all content is large enough to be read by students in the audi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56:51Z</dcterms:created>
  <dc:creator>CFISD</dc:creator>
  <dc:description/>
  <dc:language>en-US</dc:language>
  <cp:lastModifiedBy>CFISD</cp:lastModifiedBy>
  <dcterms:modified xsi:type="dcterms:W3CDTF">2008-10-16T12:25:22Z</dcterms:modified>
  <cp:revision>2</cp:revision>
  <dc:subject/>
  <dc:title>Regions Project</dc:title>
</cp:coreProperties>
</file>