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E44-115E-4521-A7D3-47EEC640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8B4-44F9-4EE6-86D0-5416C22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107-7E14-4B2F-9DDC-A7FF4A0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183-E36B-4B58-88BA-937C25B3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8CA-62DB-494B-9AFE-363037A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3F0-FD3F-42E5-9CCA-1179791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3EA-1CDD-47E4-A93B-FC7D266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A9A-F605-4789-891C-F68D53D9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3BA-00DB-49B0-A35B-EA9774C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A8D-6910-433C-A936-B7CB157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D95-8A7C-42E9-A8D6-E4441BD1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59E-4F5F-4787-AC3C-41B4F07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617-1AC4-4020-ADE4-0B2A2519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very Plan For Tsunami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8:12Z</dcterms:created>
  <dc:creator>cfisd</dc:creator>
  <dc:description/>
  <dc:language>en-US</dc:language>
  <cp:lastModifiedBy>cfisd</cp:lastModifiedBy>
  <dcterms:modified xsi:type="dcterms:W3CDTF">2009-03-11T12:50:40Z</dcterms:modified>
  <cp:revision>1</cp:revision>
  <dc:subject/>
  <dc:title>Recovery Plan For Tsunami Disaster</dc:title>
</cp:coreProperties>
</file>