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0FC-3F08-44A4-A629-150E8B12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90E1-4DF2-486C-AD5B-BEDD72C3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88D-F624-4DAE-9CBF-C631CBFE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669C-4F88-41DC-8C4C-9C65AFE3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9B6-28CF-4AAD-8598-429AE4F5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D01-7154-4079-8991-15614BA7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7C7-70E7-47D1-9169-F3FAA90A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4476-1A15-443B-8250-63A94984A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B2A-D0CD-4647-A966-D52326A8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EE7-926C-45F3-A91E-211C2CC2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0C3-5054-4524-9268-0943ED41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7E1D-B68C-43C0-9081-1BFD388B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95FA-ABCB-4616-B6A0-C0DECF5C8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very Plan For Tsunami Dis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lsy 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aster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1T12:48:12Z</dcterms:created>
  <dc:creator>cfisd</dc:creator>
  <dc:description/>
  <dc:language>en-US</dc:language>
  <cp:lastModifiedBy>cfisd</cp:lastModifiedBy>
  <dcterms:modified xsi:type="dcterms:W3CDTF">2009-03-11T12:50:40Z</dcterms:modified>
  <cp:revision>1</cp:revision>
  <dc:subject/>
  <dc:title>Recovery Plan For Tsunami Disaster</dc:title>
</cp:coreProperties>
</file>