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FF5-E7BA-4229-A953-EDBE9ACF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283-D23B-49B8-B6A5-C0ADD418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91F-7A01-41FF-B283-90E0D69F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5EE-9A8B-4734-B5C4-7806863F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3C7-8C77-4154-9E77-2B7161CB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A76-BC6F-416C-84A8-A5D854B7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D3D-56D2-4AE1-A455-7B2A95E3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02E-3E75-499D-A63F-BBA48987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A13-6B1E-4CBE-8908-9C168EC1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EEA-9256-4B02-886F-BBFE2FCF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015-637B-4617-97B5-C402EB67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0AD-7E3D-4C34-88D1-6458B202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C831-19C1-4294-900A-4CC6AE642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very Plan For Tsunami Dis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sy 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st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2:48:12Z</dcterms:created>
  <dc:creator>cfisd</dc:creator>
  <dc:description/>
  <dc:language>en-US</dc:language>
  <cp:lastModifiedBy>cfisd</cp:lastModifiedBy>
  <dcterms:modified xsi:type="dcterms:W3CDTF">2009-03-11T12:50:40Z</dcterms:modified>
  <cp:revision>1</cp:revision>
  <dc:subject/>
  <dc:title>Recovery Plan For Tsunami Disaster</dc:title>
</cp:coreProperties>
</file>