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902-E5F0-4BE8-A5FE-9BA2A0F1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FFB6-AF55-46A9-9409-15207D36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B9A7-9341-4532-AB74-DEF1F827E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0375-721A-4EA6-9BA7-C9E5FB2CE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9A8-7762-4E8D-92F3-91D50A34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D92-9636-4A7F-B958-C0DE0927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E464-E830-42FB-B157-0BA60014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342F-3937-481C-9772-FE494707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321B-741C-4EB3-8FD1-CE5E127F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775F-CE75-40C1-A1C8-99A2D248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D053-2C25-4BE9-8145-CE61AF03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682-423D-4003-8EE3-1CA0801B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D982-7461-4B82-8086-92A7AD287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very Plan For Tsunami Dis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sy 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st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2:48:12Z</dcterms:created>
  <dc:creator>cfisd</dc:creator>
  <dc:description/>
  <dc:language>en-US</dc:language>
  <cp:lastModifiedBy>cfisd</cp:lastModifiedBy>
  <dcterms:modified xsi:type="dcterms:W3CDTF">2009-03-11T12:50:40Z</dcterms:modified>
  <cp:revision>1</cp:revision>
  <dc:subject/>
  <dc:title>Recovery Plan For Tsunami Disaster</dc:title>
</cp:coreProperties>
</file>