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D401-C10B-4D75-9D2E-56F2D83C2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16A-4211-4A43-9C02-885AFDF8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4FE3-A33B-43C9-8054-19821CF3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1CD-3556-4E78-BB6C-52103E87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5D2-9A7D-4DD4-A45A-727C7786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80C-624E-4765-BA28-4C27C030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68C0-C336-43E8-8A77-1F57D28E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46B9-2777-456B-BF6B-8796F092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40A9-5B58-4F48-9158-5ECC5822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3F11-8935-4F4A-9B48-CD99198B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4F95-B110-4B7D-9272-E569D4F0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429-E0C1-452D-979B-0C3156725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0B2F-4DF0-4C48-9667-FCF1D7684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onotype Corsiva"/>
              </a:rPr>
              <a:t>Rebecca in Dubai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Let’s Kepinski it up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I’ll be staying at the  Kempinski Mall Of The Emirates in  the Deluxe Corner Suite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Dubai Hotels - Kempinski Hotel Mall of the Emirates"/>
          <p:cNvPicPr/>
          <p:nvPr/>
        </p:nvPicPr>
        <p:blipFill>
          <a:blip r:embed="rId1"/>
          <a:stretch/>
        </p:blipFill>
        <p:spPr>
          <a:xfrm>
            <a:off x="4648320" y="1523880"/>
            <a:ext cx="4216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Yeahhh it’s my world now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Our first stop is buying a new private island in the “world.” Don’t worry though, my boyfriends paying for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5715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uying an island is an example of tertiary activ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39625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Bling Bl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352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On Wednesday  I’ll stop by the Gold Souk, one of the largest gold retailers in the world!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886200" cy="2308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Gold souk,Dubai by fortjesus, kenya."/>
          <p:cNvPicPr/>
          <p:nvPr/>
        </p:nvPicPr>
        <p:blipFill>
          <a:blip r:embed="rId2"/>
          <a:stretch/>
        </p:blipFill>
        <p:spPr>
          <a:xfrm>
            <a:off x="4267080" y="1143000"/>
            <a:ext cx="4648320" cy="4419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419720" y="5667480"/>
            <a:ext cx="426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uying jewelry at the Gold Souk is a tertiary activity because the seller has taken a primary resource (gold) and added value by making a beautiful necklace. Then sold the necklace to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Tennis in Duba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ursday afternoon, Michelle and I bought tickets to watch Maria Sharapova in the Dubai Tennis Championship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0600" y="5715000"/>
            <a:ext cx="4038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Buying tickets to a tennis match  is a tertiary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209840" cy="41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Monotype Corsiva"/>
              </a:rPr>
              <a:t>Yellow Polka Dot Bik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2895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riday, I’m going to get lunch at the Atlantis Hotel and spend sometime on the bea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733920" y="1143000"/>
            <a:ext cx="4495680" cy="41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62520" y="539280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Buying lunch at the Atlantis Hotel is a tertiary activity because the Chef has taken a primary source (raw food) and added value to the food by cooking it and making a delicious meal! Then I bought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Vroom Vroo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Saturday, I’ll spice it up a little with good old fashioned Camel Racing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8320" y="5760720"/>
            <a:ext cx="403848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Paying to race a camel is a Tertiary activity, because the owners of Dubai Camel Racing have taken a primary source (the camel) and added value to it by creating a sport. Then I paid money to join i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Dubai Camel Racing Track by PakistanHousing.pk."/>
          <p:cNvPicPr/>
          <p:nvPr/>
        </p:nvPicPr>
        <p:blipFill>
          <a:blip r:embed="rId1"/>
          <a:stretch/>
        </p:blipFill>
        <p:spPr>
          <a:xfrm>
            <a:off x="4876920" y="1676520"/>
            <a:ext cx="3657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64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History of Dub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Dubai began as a small fishing community ruled by the Maktoum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In 1985, plans to turn Dubai into a travel destination be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Now Dubai is a world renowned tourist destination, however they continue to blend their ultra high tech city with their traditional Islamic tradition and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0" y="5181120"/>
            <a:ext cx="4038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otype Corsiva"/>
              </a:rPr>
              <a:t>This is a mosque surrounded by the City of Dub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DUBAI MOSQUE by forzet."/>
          <p:cNvPicPr/>
          <p:nvPr/>
        </p:nvPicPr>
        <p:blipFill>
          <a:blip r:embed="rId1"/>
          <a:stretch/>
        </p:blipFill>
        <p:spPr>
          <a:xfrm>
            <a:off x="4419720" y="1828800"/>
            <a:ext cx="441936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9:22:48Z</dcterms:created>
  <dc:creator>Matt Guilfoyle</dc:creator>
  <dc:description/>
  <dc:language>en-US</dc:language>
  <cp:lastModifiedBy>Matt Guilfoyle</cp:lastModifiedBy>
  <dcterms:modified xsi:type="dcterms:W3CDTF">2009-02-17T20:15:31Z</dcterms:modified>
  <cp:revision>2</cp:revision>
  <dc:subject/>
  <dc:title>Rebecca in Dubai!</dc:title>
</cp:coreProperties>
</file>