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CC70-E2AF-4792-B64B-80575F80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9242-6471-475B-B94A-F33C370C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D574-119C-4CAC-8F48-7D53534C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ACD0-8A35-4A52-AC28-5E0E86BD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E603-9471-4C28-A870-97235252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6F42-81B4-4642-916B-8777DE86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D45B-E03E-4F73-91D8-52C66D5B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8A5C-D7B4-45C7-9044-F8445EEC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AD2F-8C92-4DE4-9622-7BD75C56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A55A-47EC-41A5-9DF3-83830FFB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BDF4-AD92-49F3-9CE6-63933735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5727-5B0D-445F-9E28-D2397A34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27B1-034C-4699-AE70-C09F54D14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Rebecca in Dubai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Let’s Kepinski it up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I’ll be staying at the  Kempinski Mall Of The Emirates in  the Deluxe Corner Suite!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Dubai Hotels - Kempinski Hotel Mall of the Emirates"/>
          <p:cNvPicPr/>
          <p:nvPr/>
        </p:nvPicPr>
        <p:blipFill>
          <a:blip r:embed="rId1"/>
          <a:stretch/>
        </p:blipFill>
        <p:spPr>
          <a:xfrm>
            <a:off x="4648320" y="1523880"/>
            <a:ext cx="4216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Yeahhh it’s my world now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Our first stop is buying a new private island in the “world.” Don’t worry though, my boyfriends paying for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uying an island is an example of tertiary activ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3962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Bling B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352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On Wednesday  I’ll stop by the Gold Souk, one of the largest gold retailers in the world!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3886200" cy="2308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old souk,Dubai by fortjesus, kenya."/>
          <p:cNvPicPr/>
          <p:nvPr/>
        </p:nvPicPr>
        <p:blipFill>
          <a:blip r:embed="rId2"/>
          <a:stretch/>
        </p:blipFill>
        <p:spPr>
          <a:xfrm>
            <a:off x="4267080" y="1143000"/>
            <a:ext cx="4648320" cy="4419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19720" y="566748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Buying jewelry at the Gold Souk is a tertiary activity because the seller has taken a primary resource (gold) and added value by making a beautiful necklace. Then sold the necklace to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Tennis in Duba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ursday afternoon, Michelle and I bought tickets to watch Maria Sharapova in the Dubai Tennis Championship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0600" y="5715000"/>
            <a:ext cx="4038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uying tickets to a tennis match  is a tertiary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20984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Yellow Polka Dot Bik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2895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riday, I’m going to get lunch at the Atlantis Hotel and spend sometime on the bea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733920" y="1143000"/>
            <a:ext cx="4495680" cy="419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62520" y="539280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Buying lunch at the Atlantis Hotel is a tertiary activity because the Chef has taken a primary source (raw food) and added value to the food by cooking it and making a delicious meal! Then I bought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Vroom Vro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Saturday, I’ll spice it up a little with good old fashioned Camel Racing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5760720"/>
            <a:ext cx="40384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Paying to race a camel is a Tertiary activity, because the owners of Dubai Camel Racing have taken a primary source (the camel) and added value to it by creating a sport. Then I paid money to join 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Dubai Camel Racing Track by PakistanHousing.pk."/>
          <p:cNvPicPr/>
          <p:nvPr/>
        </p:nvPicPr>
        <p:blipFill>
          <a:blip r:embed="rId1"/>
          <a:stretch/>
        </p:blipFill>
        <p:spPr>
          <a:xfrm>
            <a:off x="4876920" y="1676520"/>
            <a:ext cx="3657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History of Du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Dubai began as a small fishing community ruled by the Maktoum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 1985, plans to turn Dubai into a travel destination be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Now Dubai is a world renowned tourist destination, however they continue to blend their ultra high tech city with their traditional Islamic tradition and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0" y="5181120"/>
            <a:ext cx="4038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This is a mosque surrounded by the City of Dub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DUBAI MOSQUE by forzet."/>
          <p:cNvPicPr/>
          <p:nvPr/>
        </p:nvPicPr>
        <p:blipFill>
          <a:blip r:embed="rId1"/>
          <a:stretch/>
        </p:blipFill>
        <p:spPr>
          <a:xfrm>
            <a:off x="4419720" y="1828800"/>
            <a:ext cx="44193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9:22:48Z</dcterms:created>
  <dc:creator>Matt Guilfoyle</dc:creator>
  <dc:description/>
  <dc:language>en-US</dc:language>
  <cp:lastModifiedBy>Matt Guilfoyle</cp:lastModifiedBy>
  <dcterms:modified xsi:type="dcterms:W3CDTF">2009-02-17T20:15:31Z</dcterms:modified>
  <cp:revision>2</cp:revision>
  <dc:subject/>
  <dc:title>Rebecca in Dubai!</dc:title>
</cp:coreProperties>
</file>