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9E7-AAC4-4E0E-B3A4-67535DF3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7F1-00FA-4585-92B9-5D9D1746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FF7-2075-4553-9248-121BB867A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919B-8117-4FF1-97B8-4DE0699E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BCAD-F268-408A-9E86-3BE3E9E1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D45-96E7-4CBC-B848-1D3C8C41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75E0-5094-4B23-B59F-53B23EDA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76E-538A-4E6B-8071-E649FC36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B79-5238-4046-846B-10CD6123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765-2728-4B50-9491-D82D113E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9CF6-FC5E-483B-BE5A-68E04481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9F0-6DE3-4F46-94CC-44135279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00D-C10A-4DC6-802D-5C3588104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Matt Guilfoyle</cp:lastModifiedBy>
  <dcterms:modified xsi:type="dcterms:W3CDTF">2009-02-17T20:15:31Z</dcterms:modified>
  <cp:revision>2</cp:revision>
  <dc:subject/>
  <dc:title>Rebecca in Dubai!</dc:title>
</cp:coreProperties>
</file>