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BC11FF5-0634-4DC3-A7F7-EF574779E2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2088F72-A4B1-4D12-BC23-93DA5EB78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9E441BD-CF07-4031-88E8-C470D7E3A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06AAB69-C2D4-4769-9C42-6150468FE0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9A1E6-B0B9-454D-BC18-8E45255F1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C6DEF-36A1-4872-BF8E-D070B57F38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59DEF-21A2-45B3-BCFE-934BE04CC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8A10A4-E9BD-47D3-A8E6-9020433E8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DEECF0-0790-492D-AFFB-2AA53E3EA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0DA47-7819-4C84-ABA7-6398D675A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5B084C-10E8-41F5-8384-CA6FB9EB8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DA48EC3-1C14-4011-B600-6144099DF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BE400-5D81-4A60-95BB-42DADBFA97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B9A5E-D6B5-45D1-B6F8-99E33EB19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6174E4-708E-47BF-8B65-F6B7B09A5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2346F0-1F14-48D4-9FE6-B78A6B6C24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A0D34C-5BAC-41FF-9486-A5C16AE550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B3B0410-789D-494F-9AAF-BE88D3F79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7213C79-0068-4512-9527-252BA801E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3A3FB07-3DEA-42D7-9590-1F480BB32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9C422CB-CAB0-4E28-BDBA-2FAA683AE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D649C3-B565-423C-A5AB-D314FDE9B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6F8BEEC-DF5B-45E8-9228-701695857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6367101-FC66-48D0-AECE-B44EB3FE0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C7867-B3F5-47B9-8627-65FE4332FA7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0B58-5723-49BB-BAA0-0A76B86A171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Orso University</a:t>
            </a:r>
            <a:br>
              <a:rPr sz="5400"/>
            </a:br>
            <a:r>
              <a:rPr b="1" lang="en-US" sz="2400" spc="-1" strike="noStrike">
                <a:solidFill>
                  <a:srgbClr val="e5e5ff"/>
                </a:solidFill>
                <a:latin typeface="Garamond"/>
              </a:rPr>
              <a:t>by Rebecca Guilfoyle</a:t>
            </a:r>
            <a:endParaRPr b="1" lang="en-US" sz="2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Fault Data</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at types of problems do you anticipate from the fault data?</a:t>
            </a: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ank the locations in order from worst to best based on your analysis of fault data.</a:t>
            </a:r>
            <a:endParaRPr b="0" lang="en-US" sz="1800" spc="-1" strike="noStrike">
              <a:solidFill>
                <a:srgbClr val="ffffff"/>
              </a:solidFill>
              <a:latin typeface="Garamond"/>
            </a:endParaRPr>
          </a:p>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your ranking for each individual location.</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wntown East – Has an estimated 5,000 dollar repair costs and is near many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Bayside – Has an estimated 2,000 dollar repair cost and is near many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wntown Central –. Has an estimated 1,000 dollar repair cost and is near a few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NE Houston – Has no fault lines in area. Has an estimated 500 dollar repair cost.</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 Tomball – Has no fault lines in area. Estimated repair cost is 100 dollars </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rime Data and Land Price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how crime data will affect the recruitment of future student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ture students will not want to attend a school in an area high in crime. Students want to live in a safe environment.</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how land prices will affect the recruitment of future students.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llege students all ready have many school expenses and some may not be able to afford to live in an area with high land prices. A student might not go to a school if they can’t afford to live close by.</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edict how the Board of Directors and investors will respond to both sets of data.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Board of Directors and other investors are going to want to buy land in a safe neighborhood, with lower land prices. However, I think the Board would rather buy land that’s more expensive then buy land in a dangerous area.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graphicFrame>
        <p:nvGraphicFramePr>
          <p:cNvPr id="128" name=""/>
          <p:cNvGraphicFramePr/>
          <p:nvPr/>
        </p:nvGraphicFramePr>
        <p:xfrm>
          <a:off x="762120" y="1676520"/>
          <a:ext cx="8192880" cy="4689360"/>
        </p:xfrm>
        <a:graphic>
          <a:graphicData uri="http://schemas.openxmlformats.org/drawingml/2006/table">
            <a:tbl>
              <a:tblPr/>
              <a:tblGrid>
                <a:gridCol w="2047680"/>
                <a:gridCol w="2049480"/>
                <a:gridCol w="2048040"/>
                <a:gridCol w="2047680"/>
              </a:tblGrid>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ther sources of inform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planation of how the source would be benefici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cation that would likely benefit the most from your sourc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cation that would likely benefit the least from your source.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ear Campus Hous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There needs to be enough space for all the students to live. In the country, for example, there is lots of land for  housing, but there probably aren’t very many apartment buildings in place. In the city, however, there are lots of apartments but not much room.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and Availabl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The college might need a lot of land to build on, and in the middle of the city there isn’t enough room to build a huge campus. The college is going to want land to maybe expand in the futur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sp>
        <p:nvSpPr>
          <p:cNvPr id="130" name=""/>
          <p:cNvSpPr txBox="1"/>
          <p:nvPr/>
        </p:nvSpPr>
        <p:spPr>
          <a:xfrm>
            <a:off x="304920" y="1523880"/>
            <a:ext cx="4037040" cy="452592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nclusion</a:t>
            </a:r>
            <a:endParaRPr b="0" lang="en-US" sz="1800" spc="-1" strike="noStrike">
              <a:solidFill>
                <a:srgbClr val="ffffff"/>
              </a:solidFill>
              <a:latin typeface="Garamond"/>
            </a:endParaRPr>
          </a:p>
          <a:p>
            <a:pPr marL="343080" indent="-34308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f the data that you collected (and is listed on the right) which data set do you feel is most important to your decision-making process.  Rank the six data sets in order from most influential to least influential.</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1" name=""/>
          <p:cNvSpPr txBox="1"/>
          <p:nvPr/>
        </p:nvSpPr>
        <p:spPr>
          <a:xfrm>
            <a:off x="4649760" y="1600200"/>
            <a:ext cx="4037040" cy="4525920"/>
          </a:xfrm>
          <a:prstGeom prst="rect">
            <a:avLst/>
          </a:prstGeom>
          <a:noFill/>
          <a:ln w="0">
            <a:noFill/>
          </a:ln>
        </p:spPr>
        <p:txBody>
          <a:bodyPr lIns="90000" rIns="90000" tIns="46800" bIns="46800" anchor="t">
            <a:normAutofit fontScale="94000"/>
          </a:bodyPr>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loodplains- A university can’t flood a lot because then the school would have to be constanly closing for repairs.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atersheds</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and prices- If land prices are expensive,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ault data and mechanical weathering-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urricane storm surge and potential damage- A university must be able to withstand a hurricane.</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rime data- Students shouldn’t have to live in a violent area.</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y</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did you put i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o build it for extra credi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K</a:t>
            </a:r>
            <a:endParaRPr b="1" lang="en-US" sz="4400" spc="-1" strike="noStrike">
              <a:solidFill>
                <a:srgbClr val="e5e5ff"/>
              </a:solidFill>
              <a:latin typeface="Garamond"/>
            </a:endParaRPr>
          </a:p>
        </p:txBody>
      </p:sp>
      <p:sp>
        <p:nvSpPr>
          <p:cNvPr id="101"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of the five areas is most likely to floo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of the five areas have the least crim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are the roads and traffic like in the five areas?</a:t>
            </a:r>
            <a:endParaRPr b="0" lang="en-US" sz="2800" spc="-1" strike="noStrike">
              <a:solidFill>
                <a:srgbClr val="ffffff"/>
              </a:solidFill>
              <a:latin typeface="Garamond"/>
            </a:endParaRPr>
          </a:p>
        </p:txBody>
      </p:sp>
      <p:sp>
        <p:nvSpPr>
          <p:cNvPr id="102" name="PlaceHolder 3"/>
          <p:cNvSpPr>
            <a:spLocks noGrp="1"/>
          </p:cNvSpPr>
          <p:nvPr>
            <p:ph/>
          </p:nvPr>
        </p:nvSpPr>
        <p:spPr>
          <a:xfrm>
            <a:off x="4649760" y="1600200"/>
            <a:ext cx="403704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area will be the safest during a hurrican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area has the cheapest lan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e there any fault lines near the five loca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92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Floodplains</a:t>
            </a:r>
            <a:endParaRPr b="1" lang="en-US" sz="4400" spc="-1" strike="noStrike">
              <a:solidFill>
                <a:srgbClr val="e5e5ff"/>
              </a:solidFill>
              <a:latin typeface="Garamond"/>
            </a:endParaRPr>
          </a:p>
        </p:txBody>
      </p:sp>
      <p:sp>
        <p:nvSpPr>
          <p:cNvPr id="104" name="PlaceHolder 2"/>
          <p:cNvSpPr>
            <a:spLocks noGrp="1"/>
          </p:cNvSpPr>
          <p:nvPr>
            <p:ph/>
          </p:nvPr>
        </p:nvSpPr>
        <p:spPr>
          <a:xfrm>
            <a:off x="914040" y="1447920"/>
            <a:ext cx="2057400" cy="4525920"/>
          </a:xfrm>
          <a:prstGeom prst="rect">
            <a:avLst/>
          </a:prstGeom>
          <a:noFill/>
          <a:ln w="0">
            <a:noFill/>
          </a:ln>
        </p:spPr>
        <p:txBody>
          <a:bodyPr anchor="t">
            <a:normAutofit/>
          </a:bodyPr>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graphicFrame>
        <p:nvGraphicFramePr>
          <p:cNvPr id="105" name=""/>
          <p:cNvGraphicFramePr/>
          <p:nvPr/>
        </p:nvGraphicFramePr>
        <p:xfrm>
          <a:off x="2133720" y="838080"/>
          <a:ext cx="6858000" cy="6019560"/>
        </p:xfrm>
        <a:graphic>
          <a:graphicData uri="http://schemas.openxmlformats.org/drawingml/2006/table">
            <a:tbl>
              <a:tblPr/>
              <a:tblGrid>
                <a:gridCol w="1523880"/>
                <a:gridCol w="1905120"/>
                <a:gridCol w="1714320"/>
                <a:gridCol w="171468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ype of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tudent-created explanation of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s of floodplain in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Explanation of potential flood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Valley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floodplain has creak valleys and the ground is often more sloped then fla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se floodplains are mostly in the Northwestern part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ing can last up to a couple days and can also be very deep.</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Major River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plain occurs along a river, and can be very fast and dee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long the San Jacinto Rive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ing in this area can last for week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hallow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floodplain occurs when channels reach their limi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se floodplains are present in many areas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looding usually lasts for a couple hours, but thousands of business's and homes can be affected.</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Coastal Floodplain</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a hurricane or an unusually high tide, buildings close to the ground can floo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outheastern part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w-lying structures near the coast can be affected. Ground subsidence can result in the coastal areas flooding more severely and frequentl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5</a:t>
                      </a:r>
                      <a:r>
                        <a:rPr b="1" lang="en-US" sz="1200" spc="-1" strike="noStrike" baseline="30000">
                          <a:solidFill>
                            <a:srgbClr val="ffffff"/>
                          </a:solidFill>
                          <a:latin typeface="Garamond"/>
                        </a:rPr>
                        <a:t>th</a:t>
                      </a:r>
                      <a:r>
                        <a:rPr b="1" lang="en-US" sz="1200" spc="-1" strike="noStrike">
                          <a:solidFill>
                            <a:srgbClr val="ffffff"/>
                          </a:solidFill>
                          <a:latin typeface="Garamond"/>
                        </a:rPr>
                        <a:t> Scenari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rainfall exceeds the capacity of ditches and sewers, the water overflows into the streets and can flood homes and buildings.</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kind of flooding is not restricted to any part of Harris County. It can happen anywher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sidences not near a bayou or creak can be affected if there is too much rainfal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6" name="Text Box 50"/>
          <p:cNvSpPr/>
          <p:nvPr/>
        </p:nvSpPr>
        <p:spPr>
          <a:xfrm>
            <a:off x="152280" y="1600200"/>
            <a:ext cx="2057400" cy="410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 What are the three different categories of floods.  Rank them in order from strongest to weakest.</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0 Year Flood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00 Year Floo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0 Year Floo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Flooding Data</a:t>
            </a:r>
            <a:endParaRPr b="1" lang="en-US" sz="4400" spc="-1" strike="noStrike">
              <a:solidFill>
                <a:srgbClr val="e5e5ff"/>
              </a:solidFill>
              <a:latin typeface="Garamond"/>
            </a:endParaRPr>
          </a:p>
        </p:txBody>
      </p:sp>
      <p:graphicFrame>
        <p:nvGraphicFramePr>
          <p:cNvPr id="108" name=""/>
          <p:cNvGraphicFramePr/>
          <p:nvPr/>
        </p:nvGraphicFramePr>
        <p:xfrm>
          <a:off x="1185840" y="2017800"/>
          <a:ext cx="7765920" cy="4324320"/>
        </p:xfrm>
        <a:graphic>
          <a:graphicData uri="http://schemas.openxmlformats.org/drawingml/2006/table">
            <a:tbl>
              <a:tblPr/>
              <a:tblGrid>
                <a:gridCol w="1941480"/>
                <a:gridCol w="1941480"/>
                <a:gridCol w="1941480"/>
                <a:gridCol w="1941480"/>
              </a:tblGrid>
              <a:tr h="340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ype of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atershe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looding Threat  Leve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57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ayside (La Porte, TX) </a:t>
                      </a:r>
                      <a:r>
                        <a:rPr b="0" lang="en-US" sz="1200" spc="-1" strike="noStrike">
                          <a:solidFill>
                            <a:srgbClr val="ffffff"/>
                          </a:solidFill>
                          <a:latin typeface="Wingdings"/>
                          <a:ea typeface="Wingdings"/>
                        </a:rPr>
                        <a:t></a:t>
                      </a:r>
                      <a:r>
                        <a:rPr b="0"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lear Cree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F</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E Houston (Huffman, TX) </a:t>
                      </a:r>
                      <a:r>
                        <a:rPr b="0" lang="en-US" sz="1200" spc="-1" strike="noStrike">
                          <a:solidFill>
                            <a:srgbClr val="ffffff"/>
                          </a:solidFill>
                          <a:latin typeface="Wingdings"/>
                          <a:ea typeface="Wingdings"/>
                        </a:rPr>
                        <a:t></a:t>
                      </a:r>
                      <a:r>
                        <a:rPr b="0"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edar Bayou</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 Tomball (Tomball, TX) </a:t>
                      </a:r>
                      <a:r>
                        <a:rPr b="0" lang="en-US" sz="1200" spc="-1" strike="noStrike">
                          <a:solidFill>
                            <a:srgbClr val="ffffff"/>
                          </a:solidFill>
                          <a:latin typeface="Wingdings"/>
                          <a:ea typeface="Wingdings"/>
                        </a:rPr>
                        <a:t></a:t>
                      </a:r>
                      <a:r>
                        <a:rPr b="0"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ea of Lowest Ris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ow Cree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B</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wntown East (Houston, TX) </a:t>
                      </a:r>
                      <a:r>
                        <a:rPr b="0" lang="en-US" sz="1200" spc="-1" strike="noStrike">
                          <a:solidFill>
                            <a:srgbClr val="ffffff"/>
                          </a:solidFill>
                          <a:latin typeface="Wingdings"/>
                          <a:ea typeface="Wingdings"/>
                        </a:rPr>
                        <a:t></a:t>
                      </a:r>
                      <a:r>
                        <a:rPr b="0"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Hunting Bayou</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1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wntown Central (Houston, TX) </a:t>
                      </a:r>
                      <a:r>
                        <a:rPr b="0" lang="en-US" sz="1200" spc="-1" strike="noStrike">
                          <a:solidFill>
                            <a:srgbClr val="ffffff"/>
                          </a:solidFill>
                          <a:latin typeface="Wingdings"/>
                          <a:ea typeface="Wingdings"/>
                        </a:rPr>
                        <a:t></a:t>
                      </a:r>
                      <a:r>
                        <a:rPr b="0"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ea of Lowest Ris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Buffalo Bayou</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B</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Hurricane Data</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p:txBody>
      </p:sp>
      <p:graphicFrame>
        <p:nvGraphicFramePr>
          <p:cNvPr id="111" name=""/>
          <p:cNvGraphicFramePr/>
          <p:nvPr/>
        </p:nvGraphicFramePr>
        <p:xfrm>
          <a:off x="2971800" y="1038240"/>
          <a:ext cx="5943600" cy="5581800"/>
        </p:xfrm>
        <a:graphic>
          <a:graphicData uri="http://schemas.openxmlformats.org/drawingml/2006/table">
            <a:tbl>
              <a:tblPr/>
              <a:tblGrid>
                <a:gridCol w="1828800"/>
                <a:gridCol w="1371600"/>
                <a:gridCol w="1371600"/>
                <a:gridCol w="1371600"/>
              </a:tblGrid>
              <a:tr h="155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ategory of hurricane that would require an evacu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torm surge height that would flood the campu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urricane Threat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yside (La Porte,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egory 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4.48- 2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E Houston (Huffma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 Tomball (Tomball, TX) </a:t>
                      </a:r>
                      <a:r>
                        <a:rPr b="1" lang="en-US" sz="1200" spc="-1" strike="noStrike">
                          <a:solidFill>
                            <a:srgbClr val="ffffff"/>
                          </a:solidFill>
                          <a:latin typeface="Wingdings"/>
                          <a:ea typeface="Wingdings"/>
                        </a:rPr>
                        <a:t></a:t>
                      </a:r>
                      <a:r>
                        <a:rPr b="1"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East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egory 4-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Central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2" name="Text Box 96"/>
          <p:cNvSpPr/>
          <p:nvPr/>
        </p:nvSpPr>
        <p:spPr>
          <a:xfrm>
            <a:off x="0" y="1600200"/>
            <a:ext cx="2895480" cy="511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is a storm surge?</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arge amount of water that hits the coastline where a hurricane is coming through.</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hy is storm surge such a huge problem in the Gulf of Mexico instead of places like the Atlantic Ocean?</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llow waters in the Gulf  make the storm surge stronger.</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xplain the three causes of storm surge.</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low</a:t>
            </a:r>
            <a:r>
              <a:rPr b="1" lang="en-US" sz="1200" spc="-1" strike="noStrike">
                <a:solidFill>
                  <a:srgbClr val="ffffff"/>
                </a:solidFill>
                <a:latin typeface="Arial"/>
              </a:rPr>
              <a:t> </a:t>
            </a:r>
            <a:r>
              <a:rPr b="0" lang="en-US" sz="1200" spc="-1" strike="noStrike">
                <a:solidFill>
                  <a:srgbClr val="ffffff"/>
                </a:solidFill>
                <a:latin typeface="Arial"/>
              </a:rPr>
              <a:t>pressure</a:t>
            </a:r>
            <a:r>
              <a:rPr b="1" lang="en-US" sz="1200" spc="-1" strike="noStrike">
                <a:solidFill>
                  <a:srgbClr val="ffffff"/>
                </a:solidFill>
                <a:latin typeface="Arial"/>
              </a:rPr>
              <a:t> </a:t>
            </a:r>
            <a:r>
              <a:rPr b="0" lang="en-US" sz="1200" spc="-1" strike="noStrike">
                <a:solidFill>
                  <a:srgbClr val="ffffff"/>
                </a:solidFill>
                <a:latin typeface="Arial"/>
              </a:rPr>
              <a:t>builds, water from the ocean is sucked to the middle of the storm.</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rricanes</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 and tide action</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hat makes storm surge so devastating?</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surge reaches the coast, it destroys everything in its path, and buildings that aren’t specifically designed to handle a storm surge will get crushed.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Fault Data</a:t>
            </a:r>
            <a:endParaRPr b="1" lang="en-US" sz="4400" spc="-1" strike="noStrike">
              <a:solidFill>
                <a:srgbClr val="e5e5ff"/>
              </a:solidFill>
              <a:latin typeface="Garamond"/>
            </a:endParaRPr>
          </a:p>
        </p:txBody>
      </p:sp>
      <p:graphicFrame>
        <p:nvGraphicFramePr>
          <p:cNvPr id="114" name=""/>
          <p:cNvGraphicFramePr/>
          <p:nvPr/>
        </p:nvGraphicFramePr>
        <p:xfrm>
          <a:off x="2743200" y="1143000"/>
          <a:ext cx="6172200" cy="5118120"/>
        </p:xfrm>
        <a:graphic>
          <a:graphicData uri="http://schemas.openxmlformats.org/drawingml/2006/table">
            <a:tbl>
              <a:tblPr/>
              <a:tblGrid>
                <a:gridCol w="1690560"/>
                <a:gridCol w="3600720"/>
                <a:gridCol w="88092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aults Nearby (High, Medium, 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ojected Repair Cost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yside (La Porte,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gh)</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hip Channel, Battleground, Pelly, Magnolia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2,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E Houston (Huffma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 Tomball (Tomball, TX) </a:t>
                      </a:r>
                      <a:r>
                        <a:rPr b="1" lang="en-US" sz="1200" spc="-1" strike="noStrike">
                          <a:solidFill>
                            <a:srgbClr val="ffffff"/>
                          </a:solidFill>
                          <a:latin typeface="Wingdings"/>
                          <a:ea typeface="Wingdings"/>
                        </a:rPr>
                        <a:t></a:t>
                      </a:r>
                      <a:r>
                        <a:rPr b="1"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0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East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gh)</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ureka Heights, Memorial, Pecore, Clinton, Magnolia, Battleground, Ship Channel</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Central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Medium)</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ureka Heights, Memorial, Pecore, Clinton, Magnolia</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5" name="Text Box 62"/>
          <p:cNvSpPr/>
          <p:nvPr/>
        </p:nvSpPr>
        <p:spPr>
          <a:xfrm>
            <a:off x="304920" y="1219320"/>
            <a:ext cx="236196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The images included on the map are examples of which kind of weatherin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 How far are Harris County’s faults moving per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2- 0.8 Inches per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 How would faults and weathering impact your Universi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racks could form and destroy the building structure. This could cause costly repair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Crime Data</a:t>
            </a:r>
            <a:endParaRPr b="1" lang="en-US" sz="4400" spc="-1" strike="noStrike">
              <a:solidFill>
                <a:srgbClr val="e5e5ff"/>
              </a:solidFill>
              <a:latin typeface="Garamond"/>
            </a:endParaRPr>
          </a:p>
        </p:txBody>
      </p:sp>
      <p:sp>
        <p:nvSpPr>
          <p:cNvPr id="117" name="PlaceHolder 2"/>
          <p:cNvSpPr>
            <a:spLocks noGrp="1"/>
          </p:cNvSpPr>
          <p:nvPr>
            <p:ph/>
          </p:nvPr>
        </p:nvSpPr>
        <p:spPr>
          <a:xfrm>
            <a:off x="6248160" y="1295280"/>
            <a:ext cx="2438280" cy="4525920"/>
          </a:xfrm>
          <a:prstGeom prst="rect">
            <a:avLst/>
          </a:prstGeom>
          <a:noFill/>
          <a:ln w="0">
            <a:noFill/>
          </a:ln>
        </p:spPr>
        <p:txBody>
          <a:bodyPr anchor="t">
            <a:normAutofit fontScale="82000"/>
          </a:bodyPr>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ive three examples of layers that you could add to this map that would provide additional information about the crime level in each area.  Do not use additional crimes for your answer, credit will not be given</a:t>
            </a:r>
            <a:endParaRPr b="0" lang="en-US" sz="2000" spc="-1" strike="noStrike">
              <a:solidFill>
                <a:srgbClr val="ffffff"/>
              </a:solidFill>
              <a:latin typeface="Garamond"/>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Closest Police Station</a:t>
            </a: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Estimated Police Response Time</a:t>
            </a: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 Closest Hospital</a:t>
            </a:r>
            <a:endParaRPr b="0" lang="en-US" sz="2000" spc="-1" strike="noStrike">
              <a:solidFill>
                <a:srgbClr val="ffffff"/>
              </a:solidFill>
              <a:latin typeface="Garamond"/>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aphicFrame>
        <p:nvGraphicFramePr>
          <p:cNvPr id="118" name=""/>
          <p:cNvGraphicFramePr/>
          <p:nvPr/>
        </p:nvGraphicFramePr>
        <p:xfrm>
          <a:off x="228600" y="1371600"/>
          <a:ext cx="5248440" cy="4043520"/>
        </p:xfrm>
        <a:graphic>
          <a:graphicData uri="http://schemas.openxmlformats.org/drawingml/2006/table">
            <a:tbl>
              <a:tblPr/>
              <a:tblGrid>
                <a:gridCol w="1312920"/>
                <a:gridCol w="1311120"/>
                <a:gridCol w="1312920"/>
                <a:gridCol w="13114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oc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tal # of Rap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tal # of Murd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rime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1: Baysid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2: NE Houst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3: W Tombal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4: Downtown Ea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edium</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5: Downtown Centr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ig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Land Prices</a:t>
            </a:r>
            <a:endParaRPr b="1" lang="en-US" sz="4400" spc="-1" strike="noStrike">
              <a:solidFill>
                <a:srgbClr val="e5e5ff"/>
              </a:solidFill>
              <a:latin typeface="Garamond"/>
            </a:endParaRPr>
          </a:p>
        </p:txBody>
      </p:sp>
      <p:graphicFrame>
        <p:nvGraphicFramePr>
          <p:cNvPr id="120" name=""/>
          <p:cNvGraphicFramePr/>
          <p:nvPr/>
        </p:nvGraphicFramePr>
        <p:xfrm>
          <a:off x="457200" y="1600200"/>
          <a:ext cx="8229600" cy="4525920"/>
        </p:xfrm>
        <a:graphic>
          <a:graphicData uri="http://schemas.openxmlformats.org/drawingml/2006/table">
            <a:tbl>
              <a:tblPr/>
              <a:tblGrid>
                <a:gridCol w="4114800"/>
                <a:gridCol w="4114800"/>
              </a:tblGrid>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oc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and Price (per acr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1: Baysid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7,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2: NE Houst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1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3: W Tombal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4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4: Downtown Ea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5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5: Downtown Centr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6,85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Flood Plain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loodplains</a:t>
            </a:r>
            <a:endParaRPr b="0" lang="en-US" sz="36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t>
            </a:r>
            <a:r>
              <a:rPr b="0" lang="en-US" sz="2000" spc="-1" strike="noStrike">
                <a:solidFill>
                  <a:srgbClr val="ffffff"/>
                </a:solidFill>
                <a:latin typeface="Garamond"/>
              </a:rPr>
              <a:t>Each location and its corresponding floodplain creates a different flooding scenario.  Which floodplain creates the worst situation? </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ank the floodplains in order from best to worst based on your analysis. Explain your ranking for each individual location/floodplain.</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Shallow Floodplain- Flooding can affect thousands of homes and businesses</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Valley Floodplain- Flooding can last a couple days and be very deep</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Major River Floodplain- Flooding in this area can last for weeks</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Costal Floodplain- Occurs along the coastline </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8:26Z</dcterms:created>
  <dc:creator>cfisd</dc:creator>
  <dc:description/>
  <dc:language>en-US</dc:language>
  <cp:lastModifiedBy>Becca</cp:lastModifiedBy>
  <dcterms:modified xsi:type="dcterms:W3CDTF">2008-10-03T01:26:46Z</dcterms:modified>
  <cp:revision>12</cp:revision>
  <dc:subject/>
  <dc:title>title</dc:title>
</cp:coreProperties>
</file>