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3AA363E-8790-44A3-B1AA-AA18CF23E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7D286E8-6A51-4076-AB4F-96E1657F1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F939AFFE-8F89-4198-A758-7D11111CF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EAE5126-2663-424A-833B-01DC46949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069E61-795A-4BB7-A598-8001EE714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69929-366F-4ACC-91A8-4E402DF3C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25019-33B0-42DA-8E3C-E402CE02E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1C109-9FFF-48DF-84C1-B3BCAA6B8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3A746-04BA-4450-8B7E-9519FA3D2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4D10B2-CA77-4430-BCFA-D0A2D3C853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2EF242-26BA-4FC8-8AB8-B3B076F8F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985BF01-F0B8-42A9-8EFE-C351397B5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A8B79-0F19-4478-BA39-A0F94CACE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DE790-173C-4E9C-9BA9-1683DFA25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A26415-4675-4075-A0D8-EAD486C58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03AF85-6E79-490E-AECA-06C4F70F1F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4CE222-1A06-4EDE-9777-6DF22E3B2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E2D625-C50B-4EFF-9B60-E2ABB8E7B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08F52A2-CC57-4762-A56B-A2B4E5316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654A042-BAAD-4101-95DB-13C468F4C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0E38143-F5E8-44FB-9937-37BD75F92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1A6CC7-EA02-4BFF-BE96-56E1D7746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DEDF89-F4C6-465C-B31D-B1950B675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09EC265-10D8-4AFC-AD50-6D32639394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746DA-6FFB-4C55-99FD-A3D8C71522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4EB4D-57F5-4384-A366-EE5D840A15E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6:46Z</dcterms:modified>
  <cp:revision>12</cp:revision>
  <dc:subject/>
  <dc:title>title</dc:title>
</cp:coreProperties>
</file>