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63F-193B-4063-B82A-34BD890D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B67-33A7-40EF-ABE2-E33E2CD0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5B0-1287-4A73-8723-44613EBC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B83A-AD5A-43DA-B696-71AC6935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3D8-9520-4B95-9504-ACAE6928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98E9-E494-4431-B84D-F6CA7B34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0835-EF26-45A1-AFAB-A1E77CD2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1C3-3340-43F6-ACEC-065949A7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66FF-4C1E-4326-8CF0-2EAD76D2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B33-1DFF-4A81-9756-D0B574AA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3382-A611-4C46-94B6-5A25F7FE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98C-D298-426E-8E3A-2A70A2FF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7EFB-484B-46DD-85A1-7F03766A2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bcnews.go.com/Technology/wireStory?id=5910892" TargetMode="External"/><Relationship Id="rId2" Type="http://schemas.openxmlformats.org/officeDocument/2006/relationships/hyperlink" Target="http://news.bbc.co.uk/2/hi/americas/4561189.stm" TargetMode="External"/><Relationship Id="rId3" Type="http://schemas.openxmlformats.org/officeDocument/2006/relationships/hyperlink" Target="http://abclocal.go.com/wls/story?section=news/bizarre&amp;id=6175023" TargetMode="External"/><Relationship Id="rId4" Type="http://schemas.openxmlformats.org/officeDocument/2006/relationships/hyperlink" Target="http://abclocal.go.com/wls/story?section=news/bizarre&amp;id=6175023" TargetMode="External"/><Relationship Id="rId5" Type="http://schemas.openxmlformats.org/officeDocument/2006/relationships/hyperlink" Target="http://abclocal.go.com/wls/story?section=news/bizarre&amp;id=6175023" TargetMode="External"/><Relationship Id="rId6" Type="http://schemas.openxmlformats.org/officeDocument/2006/relationships/hyperlink" Target="http://abclocal.go.com/wls/story?section=news/bizarre&amp;id=6175023" TargetMode="External"/><Relationship Id="rId7" Type="http://schemas.openxmlformats.org/officeDocument/2006/relationships/hyperlink" Target="http://abclocal.go.com/wls/story?section=news/bizarre&amp;id=6175023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orest –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cord the sentences below and fill in the blanks as you watch the next few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 debt for nature swap, Brazil gets __________ from __________ to use for their __________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n return, they must __________ areas of the rainfores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Ban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, protect, international organizations,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 debt for nature swap, Brazil ge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NATIONAL ORGANIZ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use for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n return, they m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as of the rainfor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 – Friday 1-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Rough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gether and create a rough draft of your poster or powerpoint present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mall slips and your notes to complete your rough dra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additional research slide in the powerpoint if you need 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Appr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Get your rough drafts ap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. Final Produ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oster or powerpoint is due Mon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only have 10 minutes on Monday to practice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poster must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itle – your group’s profession and students’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ullets - An explanation of your profession’s pos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Key Ques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you for or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nforest destruc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t least 3 reasons that support y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the more the b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Explanation for each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ictures – include at least two pictures to represent your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2 – Additional Rese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bcnews.go.com/Technology/wireStory?id=5910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ews.bbc.co.uk/2/hi/americas/4561189.stm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bclocal.go.com/wls/story?secti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news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izarre&amp;i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=6175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orest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Create a list of items or products that originate in the rainfor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Explain what a rubber tapper do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sible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cotourism – allowing people to tour the rainforest while preserving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6390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Debt for Nature Sw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when an organization agrees to pay money that a government owes to others, IF that government agrees to protect parts of the rain 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cord the sentences below and fill in the blanks as you watch the next few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 debt for nature swap, Brazil gets __________ from __________ to use for their __________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n return, they must __________ areas of the rainforest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914400" y="3886200"/>
            <a:ext cx="2514600" cy="1690560"/>
            <a:chOff x="914400" y="3886200"/>
            <a:chExt cx="2514600" cy="169056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914400" y="3886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066680" y="4038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218960" y="4191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1523880" y="4495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7"/>
            <a:stretch/>
          </p:blipFill>
          <p:spPr>
            <a:xfrm>
              <a:off x="1676160" y="4648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8"/>
            <a:stretch/>
          </p:blipFill>
          <p:spPr>
            <a:xfrm>
              <a:off x="1828800" y="4800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9"/>
            <a:stretch/>
          </p:blipFill>
          <p:spPr>
            <a:xfrm>
              <a:off x="1981080" y="4952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0" y="4876920"/>
            <a:ext cx="2514600" cy="1690560"/>
            <a:chOff x="0" y="4876920"/>
            <a:chExt cx="2514600" cy="1690560"/>
          </a:xfrm>
        </p:grpSpPr>
        <p:pic>
          <p:nvPicPr>
            <p:cNvPr id="59" name="" descr=""/>
            <p:cNvPicPr/>
            <p:nvPr/>
          </p:nvPicPr>
          <p:blipFill>
            <a:blip r:embed="rId10"/>
            <a:stretch/>
          </p:blipFill>
          <p:spPr>
            <a:xfrm>
              <a:off x="0" y="48769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1"/>
            <a:stretch/>
          </p:blipFill>
          <p:spPr>
            <a:xfrm>
              <a:off x="152280" y="50292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2"/>
            <a:stretch/>
          </p:blipFill>
          <p:spPr>
            <a:xfrm>
              <a:off x="304560" y="51818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3"/>
            <a:stretch/>
          </p:blipFill>
          <p:spPr>
            <a:xfrm>
              <a:off x="457200" y="5334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4"/>
            <a:stretch/>
          </p:blipFill>
          <p:spPr>
            <a:xfrm>
              <a:off x="609480" y="5486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5"/>
            <a:stretch/>
          </p:blipFill>
          <p:spPr>
            <a:xfrm>
              <a:off x="761760" y="5639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6"/>
            <a:stretch/>
          </p:blipFill>
          <p:spPr>
            <a:xfrm>
              <a:off x="914400" y="5791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7"/>
            <a:stretch/>
          </p:blipFill>
          <p:spPr>
            <a:xfrm>
              <a:off x="1066680" y="59436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2666880" y="3733920"/>
            <a:ext cx="2514600" cy="1690560"/>
            <a:chOff x="2666880" y="3733920"/>
            <a:chExt cx="2514600" cy="1690560"/>
          </a:xfrm>
        </p:grpSpPr>
        <p:pic>
          <p:nvPicPr>
            <p:cNvPr id="68" name="" descr=""/>
            <p:cNvPicPr/>
            <p:nvPr/>
          </p:nvPicPr>
          <p:blipFill>
            <a:blip r:embed="rId18"/>
            <a:stretch/>
          </p:blipFill>
          <p:spPr>
            <a:xfrm>
              <a:off x="2666880" y="37339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9"/>
            <a:stretch/>
          </p:blipFill>
          <p:spPr>
            <a:xfrm>
              <a:off x="2819160" y="38862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0"/>
            <a:stretch/>
          </p:blipFill>
          <p:spPr>
            <a:xfrm>
              <a:off x="2971440" y="40388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1"/>
            <a:stretch/>
          </p:blipFill>
          <p:spPr>
            <a:xfrm>
              <a:off x="312408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2"/>
            <a:stretch/>
          </p:blipFill>
          <p:spPr>
            <a:xfrm>
              <a:off x="327636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3"/>
            <a:stretch/>
          </p:blipFill>
          <p:spPr>
            <a:xfrm>
              <a:off x="342864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4"/>
            <a:stretch/>
          </p:blipFill>
          <p:spPr>
            <a:xfrm>
              <a:off x="358128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5"/>
            <a:stretch/>
          </p:blipFill>
          <p:spPr>
            <a:xfrm>
              <a:off x="373356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2743200" y="1066680"/>
            <a:ext cx="5105520" cy="1556280"/>
            <a:chOff x="2743200" y="1066680"/>
            <a:chExt cx="5105520" cy="1556280"/>
          </a:xfrm>
        </p:grpSpPr>
        <p:sp>
          <p:nvSpPr>
            <p:cNvPr id="77" name=""/>
            <p:cNvSpPr/>
            <p:nvPr/>
          </p:nvSpPr>
          <p:spPr>
            <a:xfrm>
              <a:off x="5105520" y="1066680"/>
              <a:ext cx="2743200" cy="15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overnment has this much mon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743200" y="1752480"/>
              <a:ext cx="23623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81120" y="3962520"/>
            <a:ext cx="3657960" cy="1556280"/>
            <a:chOff x="5181120" y="3962520"/>
            <a:chExt cx="3657960" cy="1556280"/>
          </a:xfrm>
        </p:grpSpPr>
        <p:sp>
          <p:nvSpPr>
            <p:cNvPr id="80" name=""/>
            <p:cNvSpPr/>
            <p:nvPr/>
          </p:nvSpPr>
          <p:spPr>
            <a:xfrm>
              <a:off x="6400800" y="3962520"/>
              <a:ext cx="2438280" cy="15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y owe this much mon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181120" y="4419720"/>
              <a:ext cx="12193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895480" y="5867280"/>
            <a:ext cx="1295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920" y="152280"/>
            <a:ext cx="2361960" cy="1648080"/>
            <a:chOff x="304920" y="152280"/>
            <a:chExt cx="2361960" cy="1648080"/>
          </a:xfrm>
        </p:grpSpPr>
        <p:pic>
          <p:nvPicPr>
            <p:cNvPr id="84" name="" descr=""/>
            <p:cNvPicPr/>
            <p:nvPr/>
          </p:nvPicPr>
          <p:blipFill>
            <a:blip r:embed="rId26"/>
            <a:stretch/>
          </p:blipFill>
          <p:spPr>
            <a:xfrm>
              <a:off x="304920" y="533520"/>
              <a:ext cx="23619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80880" y="1522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AZ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 txBox="1"/>
          <p:nvPr/>
        </p:nvSpPr>
        <p:spPr>
          <a:xfrm>
            <a:off x="533520" y="2901960"/>
            <a:ext cx="8229600" cy="15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BT FOR NATURE SWAP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81280" y="1219320"/>
            <a:ext cx="36576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400800" y="3048120"/>
            <a:ext cx="2514600" cy="1690200"/>
            <a:chOff x="6400800" y="3048120"/>
            <a:chExt cx="2514600" cy="1690200"/>
          </a:xfrm>
        </p:grpSpPr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6400800" y="304812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6553080" y="320040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7"/>
            <a:stretch/>
          </p:blipFill>
          <p:spPr>
            <a:xfrm>
              <a:off x="6705360" y="33526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8"/>
            <a:stretch/>
          </p:blipFill>
          <p:spPr>
            <a:xfrm>
              <a:off x="6858000" y="350496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9"/>
            <a:stretch/>
          </p:blipFill>
          <p:spPr>
            <a:xfrm>
              <a:off x="7010280" y="365760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0"/>
            <a:stretch/>
          </p:blipFill>
          <p:spPr>
            <a:xfrm>
              <a:off x="7162560" y="38098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1"/>
            <a:stretch/>
          </p:blipFill>
          <p:spPr>
            <a:xfrm>
              <a:off x="7315200" y="396216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2"/>
            <a:stretch/>
          </p:blipFill>
          <p:spPr>
            <a:xfrm>
              <a:off x="7467480" y="4114800"/>
              <a:ext cx="1447920" cy="62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191120" y="1143000"/>
            <a:ext cx="2514600" cy="1690560"/>
            <a:chOff x="4191120" y="1143000"/>
            <a:chExt cx="2514600" cy="1690560"/>
          </a:xfrm>
        </p:grpSpPr>
        <p:pic>
          <p:nvPicPr>
            <p:cNvPr id="101" name="" descr=""/>
            <p:cNvPicPr/>
            <p:nvPr/>
          </p:nvPicPr>
          <p:blipFill>
            <a:blip r:embed="rId13"/>
            <a:stretch/>
          </p:blipFill>
          <p:spPr>
            <a:xfrm>
              <a:off x="4191120" y="1143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4"/>
            <a:stretch/>
          </p:blipFill>
          <p:spPr>
            <a:xfrm>
              <a:off x="4343400" y="1295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5"/>
            <a:stretch/>
          </p:blipFill>
          <p:spPr>
            <a:xfrm>
              <a:off x="4495680" y="1447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6"/>
            <a:stretch/>
          </p:blipFill>
          <p:spPr>
            <a:xfrm>
              <a:off x="4648320" y="1600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7"/>
            <a:stretch/>
          </p:blipFill>
          <p:spPr>
            <a:xfrm>
              <a:off x="4800600" y="1752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8"/>
            <a:stretch/>
          </p:blipFill>
          <p:spPr>
            <a:xfrm>
              <a:off x="4952880" y="1905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9"/>
            <a:stretch/>
          </p:blipFill>
          <p:spPr>
            <a:xfrm>
              <a:off x="5105520" y="2057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0"/>
            <a:stretch/>
          </p:blipFill>
          <p:spPr>
            <a:xfrm>
              <a:off x="5257800" y="22096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" descr=""/>
          <p:cNvPicPr/>
          <p:nvPr/>
        </p:nvPicPr>
        <p:blipFill>
          <a:blip r:embed="rId21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914400" y="4114800"/>
            <a:ext cx="2514600" cy="1690560"/>
            <a:chOff x="914400" y="4114800"/>
            <a:chExt cx="2514600" cy="1690560"/>
          </a:xfrm>
        </p:grpSpPr>
        <p:pic>
          <p:nvPicPr>
            <p:cNvPr id="111" name="" descr=""/>
            <p:cNvPicPr/>
            <p:nvPr/>
          </p:nvPicPr>
          <p:blipFill>
            <a:blip r:embed="rId22"/>
            <a:stretch/>
          </p:blipFill>
          <p:spPr>
            <a:xfrm>
              <a:off x="914400" y="41148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3"/>
            <a:stretch/>
          </p:blipFill>
          <p:spPr>
            <a:xfrm>
              <a:off x="1066680" y="42670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4"/>
            <a:stretch/>
          </p:blipFill>
          <p:spPr>
            <a:xfrm>
              <a:off x="1218960" y="44197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5"/>
            <a:stretch/>
          </p:blipFill>
          <p:spPr>
            <a:xfrm>
              <a:off x="1371600" y="4572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6"/>
            <a:stretch/>
          </p:blipFill>
          <p:spPr>
            <a:xfrm>
              <a:off x="1523880" y="4724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7"/>
            <a:stretch/>
          </p:blipFill>
          <p:spPr>
            <a:xfrm>
              <a:off x="1676160" y="4876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8"/>
            <a:stretch/>
          </p:blipFill>
          <p:spPr>
            <a:xfrm>
              <a:off x="182880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9"/>
            <a:stretch/>
          </p:blipFill>
          <p:spPr>
            <a:xfrm>
              <a:off x="19810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20" name="" descr=""/>
            <p:cNvPicPr/>
            <p:nvPr/>
          </p:nvPicPr>
          <p:blipFill>
            <a:blip r:embed="rId30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1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2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3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4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5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6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7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743200" y="4191120"/>
            <a:ext cx="2514600" cy="1690560"/>
            <a:chOff x="2743200" y="4191120"/>
            <a:chExt cx="2514600" cy="1690560"/>
          </a:xfrm>
        </p:grpSpPr>
        <p:pic>
          <p:nvPicPr>
            <p:cNvPr id="129" name="" descr=""/>
            <p:cNvPicPr/>
            <p:nvPr/>
          </p:nvPicPr>
          <p:blipFill>
            <a:blip r:embed="rId38"/>
            <a:stretch/>
          </p:blipFill>
          <p:spPr>
            <a:xfrm>
              <a:off x="274320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9"/>
            <a:stretch/>
          </p:blipFill>
          <p:spPr>
            <a:xfrm>
              <a:off x="289548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0"/>
            <a:stretch/>
          </p:blipFill>
          <p:spPr>
            <a:xfrm>
              <a:off x="304776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1"/>
            <a:stretch/>
          </p:blipFill>
          <p:spPr>
            <a:xfrm>
              <a:off x="320040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2"/>
            <a:stretch/>
          </p:blipFill>
          <p:spPr>
            <a:xfrm>
              <a:off x="335268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3"/>
            <a:stretch/>
          </p:blipFill>
          <p:spPr>
            <a:xfrm>
              <a:off x="3504960" y="49532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4"/>
            <a:stretch/>
          </p:blipFill>
          <p:spPr>
            <a:xfrm>
              <a:off x="3657600" y="51055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5"/>
            <a:stretch/>
          </p:blipFill>
          <p:spPr>
            <a:xfrm>
              <a:off x="3809880" y="52578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2971800" y="6019920"/>
            <a:ext cx="1295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52178E-007 C -0.02378 -0.00046 -0.04774 -0.00046 -0.07153 -0.00162 C -0.08194 -0.00208 -0.09288 -0.01482 -0.1026 -0.019 C -0.11094 -0.02641 -0.11892 -0.03406 -0.12725 -0.04147 C -0.12986 -0.04379 -0.13281 -0.04541 -0.13507 -0.04842 C -0.14132 -0.05676 -0.1375 -0.05236 -0.1467 -0.0607 C -0.14965 -0.06371 -0.15139 -0.06835 -0.15451 -0.0709 C -0.16076 -0.07646 -0.16649 -0.08271 -0.17274 -0.08827 C -0.17708 -0.09221 -0.18264 -0.09476 -0.18698 -0.0987 C -0.19705 -0.10773 -0.20555 -0.11492 -0.21684 -0.12117 C -0.22552 -0.12604 -0.23281 -0.13484 -0.24166 -0.13855 C -0.24427 -0.14087 -0.24635 -0.14411 -0.2493 -0.1455 C -0.25069 -0.1462 -0.25208 -0.14643 -0.2533 -0.14735 C -0.25729 -0.15037 -0.26041 -0.15639 -0.26493 -0.15778 C -0.27378 -0.16056 -0.28177 -0.16172 -0.29097 -0.16288 C -0.30104 -0.16728 -0.31163 -0.17168 -0.32205 -0.17493 C -0.32916 -0.17956 -0.33611 -0.18558 -0.34288 -0.19068 C -0.34566 -0.19277 -0.34757 -0.19763 -0.35069 -0.19763 C -0.3684 -0.19763 -0.38628 -0.19763 -0.40399 -0.19763 E">
                                      <p:cBhvr>
                                        <p:cTn id="9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92864E-006 C -0.03681 -0.0007 -0.07361 -0.0007 -0.11059 -0.00186 C -0.12743 -0.00232 -0.14254 -0.02039 -0.15851 -0.02433 C -0.17101 -0.03267 -0.18333 -0.04171 -0.19618 -0.04866 C -0.20174 -0.05167 -0.20608 -0.05631 -0.21181 -0.05909 C -0.21927 -0.06279 -0.22639 -0.06743 -0.23385 -0.07113 C -0.23646 -0.07229 -0.24167 -0.07461 -0.24167 -0.07461 C -0.25087 -0.08365 -0.26146 -0.08689 -0.27153 -0.09361 C -0.27691 -0.09708 -0.28108 -0.10311 -0.28576 -0.10751 C -0.28681 -0.10844 -0.29254 -0.11052 -0.29358 -0.11099 C -0.30122 -0.11469 -0.30625 -0.11956 -0.31441 -0.12141 C -0.32639 -0.1279 -0.33906 -0.13068 -0.35191 -0.13346 C -0.36858 -0.14111 -0.38611 -0.14435 -0.4026 -0.15269 C -0.41024 -0.15663 -0.41788 -0.16381 -0.42465 -0.16984 C -0.44184 -0.18559 -0.4257 -0.17725 -0.43646 -0.18212 C -0.44601 -0.19486 -0.45851 -0.20876 -0.47153 -0.21502 C -0.49063 -0.22429 -0.51979 -0.21849 -0.54028 -0.21849 E">
                                      <p:cBhvr>
                                        <p:cTn id="9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914400" y="4114800"/>
            <a:ext cx="2514600" cy="1690560"/>
            <a:chOff x="914400" y="4114800"/>
            <a:chExt cx="2514600" cy="169056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914400" y="41148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1066680" y="42670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218960" y="44197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1371600" y="4572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1523880" y="4724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1676160" y="4876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182880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19810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2743200" y="4191120"/>
            <a:ext cx="2514600" cy="1690560"/>
            <a:chOff x="2743200" y="4191120"/>
            <a:chExt cx="2514600" cy="1690560"/>
          </a:xfrm>
        </p:grpSpPr>
        <p:pic>
          <p:nvPicPr>
            <p:cNvPr id="148" name="" descr=""/>
            <p:cNvPicPr/>
            <p:nvPr/>
          </p:nvPicPr>
          <p:blipFill>
            <a:blip r:embed="rId9"/>
            <a:stretch/>
          </p:blipFill>
          <p:spPr>
            <a:xfrm>
              <a:off x="274320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0"/>
            <a:stretch/>
          </p:blipFill>
          <p:spPr>
            <a:xfrm>
              <a:off x="289548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1"/>
            <a:stretch/>
          </p:blipFill>
          <p:spPr>
            <a:xfrm>
              <a:off x="304776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2"/>
            <a:stretch/>
          </p:blipFill>
          <p:spPr>
            <a:xfrm>
              <a:off x="320040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3"/>
            <a:stretch/>
          </p:blipFill>
          <p:spPr>
            <a:xfrm>
              <a:off x="335268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4"/>
            <a:stretch/>
          </p:blipFill>
          <p:spPr>
            <a:xfrm>
              <a:off x="3504960" y="49532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5"/>
            <a:stretch/>
          </p:blipFill>
          <p:spPr>
            <a:xfrm>
              <a:off x="3657600" y="51055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6"/>
            <a:stretch/>
          </p:blipFill>
          <p:spPr>
            <a:xfrm>
              <a:off x="3809880" y="52578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" descr=""/>
          <p:cNvPicPr/>
          <p:nvPr/>
        </p:nvPicPr>
        <p:blipFill>
          <a:blip r:embed="rId17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0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600200" y="1600200"/>
            <a:ext cx="2514600" cy="1690200"/>
            <a:chOff x="1600200" y="1600200"/>
            <a:chExt cx="2514600" cy="1690200"/>
          </a:xfrm>
        </p:grpSpPr>
        <p:pic>
          <p:nvPicPr>
            <p:cNvPr id="160" name="" descr=""/>
            <p:cNvPicPr/>
            <p:nvPr/>
          </p:nvPicPr>
          <p:blipFill>
            <a:blip r:embed="rId21"/>
            <a:stretch/>
          </p:blipFill>
          <p:spPr>
            <a:xfrm>
              <a:off x="1600200" y="160020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2"/>
            <a:stretch/>
          </p:blipFill>
          <p:spPr>
            <a:xfrm>
              <a:off x="1752480" y="17524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3"/>
            <a:stretch/>
          </p:blipFill>
          <p:spPr>
            <a:xfrm>
              <a:off x="1904760" y="190476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4"/>
            <a:stretch/>
          </p:blipFill>
          <p:spPr>
            <a:xfrm>
              <a:off x="2057400" y="205704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5"/>
            <a:stretch/>
          </p:blipFill>
          <p:spPr>
            <a:xfrm>
              <a:off x="2209680" y="22096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6"/>
            <a:stretch/>
          </p:blipFill>
          <p:spPr>
            <a:xfrm>
              <a:off x="2361960" y="236196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7"/>
            <a:stretch/>
          </p:blipFill>
          <p:spPr>
            <a:xfrm>
              <a:off x="2514600" y="251424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8"/>
            <a:stretch/>
          </p:blipFill>
          <p:spPr>
            <a:xfrm>
              <a:off x="2666880" y="2666880"/>
              <a:ext cx="1447920" cy="62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990720" y="0"/>
            <a:ext cx="2514600" cy="1690560"/>
            <a:chOff x="990720" y="0"/>
            <a:chExt cx="2514600" cy="1690560"/>
          </a:xfrm>
        </p:grpSpPr>
        <p:pic>
          <p:nvPicPr>
            <p:cNvPr id="169" name="" descr=""/>
            <p:cNvPicPr/>
            <p:nvPr/>
          </p:nvPicPr>
          <p:blipFill>
            <a:blip r:embed="rId29"/>
            <a:stretch/>
          </p:blipFill>
          <p:spPr>
            <a:xfrm>
              <a:off x="990720" y="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0"/>
            <a:stretch/>
          </p:blipFill>
          <p:spPr>
            <a:xfrm>
              <a:off x="1143000" y="152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31"/>
            <a:stretch/>
          </p:blipFill>
          <p:spPr>
            <a:xfrm>
              <a:off x="1295280" y="304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32"/>
            <a:stretch/>
          </p:blipFill>
          <p:spPr>
            <a:xfrm>
              <a:off x="1447920" y="457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3"/>
            <a:stretch/>
          </p:blipFill>
          <p:spPr>
            <a:xfrm>
              <a:off x="1600200" y="609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4"/>
            <a:stretch/>
          </p:blipFill>
          <p:spPr>
            <a:xfrm>
              <a:off x="1752480" y="762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5"/>
            <a:stretch/>
          </p:blipFill>
          <p:spPr>
            <a:xfrm>
              <a:off x="1905120" y="914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6"/>
            <a:stretch/>
          </p:blipFill>
          <p:spPr>
            <a:xfrm>
              <a:off x="2057400" y="10666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" descr=""/>
          <p:cNvPicPr/>
          <p:nvPr/>
        </p:nvPicPr>
        <p:blipFill>
          <a:blip r:embed="rId37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79" name="" descr=""/>
            <p:cNvPicPr/>
            <p:nvPr/>
          </p:nvPicPr>
          <p:blipFill>
            <a:blip r:embed="rId38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9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0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1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2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3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4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45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2971800" y="6019920"/>
            <a:ext cx="1295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2122E-006 C 0.0026 0.00324 0.00555 0.00579 0.00816 0.00949 C 0.00989 0.01204 0.01302 0.01784 0.01302 0.01807 C 0.01389 0.02293 0.01545 0.02641 0.01632 0.03151 C 0.01892 0.07066 0.0158 0.02201 0.01771 0.12001 C 0.01788 0.12557 0.02048 0.12998 0.02187 0.13507 C 0.02239 0.13693 0.02361 0.14063 0.02361 0.14087 C 0.025 0.15176 0.02864 0.16195 0.03177 0.17238 C 0.03298 0.17678 0.03316 0.18049 0.03489 0.18466 C 0.03593 0.18999 0.03906 0.19995 0.03906 0.20018 C 0.04027 0.21061 0.04323 0.21964 0.04461 0.2303 C 0.04531 0.24837 0.04548 0.26204 0.05121 0.27734 C 0.05468 0.29981 0.06267 0.31 0.06996 0.32808 C 0.07083 0.33039 0.07274 0.33063 0.07413 0.33248 C 0.07604 0.33503 0.07777 0.33804 0.07968 0.34059 C 0.08524 0.3487 0.09132 0.35866 0.09843 0.3626 C 0.10225 0.367 0.10347 0.367 0.10833 0.367 E">
                                      <p:cBhvr>
                                        <p:cTn id="10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02966E-006 C -0.00051 0.00163 -0.00069 0.00348 -0.00138 0.0051 C -0.00208 0.00696 -0.00347 0.00835 -0.00399 0.01043 C -0.00676 0.02063 -0.00711 0.03082 -0.0118 0.03986 C -0.01475 0.05306 -0.0184 0.06627 -0.02083 0.07971 C -0.0217 0.12118 -0.01996 0.14922 -0.02864 0.18536 C -0.02968 0.20899 -0.03246 0.2178 -0.03385 0.24097 C -0.0342 0.25881 -0.03385 0.27688 -0.03506 0.29472 C -0.03524 0.29866 -0.03836 0.30144 -0.03906 0.30515 C -0.04149 0.31789 -0.04444 0.3304 -0.04687 0.34315 C -0.0493 0.35612 -0.04895 0.37188 -0.05468 0.38277 C -0.05555 0.38647 -0.05729 0.38972 -0.05729 0.39342 C -0.05729 0.42424 -0.0552 0.45274 -0.04808 0.48193 C -0.04617 0.49004 -0.04496 0.49653 -0.04027 0.50255 C -0.03732 0.51506 -0.03385 0.53916 -0.02864 0.54936 C -0.02499 0.56534 -0.0243 0.576 -0.01301 0.58573 C -0.01058 0.59662 -0.00989 0.60705 -0.00399 0.61539 C -0.00312 0.61886 -0.00364 0.62373 -0.00138 0.62558 C 0.00261 0.6286 0.02136 0.62744 0.02205 0.62744 E">
                                      <p:cBhvr>
                                        <p:cTn id="10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93" name="" descr=""/>
            <p:cNvPicPr/>
            <p:nvPr/>
          </p:nvPicPr>
          <p:blipFill>
            <a:blip r:embed="rId6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7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8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9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1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2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3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2743200" y="5562720"/>
            <a:ext cx="30481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352680" y="2286000"/>
            <a:ext cx="5486400" cy="4572000"/>
            <a:chOff x="3352680" y="2286000"/>
            <a:chExt cx="5486400" cy="457200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rcRect l="3997" t="2430" r="3997" b="19757"/>
            <a:stretch/>
          </p:blipFill>
          <p:spPr>
            <a:xfrm>
              <a:off x="3352680" y="2286000"/>
              <a:ext cx="54864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038480" y="2438280"/>
              <a:ext cx="4572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MAZON RAINFOR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152280"/>
            <a:ext cx="1409760" cy="885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04920" y="1981080"/>
            <a:ext cx="266688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turn, Brazil must protect lands from defore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7467480" y="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rcRect l="6515" t="6515" r="8943" b="8943"/>
          <a:stretch/>
        </p:blipFill>
        <p:spPr>
          <a:xfrm>
            <a:off x="7943760" y="206280"/>
            <a:ext cx="971640" cy="771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24280" y="48006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58000" y="5486400"/>
            <a:ext cx="1905120" cy="1219320"/>
            <a:chOff x="6858000" y="5486400"/>
            <a:chExt cx="1905120" cy="1219320"/>
          </a:xfrm>
        </p:grpSpPr>
        <p:sp>
          <p:nvSpPr>
            <p:cNvPr id="212" name=""/>
            <p:cNvSpPr/>
            <p:nvPr/>
          </p:nvSpPr>
          <p:spPr>
            <a:xfrm>
              <a:off x="6858000" y="5486400"/>
              <a:ext cx="190512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4320" y="5638680"/>
              <a:ext cx="4572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638680"/>
              <a:ext cx="129564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wly protected l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3:54:37Z</dcterms:created>
  <dc:creator>CFISD</dc:creator>
  <dc:description/>
  <dc:language>en-US</dc:language>
  <cp:lastModifiedBy>CFISD</cp:lastModifiedBy>
  <dcterms:modified xsi:type="dcterms:W3CDTF">2009-01-23T17:43:24Z</dcterms:modified>
  <cp:revision>11</cp:revision>
  <dc:subject/>
  <dc:title>Rainforest – Solutions</dc:title>
</cp:coreProperties>
</file>