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240-A349-4479-BD5B-66ACC7F2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C6D-9A4C-462D-A5B0-8D90F984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3ED-248F-43D0-9730-A11401F3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2E1-D141-4452-9AC2-B8B7DC8F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B9C-2D71-4221-A17C-BDB6B56B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530-0D74-4D40-ACB0-55B1E23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F0B-178F-420E-8448-1F8E83FD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942-E8E5-425B-B866-3C7F245D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449-64E5-4F7A-A530-C697617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C52-FD03-4D8C-9F03-8CEC3EB6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421-9399-44BF-B795-732C1F0D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3BA-0CB9-4917-8C81-D015AE98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15DA-CF19-481B-807E-667BCD33D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paste these into your project on the correct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445" t="25003" r="24308" b="22225"/>
          <a:stretch/>
        </p:blipFill>
        <p:spPr>
          <a:xfrm>
            <a:off x="304920" y="304920"/>
            <a:ext cx="83818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0070" t="25926" r="63542" b="22225"/>
          <a:stretch/>
        </p:blipFill>
        <p:spPr>
          <a:xfrm>
            <a:off x="0" y="0"/>
            <a:ext cx="88390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722" t="25926" r="62502" b="24076"/>
          <a:stretch/>
        </p:blipFill>
        <p:spPr>
          <a:xfrm>
            <a:off x="304920" y="228600"/>
            <a:ext cx="86104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18:15Z</dcterms:created>
  <dc:creator>CFISD</dc:creator>
  <dc:description/>
  <dc:language>en-US</dc:language>
  <cp:lastModifiedBy>CFISD</cp:lastModifiedBy>
  <dcterms:modified xsi:type="dcterms:W3CDTF">2009-04-23T12:46:43Z</dcterms:modified>
  <cp:revision>5</cp:revision>
  <dc:subject/>
  <dc:title>Project Pictures</dc:title>
</cp:coreProperties>
</file>