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9DD-9EE3-439D-A89D-615DC93F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06B7-494E-4EE5-965F-1B478872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E29-98BA-498B-A75F-63E03BFA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E23C-6595-4E70-A4B9-675F4497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AEFB-E2AE-49C3-8BC5-DBF5F271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8AB-AD8D-49B2-B993-1FC18BA6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985A-F492-4DB5-87BB-84B3E61E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264-A404-42E9-8043-49FF76BA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E3D8-E7F9-45E8-9D09-99692CF7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69F1-E7F3-47F2-9025-C3F0C856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803C-9638-4699-A92F-BE35DD33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077-39CB-4F3F-A146-F202D09D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8D98-6595-4E2E-BBE0-6AD9B30FC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Pi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 and paste these into your project on the correct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23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19445" t="25003" r="24308" b="22225"/>
          <a:stretch/>
        </p:blipFill>
        <p:spPr>
          <a:xfrm>
            <a:off x="304920" y="304920"/>
            <a:ext cx="838188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0070" t="25926" r="63542" b="22225"/>
          <a:stretch/>
        </p:blipFill>
        <p:spPr>
          <a:xfrm>
            <a:off x="0" y="0"/>
            <a:ext cx="88390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9722" t="25926" r="62502" b="24076"/>
          <a:stretch/>
        </p:blipFill>
        <p:spPr>
          <a:xfrm>
            <a:off x="304920" y="228600"/>
            <a:ext cx="861048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18:15Z</dcterms:created>
  <dc:creator>CFISD</dc:creator>
  <dc:description/>
  <dc:language>en-US</dc:language>
  <cp:lastModifiedBy>CFISD</cp:lastModifiedBy>
  <dcterms:modified xsi:type="dcterms:W3CDTF">2009-04-23T12:46:43Z</dcterms:modified>
  <cp:revision>5</cp:revision>
  <dc:subject/>
  <dc:title>Project Pictures</dc:title>
</cp:coreProperties>
</file>