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DAAA-EA82-4AB0-A2A2-A2C4ADFEC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53EA-EDFE-4B46-B2F7-9452613B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5502-C609-4F2C-ADBE-C766D4C6F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D82D-6C19-44A1-AF08-8F680846F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BB2A-5F44-43FB-BF61-F87BAE12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9B28-C63D-40B8-A8A5-4944125B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1F4B-7CC5-46C1-9204-5B472D1F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5699-367D-4086-9023-3A4F3551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DB26-4D50-4509-B1D0-67C08125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33EA-6FDA-4EEC-ADDC-9F185882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3E5E-7869-485C-B438-2C7F7C8E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3053-33F6-4E11-999C-1A51C686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D17C-1ABA-46AB-BACE-D8E5950EA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Pi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 and paste these into your project on the correct slid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723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19445" t="25003" r="24308" b="22225"/>
          <a:stretch/>
        </p:blipFill>
        <p:spPr>
          <a:xfrm>
            <a:off x="304920" y="304920"/>
            <a:ext cx="8381880" cy="58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10070" t="25926" r="63542" b="22225"/>
          <a:stretch/>
        </p:blipFill>
        <p:spPr>
          <a:xfrm>
            <a:off x="0" y="0"/>
            <a:ext cx="8839080" cy="65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9722" t="25926" r="62502" b="24076"/>
          <a:stretch/>
        </p:blipFill>
        <p:spPr>
          <a:xfrm>
            <a:off x="304920" y="228600"/>
            <a:ext cx="861048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2:18:15Z</dcterms:created>
  <dc:creator>CFISD</dc:creator>
  <dc:description/>
  <dc:language>en-US</dc:language>
  <cp:lastModifiedBy>CFISD</cp:lastModifiedBy>
  <dcterms:modified xsi:type="dcterms:W3CDTF">2009-04-23T12:46:43Z</dcterms:modified>
  <cp:revision>5</cp:revision>
  <dc:subject/>
  <dc:title>Project Pictures</dc:title>
</cp:coreProperties>
</file>