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EEA-84C2-43D7-A939-055330A0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C43-EEC1-4D6C-BBA3-8C228E5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878-CE11-4381-802E-37699B4C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04B-25F3-4357-A52F-A0DB00F3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B3D-5A0F-419B-9362-85A9E416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413-324A-4495-BCE6-91335A1F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77C-1ADC-4C21-BF0F-5C223B48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D56-C1A7-4A8D-B5C7-ACD793E6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93C-8DF6-4420-9879-DB73F311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756-D62D-4B9B-8B62-C12E850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5AE-0AC2-45D6-B019-61DFA7E1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A78-DA88-44C6-944C-FD1EA056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8C99-F950-4406-8B40-3F9BCB50D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paste these into your project on the correct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445" t="25003" r="24308" b="22225"/>
          <a:stretch/>
        </p:blipFill>
        <p:spPr>
          <a:xfrm>
            <a:off x="304920" y="304920"/>
            <a:ext cx="83818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0070" t="25926" r="63542" b="22225"/>
          <a:stretch/>
        </p:blipFill>
        <p:spPr>
          <a:xfrm>
            <a:off x="0" y="0"/>
            <a:ext cx="88390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722" t="25926" r="62502" b="24076"/>
          <a:stretch/>
        </p:blipFill>
        <p:spPr>
          <a:xfrm>
            <a:off x="304920" y="228600"/>
            <a:ext cx="86104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18:15Z</dcterms:created>
  <dc:creator>CFISD</dc:creator>
  <dc:description/>
  <dc:language>en-US</dc:language>
  <cp:lastModifiedBy>CFISD</cp:lastModifiedBy>
  <dcterms:modified xsi:type="dcterms:W3CDTF">2009-04-23T12:46:43Z</dcterms:modified>
  <cp:revision>5</cp:revision>
  <dc:subject/>
  <dc:title>Project Pictures</dc:title>
</cp:coreProperties>
</file>