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F182-BABB-41C1-B0E4-5FACBC5CC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75C8-22BB-480B-A811-DB9F3512F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7249-B761-4156-A3FB-7331CCD92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DE0F-5526-4B2C-9334-70BE5785E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9FC2-9270-4A2E-A469-DD1BF1992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C81E-9237-4C80-8E63-C32131579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8672-54BA-4EBF-AD0F-2324ABC7A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4739-643A-44A8-AEA0-AC524A981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ADE4-DD56-4C27-ADCA-A3F9D5BBC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7C22-3D82-4873-B9D9-E25510FC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D402-9DCF-4592-8098-22A5C100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CF72-F4BA-4E01-B080-B4D2C7967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869F4-814B-4217-A5CC-A44650863F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Pi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y and paste these into your project on the correct slid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723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19445" t="25003" r="24308" b="22225"/>
          <a:stretch/>
        </p:blipFill>
        <p:spPr>
          <a:xfrm>
            <a:off x="304920" y="304920"/>
            <a:ext cx="8381880" cy="58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10070" t="25926" r="63542" b="22225"/>
          <a:stretch/>
        </p:blipFill>
        <p:spPr>
          <a:xfrm>
            <a:off x="0" y="0"/>
            <a:ext cx="8839080" cy="65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9722" t="25926" r="62502" b="24076"/>
          <a:stretch/>
        </p:blipFill>
        <p:spPr>
          <a:xfrm>
            <a:off x="304920" y="228600"/>
            <a:ext cx="8610480" cy="58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3T12:18:15Z</dcterms:created>
  <dc:creator>CFISD</dc:creator>
  <dc:description/>
  <dc:language>en-US</dc:language>
  <cp:lastModifiedBy>CFISD</cp:lastModifiedBy>
  <dcterms:modified xsi:type="dcterms:W3CDTF">2009-04-23T12:46:43Z</dcterms:modified>
  <cp:revision>5</cp:revision>
  <dc:subject/>
  <dc:title>Project Pictures</dc:title>
</cp:coreProperties>
</file>