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E01-62C5-4C52-9042-4213C5AA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9FD-3A78-4A75-930A-4380DF7C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381-118F-41D0-9A2F-AE3526AB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9FF-438D-4EDF-A122-DDB2FF3D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CADB-EB62-4FAB-9369-45378498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DA6-2FFF-4A46-8EF0-9692F9B2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EDF-FF34-4E06-A0D1-BFDF3C5C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92F-5327-4B6B-8A2F-13998A8B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B75-E21C-40F9-8375-BC58717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BED-0D13-46C8-A938-22E2BA7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55D-B3F8-4416-9421-D1FD54F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D14-E32B-4995-B8EA-179087D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E3F3-DE7C-496E-A348-E4A1118B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se into your project on the correct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445" t="25003" r="24308" b="22225"/>
          <a:stretch/>
        </p:blipFill>
        <p:spPr>
          <a:xfrm>
            <a:off x="304920" y="304920"/>
            <a:ext cx="83818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0070" t="25926" r="63542" b="22225"/>
          <a:stretch/>
        </p:blipFill>
        <p:spPr>
          <a:xfrm>
            <a:off x="0" y="0"/>
            <a:ext cx="88390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22" t="25926" r="62502" b="24076"/>
          <a:stretch/>
        </p:blipFill>
        <p:spPr>
          <a:xfrm>
            <a:off x="304920" y="228600"/>
            <a:ext cx="86104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18:15Z</dcterms:created>
  <dc:creator>CFISD</dc:creator>
  <dc:description/>
  <dc:language>en-US</dc:language>
  <cp:lastModifiedBy>CFISD</cp:lastModifiedBy>
  <dcterms:modified xsi:type="dcterms:W3CDTF">2009-04-23T12:46:43Z</dcterms:modified>
  <cp:revision>5</cp:revision>
  <dc:subject/>
  <dc:title>Project Pictures</dc:title>
</cp:coreProperties>
</file>