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E79-C16C-4E39-ADCC-056F5BFBB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CC4F-2A5A-46C4-9EF0-F1F1C927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FFD-7F17-4B7F-B62E-1C1C0AE9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CE9-932E-43ED-BB04-7EA4B75A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C12-41B3-4673-9617-BF419715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B00D-90DD-4696-AE41-DB25D7DF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A75-2203-4737-A117-02EDC35D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EF96-1F06-4CEF-91E5-027CC458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D37-5ECF-484C-B272-30505DB9E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BAE-D0DE-405C-A1DC-163B2A04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3D7-B1E8-4F04-BD70-DF121BB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9F19-ABF2-4E49-9799-B010C13E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6E7A-B793-4511-AD8A-2C16EF2E8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55627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lan Zaro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143000"/>
            <a:ext cx="853416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freedom of speech, religion, press, assembly, and petition is important today because citizens need to have a say in their government and should be able to think their own though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The importance of trial by jury is that it allows someone convicted to have the chance of their case being seen in different perspectives, not just from the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endment-Protection from cruel and unusual punishment is important because the government can’t put someone in prison for a very long time just because they did something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Rectangle 3" descr=""/>
          <p:cNvPicPr/>
          <p:nvPr/>
        </p:nvPicPr>
        <p:blipFill>
          <a:blip r:embed="rId2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50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 rot="19467600">
            <a:off x="2209680" y="2590920"/>
            <a:ext cx="47246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ll of Righ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reedom of religion, speech, press, assembly, and petition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It would be a pull factor because many immigrants faced persecution in their country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438280" y="152280"/>
            <a:ext cx="3924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st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of trial by jury in civil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ersecuted by the government in their countries and the trial is run by government offici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33720" y="304920"/>
            <a:ext cx="4647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7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dom of excessive bail, cruel and unusual punish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migrants are often punished in cruel and unusual ways in their countries that they come fr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33720" y="304920"/>
            <a:ext cx="49528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8th Amend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4T04:35:34Z</dcterms:modified>
  <cp:revision>17</cp:revision>
  <dc:subject/>
  <dc:title>Slide 1</dc:title>
</cp:coreProperties>
</file>