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7470-FA49-4C4D-B9C9-C63FBAC8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587-89A8-4280-8ED6-F63DE788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0A2-2829-430C-95C0-9028C57B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5AF3-D439-4EBD-9B1C-D96F47DC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85F-0BEC-4BC3-9D94-BF60756E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DF8-D670-422A-AB69-3BBCA46F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B94B-9CB2-499A-9991-45435439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B5BC-CC50-4796-B2C4-63577DD8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6C2-1CAD-4A67-BB50-AAC23D54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59B-67A3-4522-8FE5-047760CA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FB45-E520-4B57-AD5E-1C1CBFD9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341-C24C-42CE-A59E-1FBF9638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805C-3D88-4591-85C1-374909A13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2"/>
          <a:stretch/>
        </p:blipFill>
        <p:spPr>
          <a:xfrm>
            <a:off x="1133640" y="450720"/>
            <a:ext cx="6370560" cy="5284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33520" y="533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remy P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5562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lan Zaro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143000"/>
            <a:ext cx="85341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endment-The freedom of speech, religion, press, assembly, and petition is important today because citizens need to have a say in their government and should be able to think their own thou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endment-The importance of trial by jury is that it allows someone convicted to have the chance of their case being seen in different perspectives, not just from the 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endment-Protection from cruel and unusual punishment is important because the government can’t put someone in prison for a very long time just because they did something min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What type of government (political system) does the United States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 United States has a democratic gover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MCj03013160000[1]"/>
          <p:cNvPicPr/>
          <p:nvPr/>
        </p:nvPicPr>
        <p:blipFill>
          <a:blip r:embed="rId2"/>
          <a:stretch/>
        </p:blipFill>
        <p:spPr>
          <a:xfrm>
            <a:off x="3200400" y="2590920"/>
            <a:ext cx="26668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ho holds the power in this syst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he people hold the power in a democra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2146320" y="3371760"/>
            <a:ext cx="5278320" cy="846360"/>
          </a:xfrm>
          <a:prstGeom prst="rect">
            <a:avLst/>
          </a:prstGeom>
          <a:ln w="0">
            <a:noFill/>
          </a:ln>
        </p:spPr>
      </p:pic>
      <p:sp>
        <p:nvSpPr>
          <p:cNvPr id="50" name="Straight Connector 12"/>
          <p:cNvSpPr/>
          <p:nvPr/>
        </p:nvSpPr>
        <p:spPr>
          <a:xfrm>
            <a:off x="7428960" y="3962520"/>
            <a:ext cx="3780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4"/>
          <p:cNvSpPr/>
          <p:nvPr/>
        </p:nvSpPr>
        <p:spPr>
          <a:xfrm flipH="1" flipV="1">
            <a:off x="7010280" y="396216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8"/>
          <p:cNvSpPr/>
          <p:nvPr/>
        </p:nvSpPr>
        <p:spPr>
          <a:xfrm>
            <a:off x="1790640" y="4114800"/>
            <a:ext cx="3816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 flipV="1">
            <a:off x="1751760" y="3886200"/>
            <a:ext cx="76212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 flipH="1">
            <a:off x="1447920" y="5410080"/>
            <a:ext cx="38088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828800" y="541008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7"/>
          <p:cNvSpPr/>
          <p:nvPr/>
        </p:nvSpPr>
        <p:spPr>
          <a:xfrm flipH="1">
            <a:off x="7162920" y="5334120"/>
            <a:ext cx="30456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9"/>
          <p:cNvSpPr/>
          <p:nvPr/>
        </p:nvSpPr>
        <p:spPr>
          <a:xfrm>
            <a:off x="7467480" y="533412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iley Face 31"/>
          <p:cNvSpPr/>
          <p:nvPr/>
        </p:nvSpPr>
        <p:spPr>
          <a:xfrm>
            <a:off x="1371600" y="327672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iley Face 32"/>
          <p:cNvSpPr/>
          <p:nvPr/>
        </p:nvSpPr>
        <p:spPr>
          <a:xfrm>
            <a:off x="7010280" y="3124080"/>
            <a:ext cx="838440" cy="83844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2">
            <a:lum contrast="-60000"/>
          </a:blip>
          <a:stretch/>
        </p:blipFill>
        <p:spPr>
          <a:xfrm>
            <a:off x="228600" y="3505320"/>
            <a:ext cx="4152960" cy="1400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Program Files\Microsoft Office\MEDIA\CAGCAT10\j0300840.wmf"/>
          <p:cNvPicPr/>
          <p:nvPr/>
        </p:nvPicPr>
        <p:blipFill>
          <a:blip r:embed="rId3">
            <a:lum contrast="-62000"/>
          </a:blip>
          <a:stretch/>
        </p:blipFill>
        <p:spPr>
          <a:xfrm rot="20330400">
            <a:off x="6509880" y="2165040"/>
            <a:ext cx="2210040" cy="1860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hat ideas from the Enlightment period are still present in the government (political system) of the United Sta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Baron de Montesquieu’s ideas influenced the U.S. Constitution by providing checks and bala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-Montesquieu’s idea of three branches of government still exist today as executive, legislative, and judicial bra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-Jean-Jacques Rousseau wrote that good government must be based on popular sovereign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ow would the government of the United States be a pull factor for people living in a dictatorship or communist country?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John\Local Settings\Temporary Internet Files\Content.IE5\BC0JG4PZ\MCj04125500000[1].wmf"/>
          <p:cNvPicPr/>
          <p:nvPr/>
        </p:nvPicPr>
        <p:blipFill>
          <a:blip r:embed="rId2"/>
          <a:stretch/>
        </p:blipFill>
        <p:spPr>
          <a:xfrm>
            <a:off x="6095880" y="457200"/>
            <a:ext cx="1524240" cy="1596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John\Local Settings\Temporary Internet Files\Content.IE5\Q6DUN2J7\MCj04396000000[1].png"/>
          <p:cNvPicPr/>
          <p:nvPr/>
        </p:nvPicPr>
        <p:blipFill>
          <a:blip r:embed="rId3"/>
          <a:stretch/>
        </p:blipFill>
        <p:spPr>
          <a:xfrm>
            <a:off x="1066680" y="5029200"/>
            <a:ext cx="2684520" cy="156384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914400" y="358128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he United States has freedoms, whereas dictatorship  or communist country takes away the freedoms of citiz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 rot="19467600">
            <a:off x="2209680" y="2590920"/>
            <a:ext cx="47246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ll of Righ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reedom of religion, speech, press, assembly, and petition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It would be a pull factor because many immigrants faced persecution in their country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438280" y="152280"/>
            <a:ext cx="392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st Amend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of trial by jury in civil c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igrants are often persecuted by the government in their countries and the trial is run by government offici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33720" y="304920"/>
            <a:ext cx="4647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th Amend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dom of excessive bail, cruel and unusual punish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igrants are often punished in cruel and unusual ways in their countries that they come fr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33720" y="304920"/>
            <a:ext cx="4952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th Amend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2:44:23Z</dcterms:created>
  <dc:creator>John</dc:creator>
  <dc:description/>
  <dc:language>en-US</dc:language>
  <cp:lastModifiedBy>John</cp:lastModifiedBy>
  <dcterms:modified xsi:type="dcterms:W3CDTF">2008-10-24T04:35:34Z</dcterms:modified>
  <cp:revision>17</cp:revision>
  <dc:subject/>
  <dc:title>Slide 1</dc:title>
</cp:coreProperties>
</file>