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wmf" ContentType="image/x-wmf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3A1F-1FA5-4663-B3B6-DBA1D7A11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DC59-AF02-436F-B3DE-A38A42D95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3270-7299-4E4B-B5F5-2C8E4F7EF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46F1-840F-4B51-B218-7B34D80FA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D6DF-0504-4BB3-8149-8058F583F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5A8B-E252-4D3C-BE75-F926B9BAC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7B54-605D-4AB3-8521-321BC6383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D7E3-753D-42A2-9180-47C5170C4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B76E-6FC7-406C-882E-CE6C775A1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8AFE-A917-420D-83C4-0D08A5CC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C367-E455-4885-88D4-77E545EA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7509-FB54-419E-82BB-C4A522ED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D0D9A-A49F-49C0-A605-786FC6D743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3" descr=""/>
          <p:cNvPicPr/>
          <p:nvPr/>
        </p:nvPicPr>
        <p:blipFill>
          <a:blip r:embed="rId2"/>
          <a:stretch/>
        </p:blipFill>
        <p:spPr>
          <a:xfrm>
            <a:off x="1133640" y="450720"/>
            <a:ext cx="6370560" cy="52848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533520" y="5335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eremy Ph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553080" y="55627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lan Zaros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04920" y="1143000"/>
            <a:ext cx="853416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mendment-The freedom of speech, religion, press, assembly, and petition is important today because citizens need to have a say in their government and should be able to think their own though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mendment-The importance of trial by jury is that it allows someone convicted to have the chance of their case being seen in different perspectives, not just from the govern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mendment-Protection from cruel and unusual punishment is important because the government can’t put someone in prison for a very long time just because they did something min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What type of government (political system) does the United States ha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The United States has a democratic govern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MCj03013160000[1]"/>
          <p:cNvPicPr/>
          <p:nvPr/>
        </p:nvPicPr>
        <p:blipFill>
          <a:blip r:embed="rId2"/>
          <a:stretch/>
        </p:blipFill>
        <p:spPr>
          <a:xfrm>
            <a:off x="3200400" y="2590920"/>
            <a:ext cx="266688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Who holds the power in this syste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09480" y="121932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The people hold the power in a democrac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Rectangle 3" descr=""/>
          <p:cNvPicPr/>
          <p:nvPr/>
        </p:nvPicPr>
        <p:blipFill>
          <a:blip r:embed="rId2"/>
          <a:stretch/>
        </p:blipFill>
        <p:spPr>
          <a:xfrm>
            <a:off x="2146320" y="3371760"/>
            <a:ext cx="5278320" cy="846360"/>
          </a:xfrm>
          <a:prstGeom prst="rect">
            <a:avLst/>
          </a:prstGeom>
          <a:ln w="0">
            <a:noFill/>
          </a:ln>
        </p:spPr>
      </p:pic>
      <p:sp>
        <p:nvSpPr>
          <p:cNvPr id="50" name="Straight Connector 12"/>
          <p:cNvSpPr/>
          <p:nvPr/>
        </p:nvSpPr>
        <p:spPr>
          <a:xfrm>
            <a:off x="7428960" y="3962520"/>
            <a:ext cx="37800" cy="1371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4"/>
          <p:cNvSpPr/>
          <p:nvPr/>
        </p:nvSpPr>
        <p:spPr>
          <a:xfrm flipH="1" flipV="1">
            <a:off x="7010280" y="3962160"/>
            <a:ext cx="457200" cy="685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8"/>
          <p:cNvSpPr/>
          <p:nvPr/>
        </p:nvSpPr>
        <p:spPr>
          <a:xfrm>
            <a:off x="1790640" y="4114800"/>
            <a:ext cx="38160" cy="1295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 flipV="1">
            <a:off x="1751760" y="3886200"/>
            <a:ext cx="762120" cy="838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 flipH="1">
            <a:off x="1447920" y="5410080"/>
            <a:ext cx="380880" cy="685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828800" y="5410080"/>
            <a:ext cx="457200" cy="685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7"/>
          <p:cNvSpPr/>
          <p:nvPr/>
        </p:nvSpPr>
        <p:spPr>
          <a:xfrm flipH="1">
            <a:off x="7162920" y="5334120"/>
            <a:ext cx="304560" cy="685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29"/>
          <p:cNvSpPr/>
          <p:nvPr/>
        </p:nvSpPr>
        <p:spPr>
          <a:xfrm>
            <a:off x="7467480" y="5334120"/>
            <a:ext cx="457200" cy="685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miley Face 31"/>
          <p:cNvSpPr/>
          <p:nvPr/>
        </p:nvSpPr>
        <p:spPr>
          <a:xfrm>
            <a:off x="1371600" y="3276720"/>
            <a:ext cx="838080" cy="838080"/>
          </a:xfrm>
          <a:prstGeom prst="smileyFace">
            <a:avLst>
              <a:gd name="adj" fmla="val 928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miley Face 32"/>
          <p:cNvSpPr/>
          <p:nvPr/>
        </p:nvSpPr>
        <p:spPr>
          <a:xfrm>
            <a:off x="7010280" y="3124080"/>
            <a:ext cx="838440" cy="838440"/>
          </a:xfrm>
          <a:prstGeom prst="smileyFace">
            <a:avLst>
              <a:gd name="adj" fmla="val 928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"/>
          <p:cNvPicPr/>
          <p:nvPr/>
        </p:nvPicPr>
        <p:blipFill>
          <a:blip r:embed="rId2">
            <a:lum contrast="-60000"/>
          </a:blip>
          <a:stretch/>
        </p:blipFill>
        <p:spPr>
          <a:xfrm>
            <a:off x="228600" y="3505320"/>
            <a:ext cx="4152960" cy="1400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C:\Program Files\Microsoft Office\MEDIA\CAGCAT10\j0300840.wmf"/>
          <p:cNvPicPr/>
          <p:nvPr/>
        </p:nvPicPr>
        <p:blipFill>
          <a:blip r:embed="rId3">
            <a:lum contrast="-62000"/>
          </a:blip>
          <a:stretch/>
        </p:blipFill>
        <p:spPr>
          <a:xfrm rot="20330400">
            <a:off x="6509880" y="2165040"/>
            <a:ext cx="2210040" cy="18604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What ideas from the Enlightment period are still present in the government (political system) of the United Stat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66"/>
                </a:solidFill>
                <a:latin typeface="Calibri"/>
              </a:rPr>
              <a:t>Baron de Montesquieu’s ideas influenced the U.S. Constitution by providing checks and balan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alibri"/>
              </a:rPr>
              <a:t>-Montesquieu’s idea of three branches of government still exist today as executive, legislative, and judicial branch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alibri"/>
              </a:rPr>
              <a:t>-Jean-Jacques Rousseau wrote that good government must be based on popular sovereignt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5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xit" presetID="50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xit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4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How would the government of the United States be a pull factor for people living in a dictatorship or communist country?</a:t>
            </a:r>
            <a:br>
              <a:rPr sz="3200"/>
            </a:br>
            <a:br>
              <a:rPr sz="40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C:\Documents and Settings\John\Local Settings\Temporary Internet Files\Content.IE5\BC0JG4PZ\MCj04125500000[1].wmf"/>
          <p:cNvPicPr/>
          <p:nvPr/>
        </p:nvPicPr>
        <p:blipFill>
          <a:blip r:embed="rId2"/>
          <a:stretch/>
        </p:blipFill>
        <p:spPr>
          <a:xfrm>
            <a:off x="6095880" y="457200"/>
            <a:ext cx="1524240" cy="1596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Documents and Settings\John\Local Settings\Temporary Internet Files\Content.IE5\Q6DUN2J7\MCj04396000000[1].png"/>
          <p:cNvPicPr/>
          <p:nvPr/>
        </p:nvPicPr>
        <p:blipFill>
          <a:blip r:embed="rId3"/>
          <a:stretch/>
        </p:blipFill>
        <p:spPr>
          <a:xfrm>
            <a:off x="1066680" y="5029200"/>
            <a:ext cx="2684520" cy="1563840"/>
          </a:xfrm>
          <a:prstGeom prst="rect">
            <a:avLst/>
          </a:prstGeom>
          <a:ln w="0">
            <a:noFill/>
          </a:ln>
        </p:spPr>
      </p:pic>
      <p:sp>
        <p:nvSpPr>
          <p:cNvPr id="67" name="TextBox 6"/>
          <p:cNvSpPr/>
          <p:nvPr/>
        </p:nvSpPr>
        <p:spPr>
          <a:xfrm>
            <a:off x="914400" y="3581280"/>
            <a:ext cx="7391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The United States has freedoms, whereas dictatorship  or communist country takes away the freedoms of citize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9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 rot="19467600">
            <a:off x="2209680" y="2590920"/>
            <a:ext cx="472464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ill of Righ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reedom of religion, speech, press, assembly, and petition.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It would be a pull factor because many immigrants faced persecution in their country.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438280" y="152280"/>
            <a:ext cx="39243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st Amendm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ght of trial by jury in civil c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migrants are often persecuted by the government in their countries and the trial is run by government offici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133720" y="304920"/>
            <a:ext cx="46479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7th Amendm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eedom of excessive bail, cruel and unusual punishm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migrants are often punished in cruel and unusual ways in their countries that they come fr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133720" y="304920"/>
            <a:ext cx="49528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8th Amendm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02:44:23Z</dcterms:created>
  <dc:creator>John</dc:creator>
  <dc:description/>
  <dc:language>en-US</dc:language>
  <cp:lastModifiedBy>John</cp:lastModifiedBy>
  <dcterms:modified xsi:type="dcterms:W3CDTF">2008-10-24T04:35:34Z</dcterms:modified>
  <cp:revision>17</cp:revision>
  <dc:subject/>
  <dc:title>Slide 1</dc:title>
</cp:coreProperties>
</file>