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83E80-ADBE-49EB-BD58-A8D9F827B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3221-08EB-4189-9159-122C3484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43941-177E-4EBD-BCFC-44D887C16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21E4C2-676F-4EB0-B38C-7AB99D1CC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7D24F-E4EF-46BF-845B-837007E8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1DB47-0AAE-4E82-A9AC-C0710B392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DA13D-7EF9-4D98-AB36-F2F2FEC6E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41A59-C1D2-4406-A56B-EEE6CDE5B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4AD2E-DAD9-4B01-B0B3-6FE4013C7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9153-CEEE-4659-A2A6-E0834989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68391-593B-4DFC-8A6B-42D6B9434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A592-B704-407D-9670-18B8DE37D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84AB-0ED1-409D-9C63-4098AEB88F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oding and Hurricane Data</a:t>
            </a:r>
            <a:endParaRPr b="0" lang="en-US" sz="1800" spc="-1" strike="noStrike">
              <a:solidFill>
                <a:srgbClr val="000000"/>
              </a:solidFill>
              <a:latin typeface="Arial"/>
            </a:endParaRPr>
          </a:p>
        </p:txBody>
      </p:sp>
      <p:sp>
        <p:nvSpPr>
          <p:cNvPr id="69" name="PlaceHolder 3"/>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e Data and Land Pr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crime data will affect the recruitment of futur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udents will not want to attend a school in an area high in crime. Students want to live in a safe enviro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land prices will affect the recruitment of future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all ready have many school expenses and some may not be able to afford to live in an area with high land prices. A student might not go to a school if they can’t afford to live close b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how the Board of Directors and investors will respond to both sets of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of Directors and other investors are going to want to bu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graphicFrame>
        <p:nvGraphicFramePr>
          <p:cNvPr id="73" name=""/>
          <p:cNvGraphicFramePr/>
          <p:nvPr/>
        </p:nvGraphicFramePr>
        <p:xfrm>
          <a:off x="457200" y="1600200"/>
          <a:ext cx="8228880" cy="4525560"/>
        </p:xfrm>
        <a:graphic>
          <a:graphicData uri="http://schemas.openxmlformats.org/drawingml/2006/table">
            <a:tbl>
              <a:tblPr/>
              <a:tblGrid>
                <a:gridCol w="2056680"/>
                <a:gridCol w="2057760"/>
                <a:gridCol w="2057040"/>
                <a:gridCol w="2057400"/>
              </a:tblGrid>
              <a:tr h="1239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 Campus Hous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llege is placed in the country there might not be apartments close by for students to live in. There needs to be enough space for all the students t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Availabl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ege might need a lot of land to build on, and in the middle of the city there isn’t enough room to build a hug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example.</a:t>
            </a:r>
            <a:endParaRPr b="0" lang="en-US" sz="1800" spc="-1" strike="noStrike">
              <a:solidFill>
                <a:srgbClr val="000000"/>
              </a:solidFill>
              <a:latin typeface="Arial"/>
            </a:endParaRPr>
          </a:p>
        </p:txBody>
      </p:sp>
      <p:sp>
        <p:nvSpPr>
          <p:cNvPr id="76" name=""/>
          <p:cNvSpPr txBox="1"/>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loodplai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ershe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lt data and mechanical weathering</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rricane storm surge and potential damag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 pric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rim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put 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uild it for extra cred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Flood Plai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odplain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Each location and its corresponding floodplain creates a different flooding scenario.  Which floodplain creates the worst situ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the floodplains in order from best to worst based on your analys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individual location/flood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21:41:43Z</dcterms:modified>
  <cp:revision>8</cp:revision>
  <dc:subject/>
  <dc:title>title</dc:title>
</cp:coreProperties>
</file>