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D82F2-ABAD-4B8F-8AC4-B5396B351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737DB-DFC6-4B85-A108-69C9D2867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94A05-D06E-483F-94B2-EC863237A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ED311-DD28-4730-B34D-FFFD66011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6DFB-E2A7-4D0D-9014-60BCE2ED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FE6A-76E1-473C-B024-7137324E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33F2-B072-4149-B051-C76CBE9B8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6AAFB-A5AA-47AA-9075-AAB13B1F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45A1-E705-437E-8909-757C7F2B7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5411E-A919-4707-8790-07ED0CDD3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82AF-C739-4869-A1A5-F68960F8C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0FC6-58C7-4CA2-BC1C-47BC27955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FCAD-0137-4D2A-B4D1-5325B2297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oding and Hurricane Data</a:t>
            </a:r>
            <a:endParaRPr b="0" lang="en-US" sz="1800" spc="-1" strike="noStrike">
              <a:solidFill>
                <a:srgbClr val="000000"/>
              </a:solidFill>
              <a:latin typeface="Arial"/>
            </a:endParaRPr>
          </a:p>
        </p:txBody>
      </p:sp>
      <p:sp>
        <p:nvSpPr>
          <p:cNvPr id="69" name="PlaceHolder 3"/>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me Data and Land Pri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crime data will affect the recruitment of future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udents will not want to attend a school in an area high in crime. Students want to live in a safe enviro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land prices will affect the recruitment of future stud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all ready have many school expenses and some may not be able to afford to live in an area with high land prices. A student might not go to a school if they can’t afford to live close b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 how the Board of Directors and investors will respond to both sets of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ard of Directors and other investors are going to want to bu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graphicFrame>
        <p:nvGraphicFramePr>
          <p:cNvPr id="73" name=""/>
          <p:cNvGraphicFramePr/>
          <p:nvPr/>
        </p:nvGraphicFramePr>
        <p:xfrm>
          <a:off x="457200" y="1600200"/>
          <a:ext cx="8228880" cy="4525560"/>
        </p:xfrm>
        <a:graphic>
          <a:graphicData uri="http://schemas.openxmlformats.org/drawingml/2006/table">
            <a:tbl>
              <a:tblPr/>
              <a:tblGrid>
                <a:gridCol w="2056680"/>
                <a:gridCol w="2057760"/>
                <a:gridCol w="2057040"/>
                <a:gridCol w="2057400"/>
              </a:tblGrid>
              <a:tr h="1239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 Campus Hous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llege is placed in the country there might not be apartments close by for students to live in. There needs to be enough space for all the students t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Availabl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lege might need a lot of land to build on, and in the middle of the city there isn’t enough room to build a hug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example.</a:t>
            </a:r>
            <a:endParaRPr b="0" lang="en-US" sz="1800" spc="-1" strike="noStrike">
              <a:solidFill>
                <a:srgbClr val="000000"/>
              </a:solidFill>
              <a:latin typeface="Arial"/>
            </a:endParaRPr>
          </a:p>
        </p:txBody>
      </p:sp>
      <p:sp>
        <p:nvSpPr>
          <p:cNvPr id="76" name=""/>
          <p:cNvSpPr txBox="1"/>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loodplai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tershed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ult data and mechanical weathering</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rricane storm surge and potential damage</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 price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rim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you put 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uild it for extra cred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Flood Plai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oodplain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Each location and its corresponding floodplain creates a different flooding scenario.  Which floodplain creates the worst situ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 the floodplains in order from best to worst based on your analysi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individual location/floodpl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21:41:43Z</dcterms:modified>
  <cp:revision>8</cp:revision>
  <dc:subject/>
  <dc:title>title</dc:title>
</cp:coreProperties>
</file>