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263A-1B5C-447D-AC15-29E077B2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61D5-9960-4D6A-8165-85985EC9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D7FC-1216-45BE-AFCA-B3D928C74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D427-F1E5-45B2-A2E7-46206198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9C1-7067-40D2-B071-A7DA4D6D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CCB-4E1D-4E24-8F02-DC93709A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7E1-28A8-4937-BEC5-5C72E305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A832-ED4A-4245-A0D8-7CE1FB1C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37E-5568-4358-A673-8C4F88D9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2431-0271-42BE-B2CE-86481BCE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BE8E-164A-4830-889B-763FD509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9636-901D-47E2-92C6-679160E5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7FEC-E88B-4174-AA13-1F5EDD9E2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ach student must create a wiki for their World Geography portfol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f you do not have a wikispaces user name you need to set one up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ll set it up, you do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m gonna make it identifi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. cyridgewghquy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Your portfolios must have the following p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me Page (its automatically cre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tin Americ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W Asi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be related to World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brief caption explaining wha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lating to th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’s assignment/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for the Latin America unit your project is the rainforest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 it on your Latin America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/Addi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truggling, access the power point on the cyridgewgh08 home page underneath the picture titled “How to use wik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accept my invitation to your wiki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email and accept, you won’t be able to upload pictures and files until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53:59Z</dcterms:created>
  <dc:creator>CFISD</dc:creator>
  <dc:description/>
  <dc:language>en-US</dc:language>
  <cp:lastModifiedBy>CFISD</cp:lastModifiedBy>
  <dcterms:modified xsi:type="dcterms:W3CDTF">2009-02-10T13:58:55Z</dcterms:modified>
  <cp:revision>4</cp:revision>
  <dc:subject/>
  <dc:title>SW Asia</dc:title>
</cp:coreProperties>
</file>