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B8D-2ECC-4EF3-B521-4E8BDB27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5F8-6D59-45D6-8D1D-DA4B7974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141-8B85-4E26-B1E2-A9115A49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84D-AD32-43F5-A605-8C1968C1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98A-B564-4D25-885C-1E7FABE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ECA-255E-4674-BCC1-D10D3D81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B51-0436-41C3-9388-797A9DB5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2C6-4049-4FCC-BB74-9F31AF3B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ED0-380E-4A83-AD26-EB84BE30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2AA-EEA1-4079-B6D1-18C43570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885-BFD7-4C67-9F7C-5D79F50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3E4-3ACF-435B-B8B5-55ABE574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5533-0052-4A0C-9E76-ACD6A58D8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ach student must create a wiki for their World Geography portfol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f you do not have a wikispaces user name you need to set one up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ll set it up, you do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m gonna make it identifi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. cyridgewghquy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Your portfolios must have the following p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me Page (its automatically cre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tin Americ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W Asi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be related to World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brief caption explaining wha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lating to th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’s assignment/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for the Latin America unit your project is the rainforest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 it on your Latin America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/Addi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truggling, access the power point on the cyridgewgh08 home page underneath the picture titled “How to use wik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accept my invitation to your wiki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email and accept, you won’t be able to upload pictures and files until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53:59Z</dcterms:created>
  <dc:creator>CFISD</dc:creator>
  <dc:description/>
  <dc:language>en-US</dc:language>
  <cp:lastModifiedBy>CFISD</cp:lastModifiedBy>
  <dcterms:modified xsi:type="dcterms:W3CDTF">2009-02-10T13:58:55Z</dcterms:modified>
  <cp:revision>4</cp:revision>
  <dc:subject/>
  <dc:title>SW Asia</dc:title>
</cp:coreProperties>
</file>