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49E-6DC9-4A9E-B686-EED586DE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D6C-3E95-43A1-BF97-F16A2EB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B0D-1A3B-49A9-A00D-40F5A905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2F8-4B84-4852-BD47-49654E21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CC0-DDA2-4C8B-B028-BB569B2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05B-00CA-44D6-9987-7623A724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382-E51C-4744-B0C4-7E319D97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C28-E30D-4E57-95A4-5AD75B77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A7F-501C-441F-AD35-2ADB523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ADC-0D65-42C3-89C7-510A9B35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8AA-1488-495C-BFAC-6C40126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6B8-BE89-4668-B331-8874652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ACD0-932A-4FD1-9433-621BEB61A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ch student must create a wiki for their World Geography portfol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f you do not have a wikispaces user name you need to set one up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ll set it up, you do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m gonna make it identifi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. cyridgewghqu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Your portfolios must have the following p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me Page (its automatically cre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tin Americ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W Asi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be related to World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brief caption explaining wha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lating to th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’s assignment/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for the Latin America unit your project is the rainforest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it on your Latin America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/Addi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, access the power point on the cyridgewgh08 home page underneath the picture titled “How to use wik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accept my invitation to your wik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email and accept, you won’t be able to upload pictures and files until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53:59Z</dcterms:created>
  <dc:creator>CFISD</dc:creator>
  <dc:description/>
  <dc:language>en-US</dc:language>
  <cp:lastModifiedBy>CFISD</cp:lastModifiedBy>
  <dcterms:modified xsi:type="dcterms:W3CDTF">2009-02-10T13:58:55Z</dcterms:modified>
  <cp:revision>4</cp:revision>
  <dc:subject/>
  <dc:title>SW Asia</dc:title>
</cp:coreProperties>
</file>