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5925-2B93-40DA-A429-26592DC66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4E6A-DAAE-40DD-9F71-46BA0BE6A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3CBD-4AB1-4E69-9666-5EBB04016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CED7-AFAB-4DCD-BEDE-BBF9C58C1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93D0-10C6-404B-8A17-8D9BCBFFD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FEE2-43D0-43A6-9FA6-1B68F26BE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95E2-E614-4B47-88E9-875ED0544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F5BF-7D0D-4572-903D-E581ADE32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2842-C62E-494B-B54E-941F07039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418D-BF4B-4F4C-BCAB-AE18263E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1C16-D034-4E18-8296-665208C7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2354-D203-475E-AE5E-1D7CF7B1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24F31-3242-47BE-AAD7-B2CCF77DF3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tfolio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Each student must create a wiki for their World Geography portfolio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If you do not have a wikispaces user name you need to set one up to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I’ll set it up, you do the 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I’m gonna make it identifiabl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. cyridgewghquyv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Your portfolios must have the following pag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Home Page (its automatically created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Latin America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W Asia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 page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ust be related to World Ge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ust have a brief caption explaining what it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ust have a c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page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 relating to the u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nit’s assignment/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for the Latin America unit your project is the rainforest essa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load it on your Latin America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p/Additional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are struggling, access the power point on the cyridgewgh08 home page underneath the picture titled “How to use wiki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ust accept my invitation to your wiki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your email and accept, you won’t be able to upload pictures and files until you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12:53:59Z</dcterms:created>
  <dc:creator>CFISD</dc:creator>
  <dc:description/>
  <dc:language>en-US</dc:language>
  <cp:lastModifiedBy>CFISD</cp:lastModifiedBy>
  <dcterms:modified xsi:type="dcterms:W3CDTF">2009-02-10T13:58:55Z</dcterms:modified>
  <cp:revision>4</cp:revision>
  <dc:subject/>
  <dc:title>SW Asia</dc:title>
</cp:coreProperties>
</file>