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8596-7F1A-47EA-A618-C2116CF6A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BAFB-E555-4278-907F-0386B543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CC3B-5E1A-4988-A977-50A5DEA8A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A6EB-0D42-4C77-A2A2-044513D3F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C7AF-BC9A-4962-8471-81ADF842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5E8B-60F1-4F02-999D-26CFEB9E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514A-952B-4405-8850-54183988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6A44-3A4F-4F97-9375-E0B1F5C2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32A1-8C7E-4791-A921-E3B91DCA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889E-6E46-424F-AF0F-7CC4DF97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A3EB-3DDB-4836-AA2D-3091B30B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F3FF-48B8-42B6-8001-F32A3562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3F40-78FF-446C-8B87-7B6F4B06D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folio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Each student must create a wiki for their World Geography portfolio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f you do not have a wikispaces user name you need to set one up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’ll set it up, you do the 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’m gonna make it identifiabl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. cyridgewghquy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Your portfolios must have the following pa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ome Page (its automatically create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atin America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W Asia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 page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be related to World Ge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have a brief caption explaining what i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have a c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page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relating to the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it’s assignment/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for the Latin America unit your project is the rainforest essa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load it on your Latin America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p/Additional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are struggling, access the power point on the cyridgewgh08 home page underneath the picture titled “How to use wiki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ust accept my invitation to your wiki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your email and accept, you won’t be able to upload pictures and files until you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12:53:59Z</dcterms:created>
  <dc:creator>CFISD</dc:creator>
  <dc:description/>
  <dc:language>en-US</dc:language>
  <cp:lastModifiedBy>CFISD</cp:lastModifiedBy>
  <dcterms:modified xsi:type="dcterms:W3CDTF">2009-02-10T13:58:55Z</dcterms:modified>
  <cp:revision>4</cp:revision>
  <dc:subject/>
  <dc:title>SW Asia</dc:title>
</cp:coreProperties>
</file>