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30AD-4131-4997-AC4A-29346B466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6275-406D-471F-88BC-539712190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AF94-2746-4C1C-BF9C-2390F6EC6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C3E7-9237-4FBB-86EE-5FCD2E9E6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5EDF-8EBB-4807-98B3-1B297EFA7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D752-F471-4562-BFD8-463839C5E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9B27-7E80-4DB6-90F7-359C48438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D395-E534-40F0-A6E0-B46F18926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D73E-08DD-44F3-BAB3-2F14CDABB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5C64-07D0-4809-A683-47D49288F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B3D-2719-459D-BAB5-C4C08957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A84A-255A-4F27-92F9-6B47F2EB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1033-5CDA-491F-9A21-610CE272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4920-E598-459E-854A-2169583A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151D-C2BA-4C99-BA9C-F7BACED6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83B-F743-4242-8E79-79CCD663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8AB5-6E75-4AE5-AD00-E0EB918D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28BD-040E-495E-A1E3-FA5FA901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A744-336F-48C5-A30D-59028174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15C-FAC8-4D98-BA37-1E2C1418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7CD2-3E63-4520-9B2E-7DC48B41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CCF2-CB75-438D-BEAF-6076E655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95E6-B3B6-4527-9353-4EFFFC888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ycity1000_0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Skycity1000_0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Crowd_in_HK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eobeats.com/videoclips/japan/tokyo/capsule-hote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962520" y="2514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38257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does Japan deal with a lack of space??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71360" y="1219320"/>
            <a:ext cx="8801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pacts of High Population Dens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28600" y="1066680"/>
          <a:ext cx="8763120" cy="495288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8600" y="1066680"/>
          <a:ext cx="8763120" cy="541008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these questions to help you complete your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uiding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ffect does Japan’s population density have on ___________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have the Japanese adapted their ___________ to their high population dens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Terraced farming - used by many farmers in places with mountainous terr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Object 3" descr=""/>
          <p:cNvPicPr/>
          <p:nvPr/>
        </p:nvPicPr>
        <p:blipFill>
          <a:blip r:embed="rId1"/>
          <a:stretch/>
        </p:blipFill>
        <p:spPr>
          <a:xfrm>
            <a:off x="0" y="2332080"/>
            <a:ext cx="708660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7315200" y="2209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7238880" y="2971800"/>
            <a:ext cx="190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- Shortage of arabl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28600" y="228600"/>
          <a:ext cx="8763120" cy="604980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, shortage of arable 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aced Far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Urba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popmap1"/>
          <p:cNvPicPr/>
          <p:nvPr/>
        </p:nvPicPr>
        <p:blipFill>
          <a:blip r:embed="rId1"/>
          <a:srcRect l="14063" t="0" r="15162" b="0"/>
          <a:stretch/>
        </p:blipFill>
        <p:spPr>
          <a:xfrm>
            <a:off x="-1440" y="1371600"/>
            <a:ext cx="464652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Picture 8" descr="topomap1"/>
          <p:cNvPicPr/>
          <p:nvPr/>
        </p:nvPicPr>
        <p:blipFill>
          <a:blip r:embed="rId2"/>
          <a:srcRect l="4614" t="5051" r="0" b="22558"/>
          <a:stretch/>
        </p:blipFill>
        <p:spPr>
          <a:xfrm>
            <a:off x="4648320" y="1371600"/>
            <a:ext cx="4495680" cy="5486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4648320" y="304920"/>
            <a:ext cx="26668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ould this affect population distribu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/>
          <p:cNvSpPr/>
          <p:nvPr/>
        </p:nvSpPr>
        <p:spPr>
          <a:xfrm rot="20700600">
            <a:off x="152280" y="4495320"/>
            <a:ext cx="3581640" cy="10670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648320" y="2590920"/>
            <a:ext cx="2666880" cy="2875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ffect </a:t>
            </a:r>
            <a:r>
              <a:rPr b="0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Most people live in c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daptation </a:t>
            </a:r>
            <a:r>
              <a:rPr b="0" lang="en-US" sz="28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People live on the co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8600" y="1066680"/>
          <a:ext cx="8763120" cy="544536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aced Far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people live in the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live on the coa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Architecture: Sky 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omplete these beneath your c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is Sky City an adaptation to population densit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type of problems could make Sky City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28600" y="1066680"/>
          <a:ext cx="8763120" cy="572472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Environ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of the country is mountain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aced Farm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people live in the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live on the coa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, Skyscrapers, Sky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. 630-631 to complete the Infrastructure portion of the cha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uiding Questions: ADD TO YOUR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effect does Japan’s population density have on infrastructu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have the Japanese adapted their infrastructure to their high population dens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tokyo2"/>
          <p:cNvPicPr/>
          <p:nvPr/>
        </p:nvPicPr>
        <p:blipFill>
          <a:blip r:embed="rId1"/>
          <a:stretch/>
        </p:blipFill>
        <p:spPr>
          <a:xfrm>
            <a:off x="4267080" y="1219320"/>
            <a:ext cx="4648320" cy="50292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1"/>
          <p:cNvSpPr/>
          <p:nvPr/>
        </p:nvSpPr>
        <p:spPr>
          <a:xfrm>
            <a:off x="4648320" y="62485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E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ensity - Jap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280" y="762120"/>
          <a:ext cx="8763120" cy="5025960"/>
        </p:xfrm>
        <a:graphic>
          <a:graphicData uri="http://schemas.openxmlformats.org/drawingml/2006/table">
            <a:tbl>
              <a:tblPr/>
              <a:tblGrid>
                <a:gridCol w="2743200"/>
                <a:gridCol w="2819520"/>
                <a:gridCol w="320040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EFF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AP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people live in the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 live on the coas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Archite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 maximize sp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sule Hotels, Skyscrapers, Sky 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gested roads, pollution, difficult waste remo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transportation, subways, bu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pan’s Adaptations - 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just been elected as mayor of Tokyo.  What is your plan to address the city’s population density probl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each of these issues in your plan and explain how they will 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ing (1 strategy and expla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(1 strategy and expla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e (1 strategy and expla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200px-Skycity1000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295280"/>
            <a:ext cx="39337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pan’s Adap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4800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just been elected as mayor of Tokyo.  What is your plan to address the city’s population density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each of these issues in your plan and explain how they will 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ing (3 strate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(2 strate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iculture (1 strateg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200px-Skycity1000_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295280"/>
            <a:ext cx="39337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square-mellon"/>
          <p:cNvPicPr/>
          <p:nvPr/>
        </p:nvPicPr>
        <p:blipFill>
          <a:blip r:embed="rId1"/>
          <a:stretch/>
        </p:blipFill>
        <p:spPr>
          <a:xfrm>
            <a:off x="533520" y="1219320"/>
            <a:ext cx="8229600" cy="5635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would it benefit people in Japan to have square watermel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A street in Hong Kong, one of the most densely populated places in the world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81200"/>
            <a:ext cx="9144000" cy="6076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es Japan have a high population dens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28600" y="380880"/>
            <a:ext cx="3505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70% of Japan is mountaino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fujisan1"/>
          <p:cNvPicPr/>
          <p:nvPr/>
        </p:nvPicPr>
        <p:blipFill>
          <a:blip r:embed="rId1"/>
          <a:stretch/>
        </p:blipFill>
        <p:spPr>
          <a:xfrm>
            <a:off x="3886200" y="0"/>
            <a:ext cx="51768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5029200" y="0"/>
            <a:ext cx="4114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ole country must fit on 30% of the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60% of the population of Japan lives on 3% of the land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3"/>
          <p:cNvSpPr txBox="1"/>
          <p:nvPr/>
        </p:nvSpPr>
        <p:spPr>
          <a:xfrm>
            <a:off x="228600" y="4648320"/>
            <a:ext cx="8534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igh Population Densit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590920"/>
            <a:ext cx="7619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is tell you about JAPAN’S POPULATION DENSITY??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sule Hot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Clip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y does Japan need capsule hote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ould you ever stay in a capsule hotel? Explain why or why no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SCN0970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228600" y="3886200"/>
            <a:ext cx="3657600" cy="31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panese Capsule Hotel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$50 US dollars/n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apsule Hotel beds stacked 2 u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2:11:43Z</dcterms:created>
  <dc:creator>Patti Jo Osterberger</dc:creator>
  <dc:description/>
  <dc:language>en-US</dc:language>
  <cp:lastModifiedBy>CFISD</cp:lastModifiedBy>
  <dcterms:modified xsi:type="dcterms:W3CDTF">2009-04-20T19:18:14Z</dcterms:modified>
  <cp:revision>48</cp:revision>
  <dc:subject/>
  <dc:title>Slide 1</dc:title>
</cp:coreProperties>
</file>