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763A-C8B4-4120-BDDA-70A374AAC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A733-EDB3-4D67-B836-0E25FCC9F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8DF6-4813-4957-B8AC-E891A4ABC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8056-C4F6-479F-A99D-02FB104F8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2C05-69AB-4EE9-BBB6-DBF9C1F6D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7ED4-479C-4439-AA62-D4C1A8D10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EAE0-74F8-4D8C-BAF4-B4325147F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3D21-154B-48C5-9640-67F7A9431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17A4-BBF4-4450-8CE0-824F6B307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BBC4-ABAE-439F-8D59-12F82207C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A56-32BF-418C-A210-74325E54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A65-1205-4F55-A7EF-7EE55127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5292-3903-462A-AFD1-6AFBB86E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9E5-E038-44A8-9B4B-6F9BC812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B66-4386-4C23-B196-5958CFA4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8DF1-ABE4-4050-90E8-C648D818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622-D53B-42AA-985A-7F675B93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ABC-6C75-496A-8190-C53FB61C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4CF-60E1-42AA-BC57-0966BE6E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604E-A2DF-44D7-A4A7-826F10EC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06C7-AE93-414D-BE1D-8DB0E001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131-5434-4EB5-AB32-B6B09A38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6482-007C-4F55-8EC2-45F5D5C4F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ycity1000_0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ycity1000_0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rowd_in_H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obeats.com/videoclips/japan/tokyo/capsule-hote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962520" y="251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3825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does Japan deal with a lack of space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71360" y="1219320"/>
            <a:ext cx="880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pacts of High Population Dens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066680"/>
          <a:ext cx="8763120" cy="495288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8600" y="1066680"/>
          <a:ext cx="8763120" cy="541008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these questions to help you complete your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uid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ffect does Japan’s population density have on ___________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ave the Japanese adapted their ___________ to their high population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Terraced farming - used by many farmers in places with mountainous terr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ject 3" descr=""/>
          <p:cNvPicPr/>
          <p:nvPr/>
        </p:nvPicPr>
        <p:blipFill>
          <a:blip r:embed="rId1"/>
          <a:stretch/>
        </p:blipFill>
        <p:spPr>
          <a:xfrm>
            <a:off x="0" y="2332080"/>
            <a:ext cx="708660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7315200" y="2209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238880" y="2971800"/>
            <a:ext cx="190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 Shortage of arabl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28600" y="228600"/>
          <a:ext cx="8763120" cy="604980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, shortage of arable 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ed Far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Urb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popmap1"/>
          <p:cNvPicPr/>
          <p:nvPr/>
        </p:nvPicPr>
        <p:blipFill>
          <a:blip r:embed="rId1"/>
          <a:srcRect l="14063" t="0" r="15162" b="0"/>
          <a:stretch/>
        </p:blipFill>
        <p:spPr>
          <a:xfrm>
            <a:off x="-1440" y="1371600"/>
            <a:ext cx="464652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Picture 8" descr="topomap1"/>
          <p:cNvPicPr/>
          <p:nvPr/>
        </p:nvPicPr>
        <p:blipFill>
          <a:blip r:embed="rId2"/>
          <a:srcRect l="4614" t="5051" r="0" b="22558"/>
          <a:stretch/>
        </p:blipFill>
        <p:spPr>
          <a:xfrm>
            <a:off x="4648320" y="1371600"/>
            <a:ext cx="4495680" cy="5486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4648320" y="304920"/>
            <a:ext cx="2666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this affect population distribu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/>
          <p:cNvSpPr/>
          <p:nvPr/>
        </p:nvSpPr>
        <p:spPr>
          <a:xfrm rot="20700600">
            <a:off x="152280" y="4495320"/>
            <a:ext cx="3581640" cy="1067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648320" y="2590920"/>
            <a:ext cx="2666880" cy="287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ect </a:t>
            </a:r>
            <a:r>
              <a:rPr b="0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Most people live in c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daptation </a:t>
            </a:r>
            <a:r>
              <a:rPr b="0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People live on the co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8600" y="1066680"/>
          <a:ext cx="8763120" cy="544536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ed Far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people live in the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live on the coa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Architecture: Sky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omplete these beneath your c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is Sky City an adaptation to population densit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type of problems could make Sky City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28600" y="1066680"/>
          <a:ext cx="8763120" cy="572472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ed Far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people live in the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live on the coa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, Skyscrapers, Sky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. 630-631 to complete the Infrastructure portion of the ch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uiding Questions: ADD TO YOUR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effect does Japan’s population density have on infrastruct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have the Japanese adapted their infrastructure to their high population dens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tokyo2"/>
          <p:cNvPicPr/>
          <p:nvPr/>
        </p:nvPicPr>
        <p:blipFill>
          <a:blip r:embed="rId1"/>
          <a:stretch/>
        </p:blipFill>
        <p:spPr>
          <a:xfrm>
            <a:off x="4267080" y="1219320"/>
            <a:ext cx="4648320" cy="5029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4648320" y="62485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E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280" y="762120"/>
          <a:ext cx="8763120" cy="502596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people live in the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live on the coa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, Skyscrapers, Sky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ed roads, pollution, difficult waste remo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transportation, subways, bu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’s Adaptations - 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just been elected as mayor of Tokyo.  What is your plan to address the city’s population density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each of these issues in your plan and explain how they will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ing (1 strategy and expla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(1 strategy and expla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e (1 strategy and expla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200px-Skycity1000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295280"/>
            <a:ext cx="39337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’s Adap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just been elected as mayor of Tokyo.  What is your plan to address the city’s population density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each of these issues in your plan and explain how they will 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(3 strate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(2 strate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e (1 strate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200px-Skycity1000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295280"/>
            <a:ext cx="39337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quare-mellon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5635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would it benefit people in Japan to have square watermel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A street in Hong Kong, one of the most densely populated places in the world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es Japan have a high population dens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28600" y="380880"/>
            <a:ext cx="3505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70% of Japan is mountaino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fujisan1"/>
          <p:cNvPicPr/>
          <p:nvPr/>
        </p:nvPicPr>
        <p:blipFill>
          <a:blip r:embed="rId1"/>
          <a:stretch/>
        </p:blipFill>
        <p:spPr>
          <a:xfrm>
            <a:off x="3886200" y="0"/>
            <a:ext cx="51768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5029200" y="0"/>
            <a:ext cx="4114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ole country must fit on 30% of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60% of the population of Japan lives on 3% of the la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228600" y="4648320"/>
            <a:ext cx="8534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igh Population Densit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59092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tell you about JAPAN’S POPULATION DENSITY??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sule Hot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Clip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does Japan need capsule hote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ould you ever stay in a capsule hotel? Explain why or why no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SCN0970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28600" y="3886200"/>
            <a:ext cx="3657600" cy="31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ese Capsule Hotel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$50 US dollars/n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apsule Hotel beds stacked 2 u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2:11:43Z</dcterms:created>
  <dc:creator>Patti Jo Osterberger</dc:creator>
  <dc:description/>
  <dc:language>en-US</dc:language>
  <cp:lastModifiedBy>CFISD</cp:lastModifiedBy>
  <dcterms:modified xsi:type="dcterms:W3CDTF">2009-04-20T19:18:14Z</dcterms:modified>
  <cp:revision>48</cp:revision>
  <dc:subject/>
  <dc:title>Slide 1</dc:title>
</cp:coreProperties>
</file>