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EAFF-1833-4271-8FC0-70C9E34BF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7E71-66AF-44D4-BF6B-AC4304FC8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A018-1EA5-49B1-A671-80DE9DEDB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0E1B-9991-418D-89E7-69CF6731C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25CB2-199F-4E32-9847-4F9EE69D2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4D28-BA8A-4C3B-9DDE-FA9B230F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8EDE-89A9-4D9B-A22A-3688D598B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4523-7E4D-4BF9-A043-85142BF6B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6F77-D235-4946-8509-61C7FF267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285A-E36E-4E73-B618-2C701F305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39C-AC21-4882-82B7-FC6A2740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AAB2-8D8B-4E40-9352-840D9479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372-04AE-4E4F-B3ED-19B45C614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593-6D2B-4F72-866D-17F5DD43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E05-9DC6-48EF-A78D-076E6254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3D9-A811-4579-8EBF-BDE54F0C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09A-BD79-4CAE-86E0-A76238DE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B4C-DF8A-4722-A9C9-2B52EA0F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3C24-6FFC-4CB1-B75F-6475B1B7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20E9-57E3-4AA2-9580-BFBACC3C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B709-FAD9-47E3-844D-BD8A92D4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BE1A-5137-4450-8B98-BC1D394F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BC55-4532-4420-AD49-0FE8597F8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rowd_in_H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obeats.com/videoclips/japan/tokyo/capsule-hote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625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3825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does Japan deal with a lack of space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71360" y="1219320"/>
            <a:ext cx="880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pacts of High Population Dens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066680"/>
          <a:ext cx="876312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1066680"/>
          <a:ext cx="8763120" cy="54100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se questions to help you complete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id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does Japan’s population density have on ___________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the Japanese adapted their ___________ to their high population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rraced farming - used by many farmers in places with mountainous ter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0" y="2332080"/>
            <a:ext cx="7086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731520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238880" y="29718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Shortage of arabl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228600"/>
          <a:ext cx="8763120" cy="6049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, shortage of arable 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Urb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opmap1"/>
          <p:cNvPicPr/>
          <p:nvPr/>
        </p:nvPicPr>
        <p:blipFill>
          <a:blip r:embed="rId1"/>
          <a:srcRect l="14063" t="0" r="15162" b="0"/>
          <a:stretch/>
        </p:blipFill>
        <p:spPr>
          <a:xfrm>
            <a:off x="-1440" y="1371600"/>
            <a:ext cx="46465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8" descr="topomap1"/>
          <p:cNvPicPr/>
          <p:nvPr/>
        </p:nvPicPr>
        <p:blipFill>
          <a:blip r:embed="rId2"/>
          <a:srcRect l="4614" t="5051" r="0" b="22558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648320" y="304920"/>
            <a:ext cx="2666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this affect population distrib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 rot="20700600">
            <a:off x="152280" y="4495320"/>
            <a:ext cx="358164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48320" y="2590920"/>
            <a:ext cx="2666880" cy="287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Most people live in c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aptation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People live on the co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066680"/>
          <a:ext cx="8763120" cy="54453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rchitecture: Sky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mplete these beneath your c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Sky City an adaptation to population dens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problems could make Sky City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066680"/>
          <a:ext cx="8763120" cy="572472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30-631 to complete the Infrastructure portion of the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ing Questions: ADD TO YOU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effect does Japan’s population density have on infrastruc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have the Japanese adapted their infrastructure to their high population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tokyo2"/>
          <p:cNvPicPr/>
          <p:nvPr/>
        </p:nvPicPr>
        <p:blipFill>
          <a:blip r:embed="rId1"/>
          <a:stretch/>
        </p:blipFill>
        <p:spPr>
          <a:xfrm>
            <a:off x="4267080" y="121932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4648320" y="6248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762120"/>
          <a:ext cx="8763120" cy="50259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ed roads, pollution, difficult waste remo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transportation, subways, bu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3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(2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 (1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quare-mellon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63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ould it benefit people in Japan to have square waterme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 street in Hong Kong, one of the most densely populated places in the worl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Japan have a high population den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380880"/>
            <a:ext cx="3505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70% of Japan is mountain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ujisan1"/>
          <p:cNvPicPr/>
          <p:nvPr/>
        </p:nvPicPr>
        <p:blipFill>
          <a:blip r:embed="rId1"/>
          <a:stretch/>
        </p:blipFill>
        <p:spPr>
          <a:xfrm>
            <a:off x="3886200" y="0"/>
            <a:ext cx="5176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029200" y="0"/>
            <a:ext cx="4114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ole country must fit on 30%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60% of the population of Japan lives on 3% of the la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228600" y="4648320"/>
            <a:ext cx="8534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gh Population Dens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90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tell you about JAPAN’S POPULATION DENSITY??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ule Hot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Japan need capsule hot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ould you ever stay in a capsule hotel? Explain why or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SCN097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886200"/>
            <a:ext cx="3657600" cy="31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ese Capsule Hotel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50 US dollars/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psule Hotel beds stacked 2 u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2:11:43Z</dcterms:created>
  <dc:creator>Patti Jo Osterberger</dc:creator>
  <dc:description/>
  <dc:language>en-US</dc:language>
  <cp:lastModifiedBy>CFISD</cp:lastModifiedBy>
  <dcterms:modified xsi:type="dcterms:W3CDTF">2009-04-20T19:18:14Z</dcterms:modified>
  <cp:revision>48</cp:revision>
  <dc:subject/>
  <dc:title>Slide 1</dc:title>
</cp:coreProperties>
</file>