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91AF-1226-4243-BF7E-86D5923B2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7095-C360-446E-812E-AC3A6F331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8CE8-2768-45CB-BFB2-C460626EC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D63E-A2F0-4F1B-9415-C5C071106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25C1-BF03-4D54-8615-F219498BE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715D-038B-4F53-BB1A-5283E94BE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3305-838F-4ECB-AE1B-61409F5FE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6D3D-AC4B-4FB8-8A4D-CEDD064DC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0FF4-08A7-438F-BA0C-2B9E677A7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11E8-BB4E-42ED-9137-D929DB67E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5A6-4578-4DB8-B3FD-C340A248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59F-91CD-43B9-AF61-B8AC521D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792-B11B-436C-8840-8A365547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DC8-61DC-40D9-9030-BBEEFD71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EC6-508B-40E6-9252-A505F681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A04-F59A-4E1A-8F1D-92154CAC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96B-F4A5-4034-86E0-876F97CB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405-7B05-47C7-B0BC-149B3635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6CA-A94C-4042-B421-4760E1FA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E2A-C29B-47AE-B4A4-C1F25039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B58-5A26-436C-A215-24EA482A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BF6-BB09-41FD-9548-7C1F1FBC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24BA-0FAB-4B10-8624-AE8AAE3BA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ycity1000_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ycity1000_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rowd_in_H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obeats.com/videoclips/japan/tokyo/capsule-hote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9625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3825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does Japan deal with a lack of space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71360" y="1219320"/>
            <a:ext cx="880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pacts of High Population Dens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066680"/>
          <a:ext cx="876312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1066680"/>
          <a:ext cx="8763120" cy="54100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se questions to help you complete your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uid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does Japan’s population density have on ___________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ve the Japanese adapted their ___________ to their high population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erraced farming - used by many farmers in places with mountainous ter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3" descr=""/>
          <p:cNvPicPr/>
          <p:nvPr/>
        </p:nvPicPr>
        <p:blipFill>
          <a:blip r:embed="rId1"/>
          <a:stretch/>
        </p:blipFill>
        <p:spPr>
          <a:xfrm>
            <a:off x="0" y="2332080"/>
            <a:ext cx="708660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7315200" y="2209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238880" y="297180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Shortage of arabl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8600" y="228600"/>
          <a:ext cx="8763120" cy="604980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, shortage of arable 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Urb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opmap1"/>
          <p:cNvPicPr/>
          <p:nvPr/>
        </p:nvPicPr>
        <p:blipFill>
          <a:blip r:embed="rId1"/>
          <a:srcRect l="14063" t="0" r="15162" b="0"/>
          <a:stretch/>
        </p:blipFill>
        <p:spPr>
          <a:xfrm>
            <a:off x="-1440" y="1371600"/>
            <a:ext cx="464652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8" descr="topomap1"/>
          <p:cNvPicPr/>
          <p:nvPr/>
        </p:nvPicPr>
        <p:blipFill>
          <a:blip r:embed="rId2"/>
          <a:srcRect l="4614" t="5051" r="0" b="22558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648320" y="304920"/>
            <a:ext cx="2666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this affect population distrib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 rot="20700600">
            <a:off x="152280" y="4495320"/>
            <a:ext cx="358164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48320" y="2590920"/>
            <a:ext cx="2666880" cy="287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 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Most people live in c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daptation 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People live on the co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066680"/>
          <a:ext cx="8763120" cy="544536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rchitecture: Sky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mplete these beneath your c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is Sky City an adaptation to population dens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type of problems could make Sky City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1066680"/>
          <a:ext cx="8763120" cy="572472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, Skyscrapers, Sky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. 630-631 to complete the Infrastructure portion of the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uiding Questions: ADD TO YOUR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effect does Japan’s population density have on infrastruc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have the Japanese adapted their infrastructure to their high population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tokyo2"/>
          <p:cNvPicPr/>
          <p:nvPr/>
        </p:nvPicPr>
        <p:blipFill>
          <a:blip r:embed="rId1"/>
          <a:stretch/>
        </p:blipFill>
        <p:spPr>
          <a:xfrm>
            <a:off x="4267080" y="1219320"/>
            <a:ext cx="4648320" cy="5029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4648320" y="6248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762120"/>
          <a:ext cx="8763120" cy="502596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, Skyscrapers, Sky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ed roads, pollution, difficult waste remo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transportation, subways, bu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’s Adaptations -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just been elected as mayor of Tokyo.  What is your plan to address the city’s population density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each of these issues in your plan and explain how they will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ing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00px-Skycity1000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’s Adap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just been elected as mayor of Tokyo.  What is your plan to address the city’s population density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each of these issues in your plan and explain how they will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(3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(2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 (1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200px-Skycity1000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quare-mellon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563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ould it benefit people in Japan to have square watermel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 street in Hong Kong, one of the most densely populated places in the worl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Japan have a high population dens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380880"/>
            <a:ext cx="3505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70% of Japan is mountain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ujisan1"/>
          <p:cNvPicPr/>
          <p:nvPr/>
        </p:nvPicPr>
        <p:blipFill>
          <a:blip r:embed="rId1"/>
          <a:stretch/>
        </p:blipFill>
        <p:spPr>
          <a:xfrm>
            <a:off x="3886200" y="0"/>
            <a:ext cx="5176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5029200" y="0"/>
            <a:ext cx="4114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ole country must fit on 30% of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60% of the population of Japan lives on 3% of the la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228600" y="4648320"/>
            <a:ext cx="8534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igh Population Densi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590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tell you about JAPAN’S POPULATION DENSITY??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sule Hot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lip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does Japan need capsule hot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ould you ever stay in a capsule hotel? Explain why or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SCN097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600" y="3886200"/>
            <a:ext cx="3657600" cy="31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ese Capsule Hotel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$50 US dollars/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apsule Hotel beds stacked 2 u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2:11:43Z</dcterms:created>
  <dc:creator>Patti Jo Osterberger</dc:creator>
  <dc:description/>
  <dc:language>en-US</dc:language>
  <cp:lastModifiedBy>CFISD</cp:lastModifiedBy>
  <dcterms:modified xsi:type="dcterms:W3CDTF">2009-04-20T19:18:14Z</dcterms:modified>
  <cp:revision>48</cp:revision>
  <dc:subject/>
  <dc:title>Slide 1</dc:title>
</cp:coreProperties>
</file>