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77E-CE34-44FC-B839-971296D7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8BED-CD65-4D76-BDB0-D9023945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617-9458-423D-BE0B-A3FA0402C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89E3-EB5D-45D8-9179-6A25A736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8EE-6D06-4857-B4A3-C04193B7C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9BD-BEA5-4868-A4F7-93D04FF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677-4F4F-417C-B5A7-D3FE2DFE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D0F7-8C12-40E8-A86F-78736B98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A91-D7A8-469B-B5C3-038B8078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6E6-D609-4C01-A921-2766C4A5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4A3-4093-4191-B6F4-E0B5EFC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963-22E2-4328-B32E-99971428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BDA-D719-4424-8DEB-323F31D02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scnet.ucla.edu/southasia/History/Independent/partition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the marches a symbolic effort rather than a literal on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Gandhi utilize the med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website below to answer the following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scnet.ucla.edu/southasia/History/Independent/partition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people migrated because of the Parti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many people di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happened to women during the Parti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the partition is an example of genocide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people migrate to the country where their religion is 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s to Pakistan, Hindus to In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Bangladesh is create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Predict that problems that could develop for Pakist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495680" cy="3975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24080" y="5105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 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flipH="1">
            <a:off x="1219320" y="3733920"/>
            <a:ext cx="258480" cy="260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 flipH="1">
            <a:off x="380520" y="6324480"/>
            <a:ext cx="258840" cy="260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a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rcRect l="0" t="5557" r="15256" b="0"/>
          <a:stretch/>
        </p:blipFill>
        <p:spPr>
          <a:xfrm>
            <a:off x="4572000" y="2971800"/>
            <a:ext cx="4572000" cy="388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772400" y="3962520"/>
            <a:ext cx="114300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5715000"/>
            <a:ext cx="14479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ity of Muslim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72200" y="4724280"/>
            <a:ext cx="19051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s for Pakis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answers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ance between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ajor enemy, India, is between both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vernment is in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the population is in Ea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 your response to the task if necess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Pakistan gets help from India and  defeats West Pakistan to win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new countr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Banglad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s Hindu-Muslim violence:  Causes Indo-Pakistani War of 19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BANGLADESH – East Pakistan and West Pakistan are 2 new independent 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Conflict in 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Moonland"/>
          <p:cNvPicPr/>
          <p:nvPr/>
        </p:nvPicPr>
        <p:blipFill>
          <a:blip r:embed="rId1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Record this as the sixth effect of the Partition.  Get your Partition notes/tasks approved and move on to the Kashmir s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ivision, to split something 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2147760"/>
            <a:ext cx="1952640" cy="1952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638680" y="1676520"/>
            <a:ext cx="2405160" cy="2600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981080" y="4419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495680" y="4952880"/>
            <a:ext cx="25146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8332" t="7944" r="12499" b="0"/>
          <a:stretch/>
        </p:blipFill>
        <p:spPr>
          <a:xfrm>
            <a:off x="0" y="25560"/>
            <a:ext cx="8305920" cy="6832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52533" t="73780" r="7487" b="0"/>
          <a:stretch/>
        </p:blipFill>
        <p:spPr>
          <a:xfrm>
            <a:off x="4495680" y="4038480"/>
            <a:ext cx="4648320" cy="281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419720" y="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666" t="7744" r="20001" b="0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rcRect l="50843" t="68541" r="8332" b="3755"/>
          <a:stretch/>
        </p:blipFill>
        <p:spPr>
          <a:xfrm>
            <a:off x="4876920" y="4114800"/>
            <a:ext cx="426708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419720" y="152280"/>
            <a:ext cx="45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of Indian Subconti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572000"/>
            <a:ext cx="213372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Click back and forth quickly between this slide and the previous one.  Notice where each group is loc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dict what will happen after the British leave India (decolonization)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64832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495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India is decolonized, the Muslims and Hindus want their own separat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ivides into 2 separate countries, India and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ffects of the Part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D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reated as a Hindu Count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KIST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reated as a Muslim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2 sections, East and West Pak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981080" y="2743200"/>
            <a:ext cx="4952880" cy="4114440"/>
            <a:chOff x="1981080" y="2743200"/>
            <a:chExt cx="4952880" cy="41144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981080" y="2743200"/>
              <a:ext cx="495288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251680" y="5160240"/>
              <a:ext cx="14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7560" y="3493080"/>
              <a:ext cx="168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st Pakist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9400" y="4410000"/>
              <a:ext cx="12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5532120" y="4659840"/>
              <a:ext cx="187200" cy="58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ff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533520"/>
            <a:ext cx="396252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du and Muslim violence increases after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 works hard for unity and non-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219320"/>
            <a:ext cx="4694040" cy="36129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14800" y="4876920"/>
            <a:ext cx="4648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innah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lim Leader with Gandhi – Hindu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6019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Par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5867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ts unity, one diverse 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3341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7467120" y="5257800"/>
            <a:ext cx="38124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18:20Z</dcterms:created>
  <dc:creator>CFISD</dc:creator>
  <dc:description/>
  <dc:language>en-US</dc:language>
  <cp:lastModifiedBy>CFISD</cp:lastModifiedBy>
  <dcterms:modified xsi:type="dcterms:W3CDTF">2009-03-27T12:30:12Z</dcterms:modified>
  <cp:revision>25</cp:revision>
  <dc:subject/>
  <dc:title>Partition</dc:title>
</cp:coreProperties>
</file>