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EC9-D857-4AE6-A700-EBAD71B8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D6C-AC2F-4199-B43E-863B2271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02E-8D05-41F8-B7FD-DB60FA90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E07-AA4D-4BDF-9965-8C9B8DC6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2AF-C328-4270-BE2A-68ED0B79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60B-5B21-44F4-AF0F-C2B243CA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44F-6A5B-4CE0-9691-FD1AB5FA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0C2-878A-43C9-A4D3-E505E60A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F74-E4C5-460F-BA74-206451F8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A8D-515C-4ACC-A7EE-AB6FC6B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946-0E99-4226-AB56-7C988DD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727-1BDD-4E81-8556-FEBFBFC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793-556A-44DA-A289-79A1F274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scnet.ucla.edu/southasia/History/Independent/partition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the marches a symbolic effort rather than a literal o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Gandhi utilize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ebsite below to answer the follow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scnet.ucla.edu/southasia/History/Independent/parti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people migrated because of the Part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many people di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happened to women during the Parti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the partition is an example of genocide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people migrate to the country where their religion is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s to Pakistan, Hindu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Bangladesh is c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Predict that problems that could develop for Pakist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495680" cy="397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24080" y="5105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flipH="1">
            <a:off x="1219320" y="3733920"/>
            <a:ext cx="258480" cy="26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>
            <a:off x="380520" y="6324480"/>
            <a:ext cx="258840" cy="260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5557" r="15256" b="0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772400" y="3962520"/>
            <a:ext cx="11430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715000"/>
            <a:ext cx="1447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of Muslim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72200" y="4724280"/>
            <a:ext cx="19051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r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answer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enemy, India, is between both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in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the population is in Ea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your response to the task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Pakistan gets help from India and  defeats West Pakistan to wi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new count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nglad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Hindu-Muslim violence:  Causes Indo-Pakistani War of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ANGLADESH – East Pakistan and West Pakistan are 2 new independent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Conflict in 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Moonland"/>
          <p:cNvPicPr/>
          <p:nvPr/>
        </p:nvPicPr>
        <p:blipFill>
          <a:blip r:embed="rId1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Record this as the sixth effect of the Partition.  Get your Partition notes/tasks approved and move on to the Kashmir s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vision, to split someth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214776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2405160" cy="26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8108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95680" y="4952880"/>
            <a:ext cx="25146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8332" t="7944" r="12499" b="0"/>
          <a:stretch/>
        </p:blipFill>
        <p:spPr>
          <a:xfrm>
            <a:off x="0" y="25560"/>
            <a:ext cx="8305920" cy="683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2533" t="73780" r="7487" b="0"/>
          <a:stretch/>
        </p:blipFill>
        <p:spPr>
          <a:xfrm>
            <a:off x="4495680" y="4038480"/>
            <a:ext cx="4648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19720" y="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666" t="7744" r="20001" b="0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0843" t="68541" r="8332" b="3755"/>
          <a:stretch/>
        </p:blipFill>
        <p:spPr>
          <a:xfrm>
            <a:off x="4876920" y="4114800"/>
            <a:ext cx="426708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419720" y="15228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72000"/>
            <a:ext cx="213372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Click back and forth quickly between this slide and the previous one.  Notice where each group is loc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dict what will happen after the British leave India (decolonization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dia is decolonized, the Muslims and Hindus want their own separat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divides into 2 separate countries, India and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the Par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reated as a Hindu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KIST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reated as a Muslim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2 sections,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81080" y="2743200"/>
            <a:ext cx="4952880" cy="4114440"/>
            <a:chOff x="1981080" y="2743200"/>
            <a:chExt cx="4952880" cy="41144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981080" y="2743200"/>
              <a:ext cx="49528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251680" y="516024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7560" y="349308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9400" y="4410000"/>
              <a:ext cx="12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532120" y="4659840"/>
              <a:ext cx="187200" cy="5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39625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 and Muslim violence increases after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 works hard for unity and non-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219320"/>
            <a:ext cx="4694040" cy="361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14800" y="48769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na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lim Leader with Gandhi – Hindu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6019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5867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unity, one diverse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5257800"/>
            <a:ext cx="3812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8:20Z</dcterms:created>
  <dc:creator>CFISD</dc:creator>
  <dc:description/>
  <dc:language>en-US</dc:language>
  <cp:lastModifiedBy>CFISD</cp:lastModifiedBy>
  <dcterms:modified xsi:type="dcterms:W3CDTF">2009-03-27T12:30:12Z</dcterms:modified>
  <cp:revision>25</cp:revision>
  <dc:subject/>
  <dc:title>Partition</dc:title>
</cp:coreProperties>
</file>