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C85-FD2E-4B2A-BD67-9F8B9BE7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CF1-E1D6-4249-9D58-8A276EF8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AF5-6AA3-46A0-B7B0-05CF3ED5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61D-CD9C-449F-82AE-1932814D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A30-6F19-4CAC-A624-F14E30A8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C94-615A-4517-BEB2-D245AB2F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8D5-3C7E-4B99-93CF-55DF1A8E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07C-55DF-4590-BDBF-637B7D19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DEB-872C-49FE-94A9-D24E912E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7C2-B813-4FB4-9E93-55370BFD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647-A401-403A-8748-9711190E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637-2E1D-43F6-8297-7FCF4896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8D5A-05EB-406D-9CB4-506687C59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scnet.ucla.edu/southasia/History/Independent/partition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innah_Gandhi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ndhi’s Salt Mar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the marches a symbolic effort rather than a literal on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does Gandhi utilize the me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website below to answer the follow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scnet.ucla.edu/southasia/History/Independent/partit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many people migrated because of the Part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many people di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happened to women during the Parti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the partition is an example of genocide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the Par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s of people migrate to the country where their religion is 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lims to Pakistan, Hindus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Bangladesh is cre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Predict that problems that could develop for Pakist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495680" cy="3975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124080" y="5105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flipH="1">
            <a:off x="1219320" y="3733920"/>
            <a:ext cx="258480" cy="26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flipH="1">
            <a:off x="380520" y="6324480"/>
            <a:ext cx="258840" cy="260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248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rcRect l="0" t="5557" r="15256" b="0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772400" y="3962520"/>
            <a:ext cx="11430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715000"/>
            <a:ext cx="1447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ity of Muslim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72200" y="4724280"/>
            <a:ext cx="19051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for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answer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between East and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enemy, India, is between both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is in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ity of the population is in Ea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your response to the task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Pakistan gets help from India and  defeats West Pakistan to win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new count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anglade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Hindu-Muslim violence:  Causes Indo-Pakistani War of 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Par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ANGLADESH – East Pakistan and West Pakistan are 2 new independent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2882880"/>
            <a:ext cx="4419720" cy="3975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240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Conflict in Kash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Moonland"/>
          <p:cNvPicPr/>
          <p:nvPr/>
        </p:nvPicPr>
        <p:blipFill>
          <a:blip r:embed="rId1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Record this as the sixth effect of the Partition.  Get your Partition notes/tasks approved and move on to the Kashmir s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ivision, to split something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2147760"/>
            <a:ext cx="1952640" cy="195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38680" y="1676520"/>
            <a:ext cx="2405160" cy="2600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8108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495680" y="4952880"/>
            <a:ext cx="25146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8332" t="7944" r="12499" b="0"/>
          <a:stretch/>
        </p:blipFill>
        <p:spPr>
          <a:xfrm>
            <a:off x="0" y="25560"/>
            <a:ext cx="8305920" cy="6832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52533" t="73780" r="7487" b="0"/>
          <a:stretch/>
        </p:blipFill>
        <p:spPr>
          <a:xfrm>
            <a:off x="4495680" y="4038480"/>
            <a:ext cx="4648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419720" y="0"/>
            <a:ext cx="45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of Indian Sub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666" t="7744" r="20001" b="0"/>
          <a:stretch/>
        </p:blipFill>
        <p:spPr>
          <a:xfrm>
            <a:off x="0" y="0"/>
            <a:ext cx="83059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50843" t="68541" r="8332" b="3755"/>
          <a:stretch/>
        </p:blipFill>
        <p:spPr>
          <a:xfrm>
            <a:off x="4876920" y="4114800"/>
            <a:ext cx="426708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419720" y="152280"/>
            <a:ext cx="45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of Indian Sub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572000"/>
            <a:ext cx="213372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Click back and forth quickly between this slide and the previous one.  Notice where each group is loc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dict what will happen after the British leave India (decolonization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ndia is decolonized, the Muslims and Hindus want their own separate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divides into 2 separate countries, India and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ffects of the Par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reated as a Hindu Count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KIST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reated as a Muslim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2 sections, East and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81080" y="2743200"/>
            <a:ext cx="4952880" cy="4114440"/>
            <a:chOff x="1981080" y="2743200"/>
            <a:chExt cx="4952880" cy="41144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981080" y="2743200"/>
              <a:ext cx="4952880" cy="41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251680" y="5160240"/>
              <a:ext cx="14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st Pakis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67560" y="349308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st Pakis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9400" y="4410000"/>
              <a:ext cx="12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532120" y="4659840"/>
              <a:ext cx="187200" cy="58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39625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 and Muslim violence increases after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ndhi works hard for unity and non-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Jinnah with Gandhi, 1944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219320"/>
            <a:ext cx="4694040" cy="3612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14800" y="487692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na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lim Leader with Gandhi – Hindu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6019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s Par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58672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s unity, one diverse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5257800"/>
            <a:ext cx="38124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18:20Z</dcterms:created>
  <dc:creator>CFISD</dc:creator>
  <dc:description/>
  <dc:language>en-US</dc:language>
  <cp:lastModifiedBy>CFISD</cp:lastModifiedBy>
  <dcterms:modified xsi:type="dcterms:W3CDTF">2009-03-27T12:30:12Z</dcterms:modified>
  <cp:revision>25</cp:revision>
  <dc:subject/>
  <dc:title>Partition</dc:title>
</cp:coreProperties>
</file>