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gif" ContentType="image/gif"/>
  <Override PartName="/ppt/media/image7.png" ContentType="image/png"/>
  <Override PartName="/ppt/media/image4.wmf" ContentType="image/x-wmf"/>
  <Override PartName="/ppt/media/image5.jpeg" ContentType="image/jpeg"/>
  <Override PartName="/ppt/media/image9.wmf" ContentType="image/x-wmf"/>
  <Override PartName="/ppt/media/image10.jpeg" ContentType="image/jpeg"/>
  <Override PartName="/ppt/media/image6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1FA4-7FA3-4E79-9CAF-1234FC706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4575-4217-4134-97AD-BA39B5EAF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0C30-E5B5-49EC-99C7-5402BA724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9112-3544-455D-B035-704AE355A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8440-A6DD-494F-A699-82DBCA4B8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3D64-E560-44D2-AF70-E925E7ABF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DF8A-04E3-4387-A295-54FFD1883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4853-68EE-4F30-B818-F2BAE09D0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5DC5-3FBE-44A9-B704-D7F3B9820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7F0B-F22F-43F4-9DFE-8F5BD9B87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2D06-20D6-40E8-9F10-199D467E0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AEDE-40D7-44F6-BECD-60A663BD3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853BE-C64C-48A2-B7A3-6700392DA4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sscnet.ucla.edu/southasia/History/Independent/partition.html" TargetMode="Externa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wmf"/><Relationship Id="rId3" Type="http://schemas.openxmlformats.org/officeDocument/2006/relationships/image" Target="../media/image9.wmf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Jinnah_Gandhi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andhi’s Salt March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p Ques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How are the marches a symbolic effort rather than a literal on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How does Gandhi utilize the medi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tition Read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52280" y="1143000"/>
            <a:ext cx="88394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on the website below to answer the following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scnet.ucla.edu/southasia/History/Independent/partition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Question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How many people migrated because of the Parti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How many people died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What happened to women during the Partition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Do you think the partition is an example of genocide? Explain why or why no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ffects of the Partitio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Mig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llions of people migrate to the country where their religion is in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lims to Pakistan, Hindus to In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. Bangladesh is create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104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sk – Predict that problems that could develop for Pakista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28600" y="2895480"/>
            <a:ext cx="4495680" cy="39751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3124080" y="510552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st Pakist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37339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st Pakist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52480" y="44197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 flipV="1">
            <a:off x="3352680" y="4647960"/>
            <a:ext cx="152640" cy="5331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 flipH="1">
            <a:off x="1219320" y="3733920"/>
            <a:ext cx="258480" cy="2602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 flipH="1">
            <a:off x="380520" y="6324480"/>
            <a:ext cx="258840" cy="2606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685800" y="62485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Capi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4"/>
          <a:srcRect l="0" t="5557" r="15256" b="0"/>
          <a:stretch/>
        </p:blipFill>
        <p:spPr>
          <a:xfrm>
            <a:off x="4572000" y="2971800"/>
            <a:ext cx="4572000" cy="3886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7772400" y="3962520"/>
            <a:ext cx="114300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724280" y="5715000"/>
            <a:ext cx="144792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jority of Muslim popul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6172200" y="4724280"/>
            <a:ext cx="1905120" cy="990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s for Pakist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 your answers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ance between East and West Pakist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ajor enemy, India, is between both se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vernment is in West Pakist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ajority of the population is in East Pakist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rect your response to the task if necess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nglades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t Pakistan gets help from India and  defeats West Pakistan to win independ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s a new country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Banglade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s Hindu-Muslim violence:  Causes Indo-Pakistani War of 197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ffects of the Part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1048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BANGLADESH – East Pakistan and West Pakistan are 2 new independent n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28600" y="2882880"/>
            <a:ext cx="4419720" cy="39751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124080" y="510552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nglade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80880" y="38098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kist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752480" y="44197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 flipV="1">
            <a:off x="3352680" y="4647960"/>
            <a:ext cx="152640" cy="5331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. Conflict in Kashm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Moonland"/>
          <p:cNvPicPr/>
          <p:nvPr/>
        </p:nvPicPr>
        <p:blipFill>
          <a:blip r:embed="rId1"/>
          <a:stretch/>
        </p:blipFill>
        <p:spPr>
          <a:xfrm>
            <a:off x="4968720" y="1600200"/>
            <a:ext cx="3395880" cy="452592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ions: Record this as the sixth effect of the Partition.  Get your Partition notes/tasks approved and move on to the Kashmir sec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t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tition </a:t>
            </a:r>
            <a:r>
              <a:rPr b="0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division, to split something u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62120" y="2147760"/>
            <a:ext cx="1952640" cy="19526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638680" y="1676520"/>
            <a:ext cx="2405160" cy="26002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1981080" y="44197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4495680" y="4952880"/>
            <a:ext cx="251460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8332" t="7944" r="12499" b="0"/>
          <a:stretch/>
        </p:blipFill>
        <p:spPr>
          <a:xfrm>
            <a:off x="0" y="25560"/>
            <a:ext cx="8305920" cy="68324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rcRect l="52533" t="73780" r="7487" b="0"/>
          <a:stretch/>
        </p:blipFill>
        <p:spPr>
          <a:xfrm>
            <a:off x="4495680" y="4038480"/>
            <a:ext cx="4648320" cy="2819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2" name=""/>
          <p:cNvSpPr/>
          <p:nvPr/>
        </p:nvSpPr>
        <p:spPr>
          <a:xfrm>
            <a:off x="4419720" y="0"/>
            <a:ext cx="45720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 of Indian Subconti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1666" t="7744" r="20001" b="0"/>
          <a:stretch/>
        </p:blipFill>
        <p:spPr>
          <a:xfrm>
            <a:off x="0" y="0"/>
            <a:ext cx="830592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rcRect l="50843" t="68541" r="8332" b="3755"/>
          <a:stretch/>
        </p:blipFill>
        <p:spPr>
          <a:xfrm>
            <a:off x="4876920" y="4114800"/>
            <a:ext cx="4267080" cy="2590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5" name=""/>
          <p:cNvSpPr/>
          <p:nvPr/>
        </p:nvSpPr>
        <p:spPr>
          <a:xfrm>
            <a:off x="4419720" y="152280"/>
            <a:ext cx="45720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 of Indian Subconti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28600" y="4572000"/>
            <a:ext cx="2133720" cy="201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ions: Click back and forth quickly between this slide and the previous one.  Notice where each group is locat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sk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redict what will happen after the British leave India (decolonization)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4648320" cy="41148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4956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art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India is decolonized, the Muslims and Hindus want their own separate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a divides into 2 separate countries, India and Pakist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Effects of the Part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NDI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created as a Hindu Country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AKISTA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created as a Muslim Cou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2 sections, East and West Pakist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1981080" y="2743200"/>
            <a:ext cx="4952880" cy="4114440"/>
            <a:chOff x="1981080" y="2743200"/>
            <a:chExt cx="4952880" cy="4114440"/>
          </a:xfrm>
        </p:grpSpPr>
        <p:pic>
          <p:nvPicPr>
            <p:cNvPr id="64" name="" descr=""/>
            <p:cNvPicPr/>
            <p:nvPr/>
          </p:nvPicPr>
          <p:blipFill>
            <a:blip r:embed="rId1"/>
            <a:stretch/>
          </p:blipFill>
          <p:spPr>
            <a:xfrm>
              <a:off x="1981080" y="2743200"/>
              <a:ext cx="4952880" cy="41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5251680" y="5160240"/>
              <a:ext cx="1495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ast Pakist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167560" y="3493080"/>
              <a:ext cx="1681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est Pakist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9400" y="4410000"/>
              <a:ext cx="12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 flipV="1">
              <a:off x="5532120" y="4659840"/>
              <a:ext cx="187200" cy="582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228240" y="533520"/>
            <a:ext cx="396252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3. Viol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du and Muslim violence increases after independ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ndhi works hard for unity and non-viol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Jinnah with Gandhi, 1944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191120" y="1219320"/>
            <a:ext cx="4694040" cy="36129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4114800" y="4876920"/>
            <a:ext cx="4648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innah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uslim Leader with Gandhi – Hindu Lea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505320" y="601992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nts Part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05720" y="586728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nts unity, one diverse In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72000" y="5334120"/>
            <a:ext cx="0" cy="6094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7467120" y="5257800"/>
            <a:ext cx="381240" cy="6094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2T13:18:20Z</dcterms:created>
  <dc:creator>CFISD</dc:creator>
  <dc:description/>
  <dc:language>en-US</dc:language>
  <cp:lastModifiedBy>CFISD</cp:lastModifiedBy>
  <dcterms:modified xsi:type="dcterms:W3CDTF">2009-03-27T12:30:12Z</dcterms:modified>
  <cp:revision>25</cp:revision>
  <dc:subject/>
  <dc:title>Partition</dc:title>
</cp:coreProperties>
</file>