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FB4A-35FF-4FEA-A7C3-08362DF55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3D93-326B-44BC-ACEB-F76EBCA21C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7A55-BFCF-4D52-B002-8A676C9DFF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4ED-5536-4776-BFD7-1BEED8C1E66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2A6-3360-487C-B9DA-B45765F971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A8F-39B2-46FB-B191-F340DCC5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EFE-E555-49ED-B8B8-9CA6560D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C28-9E6A-4D12-A61F-35CD5149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C6AB-0BC9-4538-AF4E-A3CE5A81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5384-A4CD-4669-A5B3-94F72507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05DA-6042-47C7-A50E-B14B16BE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E5F7-1A31-4DCB-9501-57638C49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1A5-9E79-4C5D-B024-3D16EB08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4A11-B5BB-4B1D-B62D-457F51A5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692A-097A-4BA1-BE93-EC02A2DA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FA64-21EA-4E56-B8E1-A16F37F7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8FF-5B36-45A9-AD51-E0608630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775B-9B83-4B9D-BA25-7D949A94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E8C-3EE5-49FC-A7D0-C1545C5D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4B31-BFC4-40E0-8AB2-64A58BE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83D6-BA4D-47C0-A7A1-9F53081C7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DAAC-083B-4C8D-8C6B-A57BC356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05C53-BC96-47A6-B18F-09661E6E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D1A6-14A8-4B0E-ADB3-097D8472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9960-02F6-41A7-A936-ED329883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69C24-78BC-4B71-9C3E-4A383BFD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C3F39-EFE0-4F67-8F75-41E1E337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011D-C39A-4F09-BD9F-4C8CB9F0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7611-4F13-4533-A227-419B13F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02DB-AFDF-4E0A-B0CF-721AFA9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DAF84-9A32-45D6-8CF3-AD07CCFF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D41A9-8B46-4CC1-BB64-01863827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F116-3782-4DD2-BE49-5A5A056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B86D-33A7-40CB-AECF-B254BA6C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DAF47-2499-405E-8DD3-B4C2D200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11CF-28DD-469B-83A0-70B135EA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1943-C7B5-46C0-B162-2D62A56F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3D8EE-D693-400E-A4F0-160B554C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5DB-49EC-4BB1-B9A5-4BB7663B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4230F-B71F-40A4-8FDB-4D60076F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3B6F6-0E78-4F5E-864A-C36B3E65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D32F-4A49-4274-A964-FD6C0979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9042-50ED-486D-BBD5-5D1BE04D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A8273-9646-408B-BD43-6B4B455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F294E-9147-4EF0-A761-ED9A7182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E9C5A-1610-409C-9CA5-F5D6A979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852E2-46FC-412D-BC34-24975A2A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1CA8F-AB81-4895-A473-F49E95E0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19DCD-2AA0-4B29-AC93-C9061AE4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DC3-8DD6-4346-9A78-22C589F0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7D5B2-B645-4BD6-81FD-4995030E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ADFC-EE9E-4311-A6DC-0E5540E4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90494-87B5-49FC-9EB0-9F2A74DD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755D0-10CF-4230-92D4-932726E4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D0DD5-F3AB-4A30-A8DD-1934928B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35B8F-34B1-4FCE-86C1-05E51B96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622B-CACA-4CE1-AB9D-D76D423D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36D11-0178-432D-B95A-67B781C4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3FF26-E680-4571-B658-F5BE1F1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E3F57-B41D-41D8-B34D-B231D9ED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AD0-78F3-4566-9A0E-2B8A3942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CC01-3E81-4D5D-8936-2C23D45F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90228-F516-48E9-BE82-4C9A767C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064E-CE2D-4E8F-B2F5-954D73E6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19FE7-3CB1-4EF8-B103-BB933E0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09775-C47B-498A-86E9-EF11EB59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2A32-E7E7-4768-A59A-FC6F6A7B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B2C42-9A58-4E10-A479-EFC04561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CECCE-D310-4B30-8968-15C6911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61B9E-AFED-4EF1-A576-A947EA05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BF791-B16E-4CD2-8C09-48B3ECF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19CD-594F-4F52-A12B-C8F08B1D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A31F6-7514-4F65-A22A-312BFB6B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B5DAF-0CB2-41FE-AFFB-BC287F6C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4F136-9212-47D0-BD86-4A96F8B1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0ED6-6A51-47A0-BE6C-6C92523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098AD-EF84-4247-9CA5-AE83FCD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1EBCF-1350-4DB4-8254-27D10628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3B739-9088-4B30-918A-E57CF3EF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024C-0056-424B-A84C-DF86DE82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AA8DC-04C8-4DF4-85DF-26A9A7EA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D01EC-FCD9-4ADC-AEC3-F818C4C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A49-B628-4005-A1AA-B1B872E5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4DD1F-D996-41FA-8B72-C40AE6D3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2F28-F6CC-433E-B9D1-34ECB79D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5178-65A4-49D5-A992-D6D924E2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78A91-FEF8-48CC-8143-A206730A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C0E5B-347B-437E-8F30-3DF25099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41C5C-828A-426E-B015-2370B34E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BDB8C-A850-4796-8810-5B42C82D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096B8-9895-494A-A77F-6925ED91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876A0-E7D4-43E8-9A0B-3A6E91BB1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56654-30A1-4B96-A4E0-4769A5B8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062-E082-48CF-ADD4-CA06E713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82CD0-96B2-46D4-8553-9E2049AF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1C655-A3E5-4615-9DD7-7FDD51C8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192DE-8577-4D2D-A160-4C85FFB0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841D3-2B69-4B54-B155-33BF77E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367E5-5499-4EEB-8A64-56BCCC72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6C882-B800-42C1-9ED6-225AFF50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851CB-47E8-4B49-8A55-E119589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38AE-18A2-48B5-BB6D-6009A04C9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C494-9B99-43E8-8BBC-F70270ED5D2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48CA-01C8-4ADF-A7F0-A5F5349BE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76F4-16F9-4FBF-A8C6-0903B76B51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5111-D81A-48B8-9ED1-1128FDC27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B9E8-BA12-441A-9F90-03A7789A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3218-8542-492F-9929-C8836B6D5D55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5146-9EA4-48B7-A760-504846E0489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Rectangle 3" descr=""/>
          <p:cNvPicPr/>
          <p:nvPr/>
        </p:nvPicPr>
        <p:blipFill>
          <a:blip r:embed="rId1"/>
          <a:stretch/>
        </p:blipFill>
        <p:spPr>
          <a:xfrm>
            <a:off x="-55440" y="165240"/>
            <a:ext cx="9358200" cy="1145880"/>
          </a:xfrm>
          <a:prstGeom prst="rect">
            <a:avLst/>
          </a:prstGeom>
          <a:ln w="0">
            <a:noFill/>
          </a:ln>
        </p:spPr>
      </p:pic>
      <p:pic>
        <p:nvPicPr>
          <p:cNvPr id="353" name="Rectangle 4" descr=""/>
          <p:cNvPicPr/>
          <p:nvPr/>
        </p:nvPicPr>
        <p:blipFill>
          <a:blip r:embed="rId2"/>
          <a:stretch/>
        </p:blipFill>
        <p:spPr>
          <a:xfrm>
            <a:off x="1096920" y="5297400"/>
            <a:ext cx="7053480" cy="1116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http://maloof.files.wordpress.com/2007/04/4-1-campaign-to-divert.jpg"/>
          <p:cNvPicPr/>
          <p:nvPr/>
        </p:nvPicPr>
        <p:blipFill>
          <a:blip r:embed="rId3"/>
          <a:stretch/>
        </p:blipFill>
        <p:spPr>
          <a:xfrm>
            <a:off x="1828800" y="1285920"/>
            <a:ext cx="571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200400" y="457200"/>
            <a:ext cx="2476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erspectives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lestinian’s believe Israelis are illegally occupying their lan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4648320" y="34290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373392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raelis say that the land has been theirs and should still be theirs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3" descr=""/>
          <p:cNvPicPr/>
          <p:nvPr/>
        </p:nvPicPr>
        <p:blipFill>
          <a:blip r:embed="rId1"/>
          <a:stretch/>
        </p:blipFill>
        <p:spPr>
          <a:xfrm>
            <a:off x="615960" y="55440"/>
            <a:ext cx="7894800" cy="1103400"/>
          </a:xfrm>
          <a:prstGeom prst="rect">
            <a:avLst/>
          </a:prstGeom>
          <a:ln w="0">
            <a:noFill/>
          </a:ln>
        </p:spPr>
      </p:pic>
      <p:sp>
        <p:nvSpPr>
          <p:cNvPr id="360" name="TextBox 4"/>
          <p:cNvSpPr/>
          <p:nvPr/>
        </p:nvSpPr>
        <p:spPr>
          <a:xfrm>
            <a:off x="1371600" y="1371600"/>
            <a:ext cx="579132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 military blockaded most Israel so Palestinians can’t get to work so there economy collapsed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is illegally occupying the land of the Palestinian peopl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continuously build settlements to push out Palestinians and justify their land claim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Everybody wants to help Israelis, nobody wants to help the Palestinians like in the six days war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Palestinians have a huge reason for their argument because they are they underdogs and get no love from anybody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have used tanks and helicopters to ruin most infrastructure and destroyed their economy even more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army and other Israelis have run the Palestinians out of their on homes using many weapon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1" descr=""/>
          <p:cNvPicPr/>
          <p:nvPr/>
        </p:nvPicPr>
        <p:blipFill>
          <a:blip r:embed="rId1"/>
          <a:stretch/>
        </p:blipFill>
        <p:spPr>
          <a:xfrm>
            <a:off x="1152360" y="55440"/>
            <a:ext cx="6448680" cy="11034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2"/>
          <p:cNvSpPr/>
          <p:nvPr/>
        </p:nvSpPr>
        <p:spPr>
          <a:xfrm>
            <a:off x="1828800" y="1066680"/>
            <a:ext cx="49528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 Israelis believe that Jews should own Jerusalem because it was rightfully theirs long a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claims that they must protect themselves from Palestinian attacks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are scared to even go outside because of the infinadas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 felt the UN Partition Plan was unfair especially when the Palestinians attacked the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Israelis view is that Palestinians are illegally occupying their land that has been theirs since A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Diaspora caused all the Jews to leave their rightful land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~The holocaust was also a huge disaster for the Israeli people as a whole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1" descr=""/>
          <p:cNvPicPr/>
          <p:nvPr/>
        </p:nvPicPr>
        <p:blipFill>
          <a:blip r:embed="rId1"/>
          <a:stretch/>
        </p:blipFill>
        <p:spPr>
          <a:xfrm>
            <a:off x="-42840" y="128520"/>
            <a:ext cx="6059520" cy="11098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2"/>
          <a:stretch/>
        </p:blipFill>
        <p:spPr>
          <a:xfrm>
            <a:off x="5410080" y="228600"/>
            <a:ext cx="3568680" cy="652608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380880" y="1676520"/>
            <a:ext cx="4419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alestinian- the Palestinians get money from the government an get their own army, but promise to lay off the bombings and attack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sraeli- The Israelis must stop the suicidal bombings, and then they will receive Jerusale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oth- Both groups continue with the land arrangements, except for the fact that Jerusalem becomes shared also. One more thing is that The government needs to enforce the law better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01:01:48Z</dcterms:created>
  <dc:creator>Owner</dc:creator>
  <dc:description/>
  <dc:language>en-US</dc:language>
  <cp:lastModifiedBy>cfisd</cp:lastModifiedBy>
  <dcterms:modified xsi:type="dcterms:W3CDTF">2009-03-02T13:38:45Z</dcterms:modified>
  <cp:revision>17</cp:revision>
  <dc:subject/>
  <dc:title>Slide 1</dc:title>
</cp:coreProperties>
</file>