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D79E-0CCD-4946-9A42-919E5D9D6A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3B2C-0515-4647-8596-D97D880F47B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D45C-8606-40E6-BEA5-34F161779A7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B2F3-9A5D-4918-8F25-1F08142D579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6711-A70E-48D4-A186-3B981413305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3238-F64A-4F29-98D1-27B408ED5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0255-68D5-4DF6-8421-5FD2A2A8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90CE-2F66-4F79-8AA0-8D7FDFB33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00C3-ABF9-4F33-A9A6-D8CE25E2F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1F53-52A5-4B7A-86DD-7DEC0B242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22C2-2E6D-41E0-8EEA-A6D13BDA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F4B6-2571-49AE-ADC6-7E9E834F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C75A-69DF-4C35-857C-C307E293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D972-8ECE-4BAA-8227-E21A1663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DAA2-FB14-4959-877F-836CF081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5550-9194-43FE-A6E9-87F86B2F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48B0-5E02-4355-8D7B-0D1B5C63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759B-84F3-4EFD-A591-600D2EFB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D07C-7E76-4EE4-8214-CCADABE7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37CE-A9FA-4AC0-ACC5-1B950F75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6217-8505-42D4-A849-92D64056F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B928-F285-4BCE-AE99-A4FA866CF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0D3FC-136E-40F7-8B85-92CC36D60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A61FC-E4DA-4001-BFF9-A31716D6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F4E9D-7F7F-4A03-96E4-08C8CE46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32687-8B48-4BF5-B346-4219875C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7EE53-338D-4543-8EB1-EFD07D8C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E974-E28B-4004-B652-87A14D1F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CE133-C7FC-457C-BAFE-99BFED05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637B0-6CD5-4179-9F88-082964DA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2CF33-15CA-46E5-B498-42BB2D52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66BFD-3683-4190-A997-37D243F6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E4529-77A7-4DA0-8750-8AE28767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6E0F1-F9CA-4C23-B501-B92C38365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D87CE-E591-40C8-A5D4-002EF91F0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753A5-1AA1-47DF-B64E-42C3FC844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AD936-AD84-4F5F-8EE6-A89A7B45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1C1D9-2A15-4ED2-AE0E-1F1D7167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A05B-D9DB-438D-8847-303D389D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27B30-FF43-428A-A31F-0F269089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7744E-F00E-4798-9973-727CB86D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2D4E6-DBFC-4E9E-BD2C-19342725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D756F-0933-4A83-B265-D2392B3A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A0397-24D1-4EE1-AEF2-DFCBA9BD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B7152-B036-4983-AB76-69CCF0DF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AC349-6776-4870-B987-515AEE5B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BBB14-5F1B-4BA9-AEB1-518D8E1A6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21518-5DF8-4A78-901D-AB8C98D8E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FD96F-D0C2-4E10-9297-5DFA33237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9010-ADD7-4540-B4B1-8C977697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52AD9-0AC1-4827-95DA-64CAABA5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F7DC8-0AC9-40E4-B3E0-8849F61C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FD259-7AF5-49B1-B1BB-A7592038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BA755-D3D4-410D-B406-806D5ADF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4213C-D747-4F92-B98E-92657725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9F1C7-545A-4D7A-9ADB-828ED88C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ADB95-785F-4C4F-9F4C-B3E6E30A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E1989-0B5D-4AFD-9086-2E8E16DD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CBCA9-4A6E-4143-9BC8-503FAF5F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52894-A302-46F5-BA3C-C3AD99C8C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D7DB-70C3-433D-9C3A-E5657466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4DDC1-67A2-4484-B403-A750C1F13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B749B-CB17-4F3D-85AF-F2E7CBE67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7E17B-7B7A-4862-9AAE-438EC15F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EAEB7-E15F-493E-95B0-59A7A7E2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A2F24-519C-41F2-B0AC-FDBA01C9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AD4C7-F68F-41DF-9338-334E4091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5C68F-C879-44C4-9232-B5F9D682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B0AC7-1F80-4013-8B6B-664B24E8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4825A-B814-4026-9F66-88AD0A4E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EE92A-509A-406A-AA1C-6F94E46D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5DAC-E51B-4DC8-AF69-703CE8A7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3774A-8A1C-4984-BA59-C16FA668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FCB80-4468-47B1-BFF0-3DCF22834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EF982-0F7D-4721-A1A2-D69802F2B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CC29D-3B44-4DE3-AA1E-A0BE5B4F0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36C91-C70A-4790-A484-5626FFDB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27629-0AB2-4355-A6D8-177D4C1A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87C13-196C-4452-B1E3-6CDAC59C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88EF3-D8DF-4B96-BBF4-1AB215C7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25AB4-C042-4FCF-87CC-C55DA7BA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54009-71F4-4CB1-AB82-1F69C2F9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7E26-6DE9-4A0A-8B99-4187E34C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6EF3D-24CB-4926-BC72-DAAD54D1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6DBE1-3A47-485E-8F9B-344A1697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664BD-E92D-4301-B66B-1667774D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095AF-344B-47D4-9A43-743EBBF2F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5508A-6F35-4A2E-8531-8BD382EB8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A1DB0-E6C2-4F7A-8642-9891788FE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8A7DA-52A4-44C2-9BC4-AC0C28F7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D4122-7817-439D-BE84-395F17FC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2A693-1F96-4A45-84F8-7D545C35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EF1ED-EA36-49D1-B324-CBFE177D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A157-2E37-438B-B153-AF092543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CBABD-28D2-41CA-9EC7-563FF394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CCDD5-5198-43F2-9D93-09DDB748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AC11B-1009-4B8D-AA88-2A340E62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B87BB-AB82-4E14-B6B5-B84A4F44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65CEA-F6DD-4E37-B84C-E3D66E0C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AAB4D-31BA-43F0-97C3-1B998D51D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0D890-D0DD-43FC-BA6A-A8873AD0B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8D42-EF17-48F5-B483-AA158903E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A849-E1FB-4410-A4A4-A947367CBB7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D2F8-EA8E-4EF9-83F7-E60DFE6F8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Isosceles Triangle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Straight Connector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Straight Connector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3138-43F5-473C-9A79-A24ECF3F52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711E-D2CE-4756-B981-82672A48C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89F5-6F50-4BBE-A5B8-263DA3962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5891-9911-4C84-924E-7B29A4CE8D86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9540-FC63-4665-815E-B6C0A971C13B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3" descr=""/>
          <p:cNvPicPr/>
          <p:nvPr/>
        </p:nvPicPr>
        <p:blipFill>
          <a:blip r:embed="rId1"/>
          <a:stretch/>
        </p:blipFill>
        <p:spPr>
          <a:xfrm>
            <a:off x="-55440" y="165240"/>
            <a:ext cx="9358200" cy="1145880"/>
          </a:xfrm>
          <a:prstGeom prst="rect">
            <a:avLst/>
          </a:prstGeom>
          <a:ln w="0">
            <a:noFill/>
          </a:ln>
        </p:spPr>
      </p:pic>
      <p:pic>
        <p:nvPicPr>
          <p:cNvPr id="353" name="Rectangle 4" descr=""/>
          <p:cNvPicPr/>
          <p:nvPr/>
        </p:nvPicPr>
        <p:blipFill>
          <a:blip r:embed="rId2"/>
          <a:stretch/>
        </p:blipFill>
        <p:spPr>
          <a:xfrm>
            <a:off x="1096920" y="5297400"/>
            <a:ext cx="7053480" cy="11160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http://maloof.files.wordpress.com/2007/04/4-1-campaign-to-divert.jpg"/>
          <p:cNvPicPr/>
          <p:nvPr/>
        </p:nvPicPr>
        <p:blipFill>
          <a:blip r:embed="rId3"/>
          <a:stretch/>
        </p:blipFill>
        <p:spPr>
          <a:xfrm>
            <a:off x="1828800" y="1285920"/>
            <a:ext cx="571500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200400" y="457200"/>
            <a:ext cx="2476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erspective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6" name=""/>
          <p:cNvSpPr/>
          <p:nvPr/>
        </p:nvSpPr>
        <p:spPr>
          <a:xfrm>
            <a:off x="609480" y="236232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lestinian’s believe Israelis are illegally occupying their land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" name=""/>
          <p:cNvSpPr/>
          <p:nvPr/>
        </p:nvSpPr>
        <p:spPr>
          <a:xfrm>
            <a:off x="4648320" y="34290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"/>
          <p:cNvSpPr/>
          <p:nvPr/>
        </p:nvSpPr>
        <p:spPr>
          <a:xfrm>
            <a:off x="5791320" y="373392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raelis say that the land has been theirs and should still be theirs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Rectangle 3" descr=""/>
          <p:cNvPicPr/>
          <p:nvPr/>
        </p:nvPicPr>
        <p:blipFill>
          <a:blip r:embed="rId1"/>
          <a:stretch/>
        </p:blipFill>
        <p:spPr>
          <a:xfrm>
            <a:off x="615960" y="55440"/>
            <a:ext cx="7894800" cy="1103400"/>
          </a:xfrm>
          <a:prstGeom prst="rect">
            <a:avLst/>
          </a:prstGeom>
          <a:ln w="0">
            <a:noFill/>
          </a:ln>
        </p:spPr>
      </p:pic>
      <p:sp>
        <p:nvSpPr>
          <p:cNvPr id="360" name="TextBox 4"/>
          <p:cNvSpPr/>
          <p:nvPr/>
        </p:nvSpPr>
        <p:spPr>
          <a:xfrm>
            <a:off x="1371600" y="1371600"/>
            <a:ext cx="5791320" cy="46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~ Israeli military blockaded most Israel so Palestinians can’t get to work so there economy collapsed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~Israel is illegally occupying the land of the Palestinian people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~Israelis continuously build settlements to push out Palestinians and justify their land claim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~Everybody wants to help Israelis, nobody wants to help the Palestinians like in the six days war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~Palestinians have a huge reason for their argument because they are they underdogs and get no love from anybody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~Israelis have used tanks and helicopters to ruin most infrastructure and destroyed their economy even more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~The army and other Israelis have run the Palestinians out of their on homes using many weapon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Rectangle 1" descr=""/>
          <p:cNvPicPr/>
          <p:nvPr/>
        </p:nvPicPr>
        <p:blipFill>
          <a:blip r:embed="rId1"/>
          <a:stretch/>
        </p:blipFill>
        <p:spPr>
          <a:xfrm>
            <a:off x="1152360" y="55440"/>
            <a:ext cx="6448680" cy="1103400"/>
          </a:xfrm>
          <a:prstGeom prst="rect">
            <a:avLst/>
          </a:prstGeom>
          <a:ln w="0">
            <a:noFill/>
          </a:ln>
        </p:spPr>
      </p:pic>
      <p:sp>
        <p:nvSpPr>
          <p:cNvPr id="362" name="TextBox 2"/>
          <p:cNvSpPr/>
          <p:nvPr/>
        </p:nvSpPr>
        <p:spPr>
          <a:xfrm>
            <a:off x="1828800" y="1066680"/>
            <a:ext cx="495288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~ Israelis believe that Jews should own Jerusalem because it was rightfully theirs long ago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~Israel claims that they must protect themselves from Palestinian attack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~Israelis are scared to even go outside because of the infinadas 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~Israel felt the UN Partition Plan was unfair especially when the Palestinians attacked them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~Israelis view is that Palestinians are illegally occupying their land that has been theirs since AD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~Diaspora caused all the Jews to leave their rightful land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~The holocaust was also a huge disaster for the Israeli people as a whole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Rectangle 1" descr=""/>
          <p:cNvPicPr/>
          <p:nvPr/>
        </p:nvPicPr>
        <p:blipFill>
          <a:blip r:embed="rId1"/>
          <a:stretch/>
        </p:blipFill>
        <p:spPr>
          <a:xfrm>
            <a:off x="-42840" y="128520"/>
            <a:ext cx="6059520" cy="11098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"/>
          <p:cNvPicPr/>
          <p:nvPr/>
        </p:nvPicPr>
        <p:blipFill>
          <a:blip r:embed="rId2"/>
          <a:stretch/>
        </p:blipFill>
        <p:spPr>
          <a:xfrm>
            <a:off x="5410080" y="228600"/>
            <a:ext cx="3568680" cy="6526080"/>
          </a:xfrm>
          <a:prstGeom prst="rect">
            <a:avLst/>
          </a:prstGeom>
          <a:ln w="0">
            <a:noFill/>
          </a:ln>
        </p:spPr>
      </p:pic>
      <p:sp>
        <p:nvSpPr>
          <p:cNvPr id="365" name="TextBox 3"/>
          <p:cNvSpPr/>
          <p:nvPr/>
        </p:nvSpPr>
        <p:spPr>
          <a:xfrm>
            <a:off x="380880" y="1676520"/>
            <a:ext cx="4419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Palestinian- the Palestinians get money from the government an get their own army, but promise to lay off the bombings and attack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sraeli- The Israelis must stop the suicidal bombings, and then they will receive Jerusalem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Both- Both groups continue with the land arrangements, except for the fact that Jerusalem becomes shared also. One more thing is that The government needs to enforce the law better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01:01:48Z</dcterms:created>
  <dc:creator>Owner</dc:creator>
  <dc:description/>
  <dc:language>en-US</dc:language>
  <cp:lastModifiedBy>cfisd</cp:lastModifiedBy>
  <dcterms:modified xsi:type="dcterms:W3CDTF">2009-03-02T13:38:45Z</dcterms:modified>
  <cp:revision>17</cp:revision>
  <dc:subject/>
  <dc:title>Slide 1</dc:title>
</cp:coreProperties>
</file>