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561D-060C-4FB6-B49A-A347B9B56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BEAC-DB80-4458-8CC2-B0715024648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6912-FE8F-4694-BE32-2A386A7EB10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B6AC-594D-466F-BB9B-E611577D8F1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6683-4E79-4919-9B21-308EC4D683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6CB-0B21-413C-845D-0BFEA199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3FA9-3286-4A9B-A0DD-5C44B42D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9F3D-F13F-4107-863E-F70B5F28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E7CF-18F5-4BE5-AFF0-BF5083CA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2771-2A60-4332-9BE2-5EA7E2F2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5E0B-7246-45B3-9CD5-9470686B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DF9E-4C0B-417F-865E-49E57957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2DF8-C2B0-4B81-9D7D-C9DE7C22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4134-203A-4CB7-83E2-9C0996F8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C2AC-1417-45BD-ADDD-66F8F530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EF1C-C6EA-493B-B12A-15EB51A3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B5DF-8040-4296-9B3A-684149E6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560E-5E89-48B6-90DD-EA5F9FC2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EC04-BB1D-49DC-AC9F-02A03323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CF2F-6386-4472-9134-AF14FB5E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CBDB-BFB4-49FD-9C24-C6C5A3AE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1596-1DE9-47E3-BD99-21D540D7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1588C-39CE-48F6-931A-1B042270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562E9-337E-4155-922A-6CD62E2B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4EEE6-70F7-4505-9DC4-93A984BB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932A1-6958-4D37-A65A-85E15AFD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EA89E-56D9-4E72-9323-DCCAEF3B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383C-514D-41DC-B221-36D12A59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377EC-F663-49CF-A60C-B8E03CC6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D3F66-7B64-4520-B57A-D25EFF8F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573E3-362F-49E5-AB68-44B8CBB4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EC859-46A6-4A33-BC01-BD635DBC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DA32E-5B8A-43A0-BC8A-16643B21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486CB-F6E6-4CE7-9331-E4FF87C72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7B84E-52BB-4843-AD80-D967FA41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EAD9F-ED21-4BB4-A0D0-4ABE5288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7C783-A340-4793-AAAE-C3AC38D3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E5F89-07D6-4216-A6FB-FA7F960D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DD89-AC7F-4683-A7BA-CADABEA0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1E465-AC7C-4119-B601-0C121B2B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C7C6C-CB04-41D7-B07B-1F88A425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1A659-3F7A-4A3B-A69A-47E34432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151E7-650E-471E-B463-297E2857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C1DE7-3FAF-45B7-A2D6-AD2862B8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575E3-B37F-4658-ADFA-A48F1C21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E0707-1C07-462E-8468-4E409EB8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867DE-C421-43D0-BB0F-98EB9B3A2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BBB2E-870B-410B-9A83-F19AADEC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5C68F-830B-4A2B-A18C-548002F1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DD8-EA39-4FEB-9BA8-7070E505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431F9-5E56-477A-AA51-D079CA96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ED28B-19EC-4CED-8B62-B1709B6C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5F984-EEBE-48BE-BB08-55DA2C42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D4F6D-7357-440D-A85A-F6EA341B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A8EB5E-CDB3-48EB-AA18-9647EF0E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00140-5F8C-4C4C-893C-BED10742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EE773-412F-42BA-ADF8-D6122BF0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C8E5A-98CF-4829-BCB2-274638DD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F53ED-74FD-419B-A02A-1154869B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6A2AA-1E3A-4CD7-807B-7D0BAA2E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0592-1688-4C61-B83E-310020B3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BCED5-F95D-48F8-9317-D774D77E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5E2E5-D136-4881-B0BC-314E56C6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96026-4F63-42F1-91F3-67F73E36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C8FEA-34EF-4740-AC22-9EC64F08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D684D-6EFF-4F82-BFC1-0387BE9B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76AA6-B938-491B-9BD9-0762EF03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FF183-DD31-47B6-8DBB-8FE68D2B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02370-B83E-494E-B6CC-BC539DDD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EC4A2-1269-4193-A1AC-4A04D607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76272-6199-4616-9FA1-9461E57F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2818-49F4-49CA-83C8-6255C4FF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8B428-8F32-4657-99B4-693F8ED4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8EF0F-E596-48AB-BDC4-42756D55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9FC62-7CAA-46E2-BEF2-053CA5187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9ED86-7D5C-4B6D-A7B7-78FD786C6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06FC3-8B36-4F30-9CAA-4BFF6BBB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ABC7B-D27D-4852-9F8B-B0A08261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773C8-A362-492C-93C8-C4001272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9630F-FEF2-40C8-9631-720F8B3A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2755A-38FF-42ED-819A-6407AB64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2D7DA-B886-48DD-80A6-EE3AAD5D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B2A-6427-4895-9034-25070AEF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DB4F7-BC07-4BE4-9EE4-2A4DDE2A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2BB4D-8DFD-44B6-9A28-D50DA68B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93E9B-53B2-4A7E-8AA0-E548538B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B32F1-B611-434A-BC4F-6B7D7DDF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311E1-539A-413F-ADAD-7E7C06F4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4824B-57CF-40E0-B01C-58F1F19F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E004B-B815-45C1-8160-A132CFE9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460C3-FD68-4527-8060-2A111B34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E10A8-AFA4-4C94-9E58-E518E3AC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CA8EC-73FA-44D3-B40B-DCA7727B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046A-3246-4F7D-B219-A29BD683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96392-3CCD-4C09-BABC-D4B22BE4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6570E-33F5-40B1-ACDF-266C6696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5C01E-B93B-413B-8C2A-703036CF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1B2E5-A248-46CB-AA5F-10463D59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44726-C17D-4090-A082-12227CFD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5B3C4-7F5A-4ECE-BC23-1F366533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714D2-3604-4B6A-9A3A-D517A86B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830C-4AFF-42E5-A221-2AF917D81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D293-6066-41E0-8C9C-A109ED89FD8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B662-EA25-4298-BDD0-B86B3FB35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E2DB-6FEA-4169-A32B-D74E7AD6E8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A51A-4D11-4246-A4DC-ADD1227C9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5090-B9BC-4158-B25F-85B9F0E90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E92E-F8E1-46B4-9425-5F74826869B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B638-CD47-4817-A104-C325FA972CAA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3" descr=""/>
          <p:cNvPicPr/>
          <p:nvPr/>
        </p:nvPicPr>
        <p:blipFill>
          <a:blip r:embed="rId1"/>
          <a:stretch/>
        </p:blipFill>
        <p:spPr>
          <a:xfrm>
            <a:off x="-55440" y="165240"/>
            <a:ext cx="9358200" cy="114588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4" descr=""/>
          <p:cNvPicPr/>
          <p:nvPr/>
        </p:nvPicPr>
        <p:blipFill>
          <a:blip r:embed="rId2"/>
          <a:stretch/>
        </p:blipFill>
        <p:spPr>
          <a:xfrm>
            <a:off x="1096920" y="5297400"/>
            <a:ext cx="7053480" cy="1116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http://maloof.files.wordpress.com/2007/04/4-1-campaign-to-divert.jpg"/>
          <p:cNvPicPr/>
          <p:nvPr/>
        </p:nvPicPr>
        <p:blipFill>
          <a:blip r:embed="rId3"/>
          <a:stretch/>
        </p:blipFill>
        <p:spPr>
          <a:xfrm>
            <a:off x="1828800" y="1285920"/>
            <a:ext cx="57150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200400" y="457200"/>
            <a:ext cx="2476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erspectiv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23623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lestinian’s believe Israelis are illegally occupying their land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"/>
          <p:cNvSpPr/>
          <p:nvPr/>
        </p:nvSpPr>
        <p:spPr>
          <a:xfrm>
            <a:off x="4648320" y="34290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373392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raelis say that the land has been theirs and should still be theirs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3" descr=""/>
          <p:cNvPicPr/>
          <p:nvPr/>
        </p:nvPicPr>
        <p:blipFill>
          <a:blip r:embed="rId1"/>
          <a:stretch/>
        </p:blipFill>
        <p:spPr>
          <a:xfrm>
            <a:off x="615960" y="55440"/>
            <a:ext cx="7894800" cy="1103400"/>
          </a:xfrm>
          <a:prstGeom prst="rect">
            <a:avLst/>
          </a:prstGeom>
          <a:ln w="0">
            <a:noFill/>
          </a:ln>
        </p:spPr>
      </p:pic>
      <p:sp>
        <p:nvSpPr>
          <p:cNvPr id="360" name="TextBox 4"/>
          <p:cNvSpPr/>
          <p:nvPr/>
        </p:nvSpPr>
        <p:spPr>
          <a:xfrm>
            <a:off x="1371600" y="1371600"/>
            <a:ext cx="579132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 Israeli military blockaded most Israel so Palestinians can’t get to work so there economy collapsed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 is illegally occupying the land of the Palestinian peopl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is continuously build settlements to push out Palestinians and justify their land claim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Everybody wants to help Israelis, nobody wants to help the Palestinians like in the six days war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Palestinians have a huge reason for their argument because they are they underdogs and get no love from anybody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is have used tanks and helicopters to ruin most infrastructure and destroyed their economy even mor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The army and other Israelis have run the Palestinians out of their on homes using many weapon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1" descr=""/>
          <p:cNvPicPr/>
          <p:nvPr/>
        </p:nvPicPr>
        <p:blipFill>
          <a:blip r:embed="rId1"/>
          <a:stretch/>
        </p:blipFill>
        <p:spPr>
          <a:xfrm>
            <a:off x="1152360" y="55440"/>
            <a:ext cx="6448680" cy="11034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2"/>
          <p:cNvSpPr/>
          <p:nvPr/>
        </p:nvSpPr>
        <p:spPr>
          <a:xfrm>
            <a:off x="1828800" y="1066680"/>
            <a:ext cx="49528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 Israelis believe that Jews should own Jerusalem because it was rightfully theirs long ag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 claims that they must protect themselves from Palestinian attack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is are scared to even go outside because of the infinadas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 felt the UN Partition Plan was unfair especially when the Palestinians attacked them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is view is that Palestinians are illegally occupying their land that has been theirs since AD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Diaspora caused all the Jews to leave their rightful land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The holocaust was also a huge disaster for the Israeli people as a whole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1" descr=""/>
          <p:cNvPicPr/>
          <p:nvPr/>
        </p:nvPicPr>
        <p:blipFill>
          <a:blip r:embed="rId1"/>
          <a:stretch/>
        </p:blipFill>
        <p:spPr>
          <a:xfrm>
            <a:off x="-42840" y="128520"/>
            <a:ext cx="6059520" cy="11098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5410080" y="228600"/>
            <a:ext cx="3568680" cy="6526080"/>
          </a:xfrm>
          <a:prstGeom prst="rect">
            <a:avLst/>
          </a:prstGeom>
          <a:ln w="0">
            <a:noFill/>
          </a:ln>
        </p:spPr>
      </p:pic>
      <p:sp>
        <p:nvSpPr>
          <p:cNvPr id="365" name="TextBox 3"/>
          <p:cNvSpPr/>
          <p:nvPr/>
        </p:nvSpPr>
        <p:spPr>
          <a:xfrm>
            <a:off x="380880" y="1676520"/>
            <a:ext cx="4419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alestinian- the Palestinians get money from the government an get their own army, but promise to lay off the bombings and attack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sraeli- The Israelis must stop the suicidal bombings, and then they will receive Jerusale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oth- Both groups continue with the land arrangements, except for the fact that Jerusalem becomes shared also. One more thing is that The government needs to enforce the law better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01:01:48Z</dcterms:created>
  <dc:creator>Owner</dc:creator>
  <dc:description/>
  <dc:language>en-US</dc:language>
  <cp:lastModifiedBy>cfisd</cp:lastModifiedBy>
  <dcterms:modified xsi:type="dcterms:W3CDTF">2009-03-02T13:38:45Z</dcterms:modified>
  <cp:revision>17</cp:revision>
  <dc:subject/>
  <dc:title>Slide 1</dc:title>
</cp:coreProperties>
</file>