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move the slide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D419F-8280-4673-86AC-735DF35C612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78ABE-206B-4F6B-8259-0392885EF8B3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46532-DC8B-4DA7-B2A8-88C9F1776944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FE9E0-00A3-4957-9FCD-3505559A6A18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5A806-BCF1-4D5E-9E63-7AA49F3897DA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E4932-C571-45BB-B1D0-F4ED7E79D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3228F-D368-4B6E-B897-6FC14023D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6EA7D-D09D-45FA-8FB3-A4C0174AC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ED05E-19BC-4F8E-A6D1-89BE3E6D6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15B6D-C1AA-4923-9BFD-92B60BECB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38135-F88F-46F7-810C-7D5F526CB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52731-46CE-4F7F-87EC-AAB471423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B313B-28E9-4D26-A9B4-220275BCD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D1856-4E1A-4665-8758-1F5C486C8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FC666-3828-421F-BECC-32BF95C65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B859D-85A3-4447-A467-E332E69E9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4E2FB-FEE5-4E7E-8CC8-B740089D4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0ADD8-6C3D-45E6-A304-E9857FF87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79F51-1C21-4B4E-9CF3-9C62481FC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566BC-B2ED-4846-A8B7-3AE712D66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F6836-1377-4722-989F-4A667867D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E8ECA-F1D3-43EC-B3E9-E2D982CDB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16575A-4FDE-404E-B889-39C5B2B33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E61982-884E-4495-A637-D7ED58177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E0E9B1-FEBF-4D3A-940E-ADD3297E4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A83373-D35F-4905-B645-1038BAD07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C06D9D-1AD8-4A08-A748-06119B401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BECC6-2B9F-4D45-8097-0D519B94F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FB3300-D4AD-4E86-91C0-7FB45732B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A78D63-6D32-4C6E-A915-ED2E83E0E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B0BD09-D6C2-4F27-8664-2BB3B93A8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B3BF6E-8A76-4A83-8246-C2D49D323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E9D192-B59F-4582-949C-677684AE7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B07953-3EB4-4784-A6A9-55073EAC4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0152BC-0A56-4577-9DC4-A1A3EE621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0E20E2-4648-4B65-837B-3812A4E34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C01126-6F0F-433E-8B10-7D07DD144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52A2AC-6B7F-4F2B-A02E-1145F330D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C9DFF-3189-4E87-896C-2C01DEE58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06D66A-F96E-4299-A36D-C88C94CE3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7330B3-2A35-4739-8369-0E32FA674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4C9BFD-2D8C-4C26-B92F-8179347F5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CBEF47-8115-448E-BCB6-50B1C28F8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90B49C-1AC4-444A-8677-15BFFDB69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1CE710-979E-4845-A09A-2892D563D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730026-D99C-4307-992C-93D9B2565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ABD844-0250-48B6-A1A2-4F70378C7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A43A58-5B0A-46EE-8182-56D4A3E4E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9A96F3-F7D1-405A-80CC-DF28CB36C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DA77E-A8B7-4565-9DA3-794B92B2C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F14C62-3CD6-449D-8B57-57B29E376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3F591C-793F-4334-A2E8-B8084759E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1F30DF-9F2A-4692-9B7A-1A6512D6C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2A6240-4372-45CC-B619-7895880A5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D979D9-DF7D-4BD2-BAF2-5F845B42D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5F1269-4BE6-4E1E-973C-1F8753241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14835E-C513-49C0-9459-420C5784D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2372BD-1955-4AE4-AC9E-61960F6E8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7FBBC9-6F52-4969-8BEF-570E0D4E4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DC408A-4F32-4F88-AA46-66440614B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D8C78-5258-4EC1-AC42-46517AB30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8B17B3-BE9C-41EA-9A50-03C29987C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DDE27E-4F4B-4044-8632-5EE87869B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3E3D97-E770-4470-93D9-58E4AB3B4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F8C97D-E4E2-4673-B2ED-FC4800741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169819-3819-42E6-8E18-9889ECD52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06A472-6D63-4367-A031-9BA3B28B8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710CB3-40DC-4DA4-8414-7E13CDD6B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F832CD-4D95-48DB-8BAD-BF738B474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FE2F61-4E55-429B-B91D-742E56154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D51130-FE40-4643-BEAB-7F179F6FF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B51BA-C32B-41A6-BF47-EAD434C47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AF7D15-5FF0-45AC-BE73-2A69D80FA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A2FB5C-4E13-4307-9977-AA87DE70E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82F633-A61D-4E93-AEC6-6BB5AE648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651371-AC5D-4D6A-A418-B2BA1C598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D4F376-4A58-4813-AED6-A7EF9DE87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2AC476-7245-439A-937E-E211CB1B7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809151-4256-483F-88BA-6A4B25FAD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5C5EC8-D314-4BAD-8755-252A09344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922940-1BBF-42D2-A86D-B5224D4BA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9BB110-5583-4181-929A-40C6883E7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EC8FE-792E-44CE-AD3F-2288B9727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35C03F-9B02-4766-9D1A-1B251703A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D5A1A4-CCC1-42C1-8383-2418AB0E0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026590-5219-48EC-8668-A2862CA8F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46AE0F-AC28-426B-9A30-68BC85A55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FEFFF6-BD60-4D29-B9E1-07F163E2E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B99085-A849-4733-9DA7-CE218E2CA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C9FB06-0000-489E-AB25-ACCBDC2DE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7C4107-F6CA-4E69-AFDC-C7FFB997D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0C270E-7C66-4CFA-94EA-4D69C6D3C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84FEFF-724F-4F4E-A936-3D167410A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4561B-1193-417C-8AA7-A67B34FB2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B6509C-0203-4139-9D21-DF6079D3D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937B9C-E3E3-4701-BE14-8BBD00170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F645BA-FAF8-448F-9055-8218063F6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E9F916-7AF1-4580-985A-D775C61C5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C04680-104B-420A-9A7D-A7BD4AA47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73139C-632E-400D-B4DF-79A2FDD43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633602-B146-45ED-81E8-8F87AC219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B8542-7974-4E2C-A434-345A6B69A4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Isosceles Triangle 6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7F596-B2B1-4510-B751-76024B992A9F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0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3B408-3806-4F4C-AC99-5051F8A6BD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ight Triangle 8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4" name="Isosceles Triangle 7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5" name="Straight Connector 10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Straight Connector 9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1A7FB-8D64-4880-8FEC-41C7DCDB9AF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9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dt" idx="13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ftr" idx="14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23362-F4C7-4D61-8094-04C4C9FE1A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6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7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8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C763E-7C32-441E-A978-B6F1BA9C12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9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20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21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87938-B7C1-4A6B-8C68-66740FCA0527}" type="slidenum"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22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23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sldNum" idx="24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B4F4D-C4BA-463C-BAF8-C8D1EEFEE083}" type="slidenum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Rectangle 3" descr=""/>
          <p:cNvPicPr/>
          <p:nvPr/>
        </p:nvPicPr>
        <p:blipFill>
          <a:blip r:embed="rId1"/>
          <a:stretch/>
        </p:blipFill>
        <p:spPr>
          <a:xfrm>
            <a:off x="-55440" y="165240"/>
            <a:ext cx="9358200" cy="1145880"/>
          </a:xfrm>
          <a:prstGeom prst="rect">
            <a:avLst/>
          </a:prstGeom>
          <a:ln w="0">
            <a:noFill/>
          </a:ln>
        </p:spPr>
      </p:pic>
      <p:pic>
        <p:nvPicPr>
          <p:cNvPr id="353" name="Rectangle 4" descr=""/>
          <p:cNvPicPr/>
          <p:nvPr/>
        </p:nvPicPr>
        <p:blipFill>
          <a:blip r:embed="rId2"/>
          <a:stretch/>
        </p:blipFill>
        <p:spPr>
          <a:xfrm>
            <a:off x="1096920" y="5297400"/>
            <a:ext cx="7053480" cy="111600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2" descr="http://maloof.files.wordpress.com/2007/04/4-1-campaign-to-divert.jpg"/>
          <p:cNvPicPr/>
          <p:nvPr/>
        </p:nvPicPr>
        <p:blipFill>
          <a:blip r:embed="rId3"/>
          <a:stretch/>
        </p:blipFill>
        <p:spPr>
          <a:xfrm>
            <a:off x="1828800" y="1285920"/>
            <a:ext cx="5715000" cy="42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 txBox="1"/>
          <p:nvPr/>
        </p:nvSpPr>
        <p:spPr>
          <a:xfrm>
            <a:off x="3200400" y="457200"/>
            <a:ext cx="24764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Perspectives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56" name=""/>
          <p:cNvSpPr/>
          <p:nvPr/>
        </p:nvSpPr>
        <p:spPr>
          <a:xfrm>
            <a:off x="609480" y="2362320"/>
            <a:ext cx="2743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lestinian’s believe Israelis are illegally occupying their land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7" name=""/>
          <p:cNvSpPr/>
          <p:nvPr/>
        </p:nvSpPr>
        <p:spPr>
          <a:xfrm>
            <a:off x="4648320" y="3429000"/>
            <a:ext cx="4038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8" name=""/>
          <p:cNvSpPr/>
          <p:nvPr/>
        </p:nvSpPr>
        <p:spPr>
          <a:xfrm>
            <a:off x="5791320" y="3733920"/>
            <a:ext cx="2133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sraelis say that the land has been theirs and should still be theirs 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Rectangle 3" descr=""/>
          <p:cNvPicPr/>
          <p:nvPr/>
        </p:nvPicPr>
        <p:blipFill>
          <a:blip r:embed="rId1"/>
          <a:stretch/>
        </p:blipFill>
        <p:spPr>
          <a:xfrm>
            <a:off x="615960" y="55440"/>
            <a:ext cx="7894800" cy="1103400"/>
          </a:xfrm>
          <a:prstGeom prst="rect">
            <a:avLst/>
          </a:prstGeom>
          <a:ln w="0">
            <a:noFill/>
          </a:ln>
        </p:spPr>
      </p:pic>
      <p:sp>
        <p:nvSpPr>
          <p:cNvPr id="360" name="TextBox 4"/>
          <p:cNvSpPr/>
          <p:nvPr/>
        </p:nvSpPr>
        <p:spPr>
          <a:xfrm>
            <a:off x="1371600" y="1371600"/>
            <a:ext cx="5791320" cy="46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entury Gothic"/>
              </a:rPr>
              <a:t>~ Israeli military blockaded most Israel so Palestinians can’t get to work so there economy collapsed 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entury Gothic"/>
              </a:rPr>
              <a:t>~Israel is illegally occupying the land of the Palestinian people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entury Gothic"/>
              </a:rPr>
              <a:t>~Israelis continuously build settlements to push out Palestinians and justify their land claims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entury Gothic"/>
              </a:rPr>
              <a:t>~Everybody wants to help Israelis, nobody wants to help the Palestinians like in the six days war 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entury Gothic"/>
              </a:rPr>
              <a:t>~Palestinians have a huge reason for their argument because they are they underdogs and get no love from anybody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entury Gothic"/>
              </a:rPr>
              <a:t>~Israelis have used tanks and helicopters to ruin most infrastructure and destroyed their economy even more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entury Gothic"/>
              </a:rPr>
              <a:t>~The army and other Israelis have run the Palestinians out of their on homes using many weapons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Rectangle 1" descr=""/>
          <p:cNvPicPr/>
          <p:nvPr/>
        </p:nvPicPr>
        <p:blipFill>
          <a:blip r:embed="rId1"/>
          <a:stretch/>
        </p:blipFill>
        <p:spPr>
          <a:xfrm>
            <a:off x="1152360" y="55440"/>
            <a:ext cx="6448680" cy="1103400"/>
          </a:xfrm>
          <a:prstGeom prst="rect">
            <a:avLst/>
          </a:prstGeom>
          <a:ln w="0">
            <a:noFill/>
          </a:ln>
        </p:spPr>
      </p:pic>
      <p:sp>
        <p:nvSpPr>
          <p:cNvPr id="362" name="TextBox 2"/>
          <p:cNvSpPr/>
          <p:nvPr/>
        </p:nvSpPr>
        <p:spPr>
          <a:xfrm>
            <a:off x="1828800" y="1066680"/>
            <a:ext cx="495288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entury Gothic"/>
              </a:rPr>
              <a:t>~ Israelis believe that Jews should own Jerusalem because it was rightfully theirs long ago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entury Gothic"/>
              </a:rPr>
              <a:t>~Israel claims that they must protect themselves from Palestinian attacks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entury Gothic"/>
              </a:rPr>
              <a:t>~Israelis are scared to even go outside because of the infinadas  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entury Gothic"/>
              </a:rPr>
              <a:t>~Israel felt the UN Partition Plan was unfair especially when the Palestinians attacked them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entury Gothic"/>
              </a:rPr>
              <a:t>~Israelis view is that Palestinians are illegally occupying their land that has been theirs since AD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entury Gothic"/>
              </a:rPr>
              <a:t>~Diaspora caused all the Jews to leave their rightful land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entury Gothic"/>
              </a:rPr>
              <a:t>~The holocaust was also a huge disaster for the Israeli people as a whole 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Rectangle 1" descr=""/>
          <p:cNvPicPr/>
          <p:nvPr/>
        </p:nvPicPr>
        <p:blipFill>
          <a:blip r:embed="rId1"/>
          <a:stretch/>
        </p:blipFill>
        <p:spPr>
          <a:xfrm>
            <a:off x="-42840" y="128520"/>
            <a:ext cx="6059520" cy="110988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4" descr=""/>
          <p:cNvPicPr/>
          <p:nvPr/>
        </p:nvPicPr>
        <p:blipFill>
          <a:blip r:embed="rId2"/>
          <a:stretch/>
        </p:blipFill>
        <p:spPr>
          <a:xfrm>
            <a:off x="5410080" y="228600"/>
            <a:ext cx="3568680" cy="6526080"/>
          </a:xfrm>
          <a:prstGeom prst="rect">
            <a:avLst/>
          </a:prstGeom>
          <a:ln w="0">
            <a:noFill/>
          </a:ln>
        </p:spPr>
      </p:pic>
      <p:sp>
        <p:nvSpPr>
          <p:cNvPr id="365" name="TextBox 3"/>
          <p:cNvSpPr/>
          <p:nvPr/>
        </p:nvSpPr>
        <p:spPr>
          <a:xfrm>
            <a:off x="380880" y="1676520"/>
            <a:ext cx="44197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Palestinian- the Palestinians get money from the government an get their own army, but promise to lay off the bombings and attacks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Israeli- The Israelis must stop the suicidal bombings, and then they will receive Jerusalem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Both- Both groups continue with the land arrangements, except for the fact that Jerusalem becomes shared also. One more thing is that The government needs to enforce the law better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01:01:48Z</dcterms:created>
  <dc:creator>Owner</dc:creator>
  <dc:description/>
  <dc:language>en-US</dc:language>
  <cp:lastModifiedBy>cfisd</cp:lastModifiedBy>
  <dcterms:modified xsi:type="dcterms:W3CDTF">2009-03-02T13:38:45Z</dcterms:modified>
  <cp:revision>17</cp:revision>
  <dc:subject/>
  <dc:title>Slide 1</dc:title>
</cp:coreProperties>
</file>