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E0CC1-3787-4C6C-8319-F5DB7BD92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0E0A8-C8CB-40DA-B240-D53CC1C2D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05D484-4164-4D33-955A-1E943D263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92E5C-C2F2-4851-A1CE-688FD7E61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6456F-0788-4DC4-9A08-BDBDEB268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CA1BB-619C-4144-8BE8-D2F324E12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C4A1C-4B3E-4099-836C-F49842D5A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EA118-3B49-4135-8262-7A834F2A1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30D94-C1F9-4A05-BDAF-59F63EF01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45104-8FB3-4D2A-A7C3-57E78E4A7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965C6-C27E-4C04-99F7-35F208F1C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3F92B-62FA-4793-8EE3-BEECC53FC3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0A488-8D93-423B-B289-350D4A5190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lways lived t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taken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forced them out of their ho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are not allowed to tra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lestinians human rights are being vio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can only use terrorism because they do not have a military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attack their citizens using the milit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killed the Hamas spiritual lea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is illegally occupying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blockade restricted travel and flattened maufacturing, construction and much of the public service indus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employment rate of Palestinians is growing. The Palestinian economy is un-existant due to the Israeli o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aspora, the Jews were forced out of their home land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ws believe the land is rightfully theirs and was granted to them by go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nly use military force to defend themsel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n the Gaza Strip was won during the Six Day War</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Holocaust, the Jews want to return to their holy la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owned the land first because the Jewish State, Judae was incorporated into the Roman province of Palestine</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occupied the region at the end of the war in 1918 and was assigned as the mandatory power by the Leauge of Nations on April 25, 1920. Britain gave this land to the Jew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Quy Vu</cp:lastModifiedBy>
  <dcterms:modified xsi:type="dcterms:W3CDTF">2009-03-03T22:07:49Z</dcterms:modified>
  <cp:revision>6</cp:revision>
  <dc:subject/>
  <dc:title>Palestine/ Israel Conflict</dc:title>
</cp:coreProperties>
</file>