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wmf" ContentType="image/x-wmf"/>
  <Override PartName="/ppt/media/image3.png" ContentType="image/png"/>
  <Override PartName="/ppt/media/image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401-976E-40A6-9040-2B5DD87F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511-EE96-4CB5-82FD-8E981D16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A3E-838C-4D88-A90C-863927E3F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9F2-946D-487C-BB74-3A731F8B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48E-A0EE-4AC6-8295-336EF0F4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925A-7B91-4414-9172-869F9B3E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2AD-5D40-48DF-98A9-6EEC3E15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5AA-9CF0-497E-8560-87773EC0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ECA-405F-487A-8B38-70E6D00C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F30-7279-4CD6-9D5B-E5393D5E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153D-9A95-4800-8108-D1563A18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4D89-ED18-4A36-8333-1FD2CBEF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FB39-B2B3-47E2-B8CA-5B98723887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8/Kolkata_Bagbazar_Ghat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compulsivetraveler.tv/videos/408-Ganges-River-Pollution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hy is the population of South Asia growing so fas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3784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Defores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od is used for building materials, furniture, funeral pyres, and so 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apidly growing population of South Asian countries have created an increase in the demand of w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demand for wood and new arable (farm) land has led to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orest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e clear cutting of forested 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648320"/>
            <a:ext cx="464796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rapid population growth is creating rapid ___________ in South Asian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Bamboo forest in Gangtok, Gangtok, India"/>
          <p:cNvPicPr/>
          <p:nvPr/>
        </p:nvPicPr>
        <p:blipFill>
          <a:blip r:embed="rId1"/>
          <a:stretch/>
        </p:blipFill>
        <p:spPr>
          <a:xfrm>
            <a:off x="5257800" y="1828800"/>
            <a:ext cx="3753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Endangered Spe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4724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population growth results in the loss of habitat for man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ndangered spec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animals like tigers, elephants and rhinos lose habitat they can become endanger of extinc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in the early 2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entury there were 40,000+ tigers in the wild.  Today there are only about 4,00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295280"/>
            <a:ext cx="3962520" cy="2288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pid population growth is destroying the natural ________ of many ___________ _______ like tigers, elephants, and rh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715000" y="4952880"/>
            <a:ext cx="2666880" cy="1474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15000" y="4952880"/>
            <a:ext cx="2666880" cy="147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172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Pollution of the Ganges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 the population rapidly increases and urbanizes, more waste and pollution is crea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 350 million people live along the banks of the Ganges Ri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Ganges River has become extremely polluted and now effects the health of the nearby 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962520"/>
            <a:ext cx="464832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growing population has increased ___________ of the ________ River and increased the health risk to the 350 million people that live t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Image:Kolkata Bagbazar Gha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295280"/>
            <a:ext cx="3581280" cy="204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57800" y="1295280"/>
            <a:ext cx="35812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4680" y="6324480"/>
            <a:ext cx="3250080" cy="368280"/>
          </a:xfrm>
          <a:prstGeom prst="rect">
            <a:avLst/>
          </a:prstGeom>
          <a:noFill/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Ganges River Video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unrise at the shore of the Ganges River"/>
          <p:cNvPicPr/>
          <p:nvPr/>
        </p:nvPicPr>
        <p:blipFill>
          <a:blip r:embed="rId4"/>
          <a:stretch/>
        </p:blipFill>
        <p:spPr>
          <a:xfrm>
            <a:off x="5181480" y="35053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81480" y="3505320"/>
            <a:ext cx="3657600" cy="2743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The Gree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733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wing population in South Asia created a shortage of food and frequent fam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increase food production, new crop varieties and new technologies (like irrigation projects and new fertilizers) were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creased food production has allowed India to feed its growing population but has also increased pollution from pesticides and fertiliz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066680"/>
            <a:ext cx="4876920" cy="119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apid population growth led to the _______ Revolution and an increase in ______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2666880"/>
            <a:ext cx="5257800" cy="388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733920" y="266688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 – What does overpopulation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lumdog Overpopulation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ere are the kids playing? Explain w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scribe their neighbor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59436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6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overpopul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population is when an area surpasses its carrying capa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population goes above the carrying capacity pollution, famine, and disease can increa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666880"/>
            <a:ext cx="3429000" cy="1922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arrying Capacity is the maximum number of people that can live in an area without negativ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4713120"/>
            <a:ext cx="2286000" cy="214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53080" y="3733920"/>
            <a:ext cx="19051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Record what is in the box in your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py down what is inside the box on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ad along the rest of slide as we discuss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 of Overpop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opulatoin_19502050.GIF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Agrarian (Farming) Socie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5257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0% of all workers in South Asia work in agriculture (mostly rice, cotton, tea, and sugarcane farm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rmers tend to have more children to help them work the fa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of this, Agrarian (farming) societies usually have higher birth rates and rapidly growing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1752480"/>
            <a:ext cx="3504960" cy="177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10080" y="3581280"/>
            <a:ext cx="3353040" cy="285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434340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outh Asian countries have a rapidly ________ populations because of the large number of small, family 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4120" y="1752480"/>
            <a:ext cx="35049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3809880"/>
            <a:ext cx="335304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Red and Green"/>
          <p:cNvPicPr/>
          <p:nvPr/>
        </p:nvPicPr>
        <p:blipFill>
          <a:blip r:embed="rId1"/>
          <a:stretch/>
        </p:blipFill>
        <p:spPr>
          <a:xfrm>
            <a:off x="6959520" y="1295280"/>
            <a:ext cx="1978200" cy="2971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Lack of Education for W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women in South Asian countries are unable to receive a quality edu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iteracy rate for South Asia is low and especially low for wo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es – 73.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males – 47.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omen receive more education they tend to begin having children later in life and the birth rate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495288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cause many _________ in South Asian countries do not receive a good education, the birth rate is 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964200" y="1295280"/>
            <a:ext cx="1989360" cy="297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410080" y="4419720"/>
            <a:ext cx="1144800" cy="2209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477120" y="4648320"/>
            <a:ext cx="128412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848720" y="4419720"/>
            <a:ext cx="11444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1523880"/>
            <a:ext cx="4191120" cy="2770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Gender P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4800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any South Asian cultures, there is a preference to have a son rather than a daugh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is local culture and tradition many families will continue having children until they have a 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in healthcare have led to a decrease in the infant mortality rate causing a population explo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267080"/>
            <a:ext cx="4648320" cy="1557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cause there is a ________ _____________ for male babies, the birth rate is _____ in South Asi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523880"/>
            <a:ext cx="4191120" cy="27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81480" y="4419720"/>
            <a:ext cx="1981440" cy="2209680"/>
            <a:chOff x="5181480" y="4419720"/>
            <a:chExt cx="1981440" cy="220968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5334120" y="4572000"/>
              <a:ext cx="17017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181480" y="4419720"/>
              <a:ext cx="1981440" cy="220968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6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7162920" y="4495680"/>
            <a:ext cx="1768320" cy="1905120"/>
            <a:chOff x="7162920" y="4495680"/>
            <a:chExt cx="1768320" cy="190512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7162920" y="4495680"/>
              <a:ext cx="17683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354800" y="5637240"/>
              <a:ext cx="533520" cy="533520"/>
            </a:xfrm>
            <a:prstGeom prst="line">
              <a:avLst/>
            </a:prstGeom>
            <a:ln w="127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848720" y="4647960"/>
              <a:ext cx="761760" cy="1523880"/>
            </a:xfrm>
            <a:prstGeom prst="line">
              <a:avLst/>
            </a:prstGeom>
            <a:ln w="127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ffects of Overpopulatio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overpopulation effect South Asian countries?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3840" y="3048120"/>
            <a:ext cx="9020160" cy="3105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2895480"/>
            <a:ext cx="2057400" cy="32004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4:24:13Z</dcterms:created>
  <dc:creator>CFISD</dc:creator>
  <dc:description/>
  <dc:language>en-US</dc:language>
  <cp:lastModifiedBy>CFISD</cp:lastModifiedBy>
  <dcterms:modified xsi:type="dcterms:W3CDTF">2009-03-12T15:16:15Z</dcterms:modified>
  <cp:revision>18</cp:revision>
  <dc:subject/>
  <dc:title>Why is the population of South Asia growing so fast?</dc:title>
</cp:coreProperties>
</file>