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3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F44-30F8-425D-842F-760E1523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E71-68F1-478E-A561-B1543E22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21D-2E11-4D2F-930E-C6BF2E06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143-6F42-4956-92B9-3E7FC982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1A0-67E2-40F8-80F9-8A66BC8D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537-9A2D-4C93-892F-27FC39C2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BEB-BDB3-4DEE-A116-928D1E45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55A-EFAC-41C0-9B62-66CC0A50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CA7-28F9-4664-9D80-7444D950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242-3165-4F57-AA90-89A9A16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264-FC3E-4739-8DDF-D82EEEF7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755-F605-4D6F-A752-23527434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3FB8-8D52-48F1-B0D5-75E7E55E3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8/Kolkata_Bagbazar_Ghat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compulsivetraveler.tv/videos/408-Ganges-River-Pollution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is the population of South Asia growing so fas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784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De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od is used for building materials, furniture, funeral pyres, and so 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apidly growing population of South Asian countries have created an increase in the demand of w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demand for wood and new arable (farm) land has led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ores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lear cutting of forested 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648320"/>
            <a:ext cx="464796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rapid population growth is creating rapid ___________ in South Asian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Bamboo forest in Gangtok, Gangtok, India"/>
          <p:cNvPicPr/>
          <p:nvPr/>
        </p:nvPicPr>
        <p:blipFill>
          <a:blip r:embed="rId1"/>
          <a:stretch/>
        </p:blipFill>
        <p:spPr>
          <a:xfrm>
            <a:off x="5257800" y="1828800"/>
            <a:ext cx="3753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Endangered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population growth results in the loss of habitat for man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dangered spec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nimals like tigers, elephants and rhinos lose habitat they can become endanger of extin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in the early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entury there were 40,000+ tigers in the wild.  Today there are only about 4,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295280"/>
            <a:ext cx="396252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pid population growth is destroying the natural ________ of many ___________ _______ like tigers, elephants, and rh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5000" y="4952880"/>
            <a:ext cx="2666880" cy="147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15000" y="4952880"/>
            <a:ext cx="2666880" cy="147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Pollution of the Ganges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the population rapidly increases and urbanizes, more waste and pollution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350 million people live along the banks of the Ganges 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anges River has become extremely polluted and now effects the health of the nearby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962520"/>
            <a:ext cx="464832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growing population has increased ___________ of the ________ River and increased the health risk to the 350 million people that liv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Image:Kolkata Bagbazar Gha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295280"/>
            <a:ext cx="3581280" cy="204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57800" y="1295280"/>
            <a:ext cx="35812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4680" y="6324480"/>
            <a:ext cx="3250080" cy="3682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anges River Video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unrise at the shore of the Ganges River"/>
          <p:cNvPicPr/>
          <p:nvPr/>
        </p:nvPicPr>
        <p:blipFill>
          <a:blip r:embed="rId4"/>
          <a:stretch/>
        </p:blipFill>
        <p:spPr>
          <a:xfrm>
            <a:off x="5181480" y="3505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81480" y="3505320"/>
            <a:ext cx="3657600" cy="2743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The Gree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733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wing population in South Asia created a shortage of food and frequent fam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increase food production, new crop varieties and new technologies (like irrigation projects and new fertilizers) were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food production has allowed India to feed its growing population but has also increased pollution from pesticides and fer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487692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pid population growth led to the _______ Revolution and an increase in ______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2666880"/>
            <a:ext cx="5257800" cy="388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266688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 – What does overpopula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umdog Overpopulat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ere are the kids playing? Explain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scribe their neighbor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94360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6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overpopul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population is when an area surpasses its carrying capa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population goes above the carrying capacity pollution, famine, and disease can incre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666880"/>
            <a:ext cx="342900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rrying Capacity is the maximum number of people that can live in an area without negativ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4713120"/>
            <a:ext cx="2286000" cy="214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53080" y="3733920"/>
            <a:ext cx="1905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Record what is in the box in your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py down what is inside the box on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ad along the rest of slide as we discuss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 of Over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opulatoin_19502050.GIF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Agrarian (Farming) Socie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0% of all workers in South Asia work in agriculture (mostly rice, cotton, tea, and sugarcane farm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rmers tend to have more children to help them work the fa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of this, Agrarian (farming) societies usually have higher birth rates and rapidly growing pop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504960" cy="177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3353040" cy="285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434340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 Asian countries have a rapidly ________ populations because of the large number of small, family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1752480"/>
            <a:ext cx="35049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3809880"/>
            <a:ext cx="335304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Red and Green"/>
          <p:cNvPicPr/>
          <p:nvPr/>
        </p:nvPicPr>
        <p:blipFill>
          <a:blip r:embed="rId1"/>
          <a:stretch/>
        </p:blipFill>
        <p:spPr>
          <a:xfrm>
            <a:off x="6959520" y="1295280"/>
            <a:ext cx="1978200" cy="2971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Lack of Education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women in South Asian countries are unable to receive a quality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teracy rate for South Asia is low and especially low for wo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es – 73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s – 47.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omen receive more education they tend to begin having children later in life and the birth rate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95288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cause many _________ in South Asian countries do not receive a good education, the birth rate is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64200" y="1295280"/>
            <a:ext cx="19893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10080" y="4419720"/>
            <a:ext cx="1144800" cy="2209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477120" y="4648320"/>
            <a:ext cx="128412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848720" y="4419720"/>
            <a:ext cx="1144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4191120" cy="2770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Gender P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80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ny South Asian cultures, there is a preference to have a son rather than a daugh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is local culture and tradition many families will continue having children until they have a 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in healthcare have led to a decrease in the infant mortality rate causing a population 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26708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cause there is a ________ _____________ for male babies, the birth rate is _____ in South Asi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523880"/>
            <a:ext cx="4191120" cy="27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81480" y="4419720"/>
            <a:ext cx="1981440" cy="2209680"/>
            <a:chOff x="5181480" y="4419720"/>
            <a:chExt cx="1981440" cy="220968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5334120" y="4572000"/>
              <a:ext cx="1701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181480" y="4419720"/>
              <a:ext cx="1981440" cy="220968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162920" y="4495680"/>
            <a:ext cx="1768320" cy="1905120"/>
            <a:chOff x="7162920" y="4495680"/>
            <a:chExt cx="1768320" cy="190512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7162920" y="4495680"/>
              <a:ext cx="17683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354800" y="5637240"/>
              <a:ext cx="533520" cy="533520"/>
            </a:xfrm>
            <a:prstGeom prst="line">
              <a:avLst/>
            </a:prstGeom>
            <a:ln w="127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848720" y="4647960"/>
              <a:ext cx="761760" cy="1523880"/>
            </a:xfrm>
            <a:prstGeom prst="line">
              <a:avLst/>
            </a:prstGeom>
            <a:ln w="127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ffects of Overpopul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overpopulation effect South Asian countries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3840" y="3048120"/>
            <a:ext cx="9020160" cy="310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2895480"/>
            <a:ext cx="2057400" cy="3200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4:24:13Z</dcterms:created>
  <dc:creator>CFISD</dc:creator>
  <dc:description/>
  <dc:language>en-US</dc:language>
  <cp:lastModifiedBy>CFISD</cp:lastModifiedBy>
  <dcterms:modified xsi:type="dcterms:W3CDTF">2009-03-12T15:16:15Z</dcterms:modified>
  <cp:revision>18</cp:revision>
  <dc:subject/>
  <dc:title>Why is the population of South Asia growing so fast?</dc:title>
</cp:coreProperties>
</file>