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wmf" ContentType="image/x-wmf"/>
  <Override PartName="/ppt/media/image3.png" ContentType="image/png"/>
  <Override PartName="/ppt/media/image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72AD-0F2C-4EA4-BEC6-B5C51799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2A16-A8B2-4F3E-A10F-2EA16771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BFF7-FED0-47E0-B7EF-C28E9332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E7FA-A715-4F99-BA4C-268D9F81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246C-E3EC-46D3-A9EC-74022424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8FA2-E53A-4FE8-A607-98E0DA60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8E23-9B9A-4884-B584-F6DD4425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E554-26A3-491D-9DFA-38E85DF3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6B1A-9ECD-475C-BA24-45E51F01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81CC-C9DA-4242-8F10-05DD3FE1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FAD1-F6CC-4DC2-844E-7EF704B9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E051-794C-45D4-8569-BCE29B44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03B4-043E-4CAA-94E1-15B7949FC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8/Kolkata_Bagbazar_Ghat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compulsivetraveler.tv/videos/408-Ganges-River-Pollution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y is the population of South Asia growing so fas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3784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Defores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5257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od is used for building materials, furniture, funeral pyres, and so 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apidly growing population of South Asian countries have created an increase in the demand of w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reased demand for wood and new arable (farm) land has led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forest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e clear cutting of forested l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648320"/>
            <a:ext cx="4647960" cy="119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rapid population growth is creating rapid ___________ in South Asian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Bamboo forest in Gangtok, Gangtok, India"/>
          <p:cNvPicPr/>
          <p:nvPr/>
        </p:nvPicPr>
        <p:blipFill>
          <a:blip r:embed="rId1"/>
          <a:stretch/>
        </p:blipFill>
        <p:spPr>
          <a:xfrm>
            <a:off x="5257800" y="1828800"/>
            <a:ext cx="3753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Endangered Spe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id population growth results in the loss of habitat for man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dangered spec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animals like tigers, elephants and rhinos lose habitat they can become endanger of extin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xample, in the early 2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entury there were 40,000+ tigers in the wild.  Today there are only about 4,00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1295280"/>
            <a:ext cx="3962520" cy="2288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apid population growth is destroying the natural ________ of many ___________ _______ like tigers, elephants, and rhi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715000" y="4952880"/>
            <a:ext cx="2666880" cy="1474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715000" y="4952880"/>
            <a:ext cx="2666880" cy="147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617220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Pollution of the Ganges R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5257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the population rapidly increases and urbanizes, more waste and pollution is cre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350 million people live along the banks of the Ganges Ri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Ganges River has become extremely polluted and now effects the health of the nearby po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3962520"/>
            <a:ext cx="4648320" cy="1922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growing population has increased ___________ of the ________ River and increased the health risk to the 350 million people that live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Image:Kolkata Bagbazar Gha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1295280"/>
            <a:ext cx="3581280" cy="2046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57800" y="1295280"/>
            <a:ext cx="35812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4680" y="6324480"/>
            <a:ext cx="3250080" cy="3682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anges River Video C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Sunrise at the shore of the Ganges River"/>
          <p:cNvPicPr/>
          <p:nvPr/>
        </p:nvPicPr>
        <p:blipFill>
          <a:blip r:embed="rId4"/>
          <a:stretch/>
        </p:blipFill>
        <p:spPr>
          <a:xfrm>
            <a:off x="5181480" y="35053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181480" y="3505320"/>
            <a:ext cx="3657600" cy="2743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The Gree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37339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owing population in South Asia created a shortage of food and frequent fam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increase food production, new crop varieties and new technologies (like irrigation projects and new fertilizers) were develo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reased food production has allowed India to feed its growing population but has also increased pollution from pesticides and fertiliz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1066680"/>
            <a:ext cx="4876920" cy="119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apid population growth led to the _______ Revolution and an increase in ______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2666880"/>
            <a:ext cx="5257800" cy="388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733920" y="2666880"/>
            <a:ext cx="5257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 – What does overpopulation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lumdog Overpopulation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ere are the kids playing? Explain wh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escribe their neighborh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5943600"/>
            <a:ext cx="175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at 6: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overpopul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population is when an area surpasses its carrying capac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population goes above the carrying capacity pollution, famine, and disease can incre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2666880"/>
            <a:ext cx="3429000" cy="1922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rrying Capacity is the maximum number of people that can live in an area without negativ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4713120"/>
            <a:ext cx="2286000" cy="2144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553080" y="3733920"/>
            <a:ext cx="19051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 Record what is in the box in your not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Copy down what is inside the box on your workshe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Read along the rest of slide as we discuss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auses of Over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populatoin_19502050.GIF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Agrarian (Farming) Socie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5257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0% of all workers in South Asia work in agriculture (mostly rice, cotton, tea, and sugarcane farm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rmers tend to have more children to help them work the fa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cause of this, Agrarian (farming) societies usually have higher birth rates and rapidly growing popu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504960" cy="1774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410080" y="3581280"/>
            <a:ext cx="3353040" cy="2853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4343400"/>
            <a:ext cx="4648320" cy="1557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uth Asian countries have a rapidly ________ populations because of the large number of small, family 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1752480"/>
            <a:ext cx="35049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10080" y="3809880"/>
            <a:ext cx="3353040" cy="266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Red and Green"/>
          <p:cNvPicPr/>
          <p:nvPr/>
        </p:nvPicPr>
        <p:blipFill>
          <a:blip r:embed="rId1"/>
          <a:stretch/>
        </p:blipFill>
        <p:spPr>
          <a:xfrm>
            <a:off x="6959520" y="1295280"/>
            <a:ext cx="1978200" cy="2971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Lack of Education for W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women in South Asian countries are unable to receive a quality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iteracy rate for South Asia is low and especially low for wom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es – 73.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males – 47.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omen receive more education they tend to begin having children later in life and the birth rate d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952880"/>
            <a:ext cx="4648320" cy="1557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cause many _________ in South Asian countries do not receive a good education, the birth rate is 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964200" y="1295280"/>
            <a:ext cx="198936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410080" y="4419720"/>
            <a:ext cx="1144800" cy="2209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477120" y="4648320"/>
            <a:ext cx="1284120" cy="1752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7848720" y="4419720"/>
            <a:ext cx="11444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800600" y="1523880"/>
            <a:ext cx="4191120" cy="27702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Gender Pre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4800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any South Asian cultures, there is a preference to have a son rather than a daugh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of this local culture and tradition many families will continue having children until they have a 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ments in healthcare have led to a decrease in the infant mortality rate causing a population explo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4267080"/>
            <a:ext cx="4648320" cy="1557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cause there is a ________ _____________ for male babies, the birth rate is _____ in South Asia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1523880"/>
            <a:ext cx="4191120" cy="27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181480" y="4419720"/>
            <a:ext cx="1981440" cy="2209680"/>
            <a:chOff x="5181480" y="4419720"/>
            <a:chExt cx="1981440" cy="220968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5334120" y="4572000"/>
              <a:ext cx="17017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181480" y="4419720"/>
              <a:ext cx="1981440" cy="2209680"/>
            </a:xfrm>
            <a:prstGeom prst="noSmoking">
              <a:avLst>
                <a:gd name="adj" fmla="val 12500"/>
              </a:avLst>
            </a:prstGeom>
            <a:solidFill>
              <a:srgbClr val="ff00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7162920" y="4495680"/>
            <a:ext cx="1768320" cy="1905120"/>
            <a:chOff x="7162920" y="4495680"/>
            <a:chExt cx="1768320" cy="1905120"/>
          </a:xfrm>
        </p:grpSpPr>
        <p:pic>
          <p:nvPicPr>
            <p:cNvPr id="79" name="" descr=""/>
            <p:cNvPicPr/>
            <p:nvPr/>
          </p:nvPicPr>
          <p:blipFill>
            <a:blip r:embed="rId3"/>
            <a:stretch/>
          </p:blipFill>
          <p:spPr>
            <a:xfrm>
              <a:off x="7162920" y="4495680"/>
              <a:ext cx="176832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7354800" y="5637240"/>
              <a:ext cx="533520" cy="533520"/>
            </a:xfrm>
            <a:prstGeom prst="line">
              <a:avLst/>
            </a:prstGeom>
            <a:ln w="127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7848720" y="4647960"/>
              <a:ext cx="761760" cy="1523880"/>
            </a:xfrm>
            <a:prstGeom prst="line">
              <a:avLst/>
            </a:prstGeom>
            <a:ln w="127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ffects of Overpopulation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overpopulation effect South Asian countries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3840" y="3048120"/>
            <a:ext cx="9020160" cy="3105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90720" y="2895480"/>
            <a:ext cx="2057400" cy="32004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4:24:13Z</dcterms:created>
  <dc:creator>CFISD</dc:creator>
  <dc:description/>
  <dc:language>en-US</dc:language>
  <cp:lastModifiedBy>CFISD</cp:lastModifiedBy>
  <dcterms:modified xsi:type="dcterms:W3CDTF">2009-03-12T15:16:15Z</dcterms:modified>
  <cp:revision>18</cp:revision>
  <dc:subject/>
  <dc:title>Why is the population of South Asia growing so fast?</dc:title>
</cp:coreProperties>
</file>