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088-1E70-44B3-8E1B-80EB2A47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436-E8C9-4D49-A0FD-E69F27BF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EAD-6DA7-4ED5-AD55-7F019A4B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D0C-BE98-4B1F-AE4E-BDF13259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4B1-659A-40D5-AB33-5522288C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A3B-F4C9-402B-841C-BAEE9924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658-1136-4C0D-9296-26A90D34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A1D-21D1-4F46-8B8C-4CFA5C3B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F3B-0F53-459E-B2FF-05948AA3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3E6-2E7B-4CBF-8887-81285B0C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74D-FD84-4507-BC4F-AD0CF349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445-0CC3-4B2F-85C3-7438E1E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34E5-63B2-4172-8FA4-C9A4A23D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8/Kolkata_Bagbazar_Ghat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compulsivetraveler.tv/videos/408-Ganges-River-Pollutio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is the population of South Asia growing so fas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78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od is used for building materials, furniture, funeral pyres, and so 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pidly growing population of South Asian countries have created an increase in the demand of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demand for wood and new arable (farm) land has led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ores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lear cutting of forested 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648320"/>
            <a:ext cx="46479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rapid population growth is creating rapid ___________ in South Asian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Bamboo forest in Gangtok, Gangtok, India"/>
          <p:cNvPicPr/>
          <p:nvPr/>
        </p:nvPicPr>
        <p:blipFill>
          <a:blip r:embed="rId1"/>
          <a:stretch/>
        </p:blipFill>
        <p:spPr>
          <a:xfrm>
            <a:off x="5257800" y="1828800"/>
            <a:ext cx="3753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Endangered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population growth results in the loss of habitat for man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nimals like tigers, elephants and rhinos lose habitat they can become endanger of exti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n the early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ury there were 40,000+ tigers in the wild.  Today there are only about 4,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295280"/>
            <a:ext cx="396252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is destroying the natural ________ of many ___________ _______ like tigers, elephants, and rh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266688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15000" y="4952880"/>
            <a:ext cx="2666880" cy="147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Pollution of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the population rapidly increases and urbanizes, more waste and pollution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50 million people live along the banks of the Ganges 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anges River has become extremely polluted and now effects the health of the nearby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962520"/>
            <a:ext cx="464832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growing population has increased ___________ of the ________ River and increased the health risk to the 350 million people that liv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mage:Kolkata Bagbazar Gh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95280"/>
            <a:ext cx="3581280" cy="204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57800" y="1295280"/>
            <a:ext cx="35812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4680" y="6324480"/>
            <a:ext cx="3250080" cy="3682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nges River 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unrise at the shore of the Ganges River"/>
          <p:cNvPicPr/>
          <p:nvPr/>
        </p:nvPicPr>
        <p:blipFill>
          <a:blip r:embed="rId4"/>
          <a:stretch/>
        </p:blipFill>
        <p:spPr>
          <a:xfrm>
            <a:off x="51814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81480" y="3505320"/>
            <a:ext cx="3657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Gree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733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wing population in South Asia created a shortage of food and frequent fam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increase food production, new crop varieties and new technologies (like irrigation projects and new fertilizers) wer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food production has allowed India to feed its growing population but has also increased pollution from pesticides an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487692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led to the _______ Revolution and an increase in ______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2666880"/>
            <a:ext cx="5257800" cy="388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– What does overpopula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umdog Overpopul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are the kids playing? Explain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scribe their neighbo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9436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6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ver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population is when an area surpasses its carrying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opulation goes above the carrying capacity pollution, famine, and disease can incre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666880"/>
            <a:ext cx="342900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rying Capacity is the maximum number of people that can live in an area without negativ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4713120"/>
            <a:ext cx="2286000" cy="214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3733920"/>
            <a:ext cx="1905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Record what is in the box in your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py down what is inside the box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ad along the rest of slide as we discuss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 of 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opulatoin_19502050.GIF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Agrarian (Farming) Socie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0% of all workers in South Asia work in agriculture (mostly rice, cotton, tea, and sugarcane farm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mers tend to have more children to help them work the f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of this, Agrarian (farming) societies usually have higher birth rates and rapidly growing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504960" cy="177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3353040" cy="285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434340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 Asian countries have a rapidly ________ populations because of the large number of small, family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752480"/>
            <a:ext cx="35049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809880"/>
            <a:ext cx="335304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Red and Green"/>
          <p:cNvPicPr/>
          <p:nvPr/>
        </p:nvPicPr>
        <p:blipFill>
          <a:blip r:embed="rId1"/>
          <a:stretch/>
        </p:blipFill>
        <p:spPr>
          <a:xfrm>
            <a:off x="6959520" y="1295280"/>
            <a:ext cx="1978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Lack of Education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women in South Asian countries are unable to receive a qual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teracy rate for South Asia is low and especially low for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s – 73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 – 47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omen receive more education they tend to begin having children later in life and the birth rate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9528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many _________ in South Asian countries do not receive a good education, the birth rate is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64200" y="1295280"/>
            <a:ext cx="19893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114480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128412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848720" y="4419720"/>
            <a:ext cx="1144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191120" cy="2770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Gender P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South Asian cultures, there is a preference to have a son rather than a daugh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is local culture and tradition many families will continue having children until they have a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in healthcare have led to a decrease in the infant mortality rate causing a population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2670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there is a ________ _____________ for male babies, the birth rate is _____ in South Asi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523880"/>
            <a:ext cx="4191120" cy="27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81480" y="4419720"/>
            <a:ext cx="1981440" cy="2209680"/>
            <a:chOff x="5181480" y="4419720"/>
            <a:chExt cx="1981440" cy="22096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334120" y="4572000"/>
              <a:ext cx="1701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81480" y="4419720"/>
              <a:ext cx="1981440" cy="220968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62920" y="4495680"/>
            <a:ext cx="1768320" cy="1905120"/>
            <a:chOff x="7162920" y="4495680"/>
            <a:chExt cx="1768320" cy="190512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7162920" y="4495680"/>
              <a:ext cx="17683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354800" y="5637240"/>
              <a:ext cx="533520" cy="53352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848720" y="4647960"/>
              <a:ext cx="761760" cy="152388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Overpop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overpopulation effect South Asian countrie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3840" y="3048120"/>
            <a:ext cx="9020160" cy="310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2895480"/>
            <a:ext cx="2057400" cy="3200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24:13Z</dcterms:created>
  <dc:creator>CFISD</dc:creator>
  <dc:description/>
  <dc:language>en-US</dc:language>
  <cp:lastModifiedBy>CFISD</cp:lastModifiedBy>
  <dcterms:modified xsi:type="dcterms:W3CDTF">2009-03-12T15:16:15Z</dcterms:modified>
  <cp:revision>18</cp:revision>
  <dc:subject/>
  <dc:title>Why is the population of South Asia growing so fast?</dc:title>
</cp:coreProperties>
</file>