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BE04C-5AE7-465D-BEEA-FDF23D936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804C2-E480-4276-8362-540BA0C2E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AE2C1-5F5A-4355-A06F-8D897F00F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4335F-AF0C-478C-A857-AA1812B46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70C0F-8287-4D7F-8FB7-BF08D99C1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FBE59-8C8E-4749-8FC4-2AE8CFAD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9B3E0-F858-417F-B34C-331A61F8D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BC741-0718-4160-8CDB-B8993E491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B8EC5-161E-4748-B1D2-10B84DD02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404FE-7690-4CD1-989E-FF482F73E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C8BDD-010F-4831-B955-51B8B9B8A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689AC-0AB2-4D00-8374-5F49D5A7D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7FF8-3C3F-43F6-BF1A-82E49CA4D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arah Dy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eptember 2008</a:t>
            </a:r>
            <a:endParaRPr b="0" lang="en-US" sz="3200" spc="-1" strike="noStrike">
              <a:solidFill>
                <a:srgbClr val="000000"/>
              </a:solidFill>
              <a:latin typeface="Arial"/>
            </a:endParaRPr>
          </a:p>
        </p:txBody>
      </p:sp>
      <p:sp>
        <p:nvSpPr>
          <p:cNvPr id="42" name=""/>
          <p:cNvSpPr txBox="1"/>
          <p:nvPr/>
        </p:nvSpPr>
        <p:spPr>
          <a:xfrm rot="514800">
            <a:off x="1599840" y="1905120"/>
            <a:ext cx="5734080" cy="159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Orso University</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64" name=""/>
          <p:cNvGraphicFramePr/>
          <p:nvPr/>
        </p:nvGraphicFramePr>
        <p:xfrm>
          <a:off x="457200" y="1600200"/>
          <a:ext cx="8229600" cy="4862520"/>
        </p:xfrm>
        <a:graphic>
          <a:graphicData uri="http://schemas.openxmlformats.org/drawingml/2006/table">
            <a:tbl>
              <a:tblPr/>
              <a:tblGrid>
                <a:gridCol w="2057400"/>
                <a:gridCol w="2057400"/>
                <a:gridCol w="2057400"/>
                <a:gridCol w="2057400"/>
              </a:tblGrid>
              <a:tr h="1230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ulation of are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ould like your school built in a populated area that will provide you with students and allow socialization and interactions. A high population would also give reasoning for more attrac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 flow</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school is built in an area with a high amount of traffic students will have less motivation to go to that school since it could be a large hassle to get to and out of. If the area has hardly any traffic people will be more attracted to the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by attract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ould be more attracted to the school if it had nearby attractions and entertainment of all kinds therefore providing the student with activities to do in the free time and when people visit th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txBox="1"/>
          <p:nvPr/>
        </p:nvSpPr>
        <p:spPr>
          <a:xfrm>
            <a:off x="1600200" y="152280"/>
            <a:ext cx="624852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Other Sources</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6" name=""/>
          <p:cNvSpPr txBox="1"/>
          <p:nvPr/>
        </p:nvSpPr>
        <p:spPr>
          <a:xfrm rot="882600">
            <a:off x="2895120" y="-380880"/>
            <a:ext cx="3029040" cy="22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Conclusion</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67" name=""/>
          <p:cNvGraphicFramePr/>
          <p:nvPr/>
        </p:nvGraphicFramePr>
        <p:xfrm>
          <a:off x="2209680" y="1905120"/>
          <a:ext cx="4419360" cy="4209840"/>
        </p:xfrm>
        <a:graphic>
          <a:graphicData uri="http://schemas.openxmlformats.org/drawingml/2006/table">
            <a:tbl>
              <a:tblPr/>
              <a:tblGrid>
                <a:gridCol w="2209680"/>
                <a:gridCol w="2209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pla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rricane storm sur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she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ra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 Pric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Data and mechanical weath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conclusion I chose to build Orso University in Central Downtown Houston because it is high in population but not too high and is located in an area with surrounding attractions. It is not around any hazardous faults or in danger of storm surge or flooding. This area is also not very high in crime rate and I therefore conclude that Central Downtown Houston is a great place to build an education center of this level.</a:t>
            </a:r>
            <a:endParaRPr b="0" lang="en-US" sz="2800" spc="-1" strike="noStrike">
              <a:solidFill>
                <a:srgbClr val="000000"/>
              </a:solidFill>
              <a:latin typeface="Arial"/>
            </a:endParaRPr>
          </a:p>
        </p:txBody>
      </p:sp>
      <p:sp>
        <p:nvSpPr>
          <p:cNvPr id="69" name=""/>
          <p:cNvSpPr txBox="1"/>
          <p:nvPr/>
        </p:nvSpPr>
        <p:spPr>
          <a:xfrm rot="679800">
            <a:off x="3048120" y="0"/>
            <a:ext cx="2495520" cy="151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pply</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potential natural disasters?</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limate like?</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plate tectonics interfere with the lo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rime rate in the area? </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of the land in the area?</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urrounding attrac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txBox="1"/>
          <p:nvPr/>
        </p:nvSpPr>
        <p:spPr>
          <a:xfrm>
            <a:off x="1600200" y="380880"/>
            <a:ext cx="575316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Questions to ponder…</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622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0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ley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near a creek valley on more defined land. Does not normally occur near housing. Flooding can be very quick and dee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th and northwestern part of Harris coun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rther the house is away from the floodplain the lesser chance of flooding. When flooding occurs it can last up to a couple of day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River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very larger floodplain that experiences very deep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ong the San Jacinto Riv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ooding can last for a week or more and is very deep, houses are vulnerable to flooding if not raised above groun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llow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ing occurs when the channel capacity is reached. Tends to be shallow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out the coun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ooding only lasts for a few hours and normally won’t come up to buildings; stays in the stree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48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astal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is located near the seaside and is cause from high tides/ surges, and hurricanes which raise the sea level creating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east part of Harris county/ seasi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and buildings can be affected especially those that are not above the ground. Flooding is dependent on the size of tide or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txBox="1"/>
          <p:nvPr/>
        </p:nvSpPr>
        <p:spPr>
          <a:xfrm rot="307200">
            <a:off x="2285640" y="-151920"/>
            <a:ext cx="4124160" cy="1752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Floodplains</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48" name=""/>
          <p:cNvGraphicFramePr/>
          <p:nvPr/>
        </p:nvGraphicFramePr>
        <p:xfrm>
          <a:off x="533520" y="2209680"/>
          <a:ext cx="7924680" cy="4010040"/>
        </p:xfrm>
        <a:graphic>
          <a:graphicData uri="http://schemas.openxmlformats.org/drawingml/2006/table">
            <a:tbl>
              <a:tblPr/>
              <a:tblGrid>
                <a:gridCol w="1981080"/>
                <a:gridCol w="1981080"/>
                <a:gridCol w="1981440"/>
                <a:gridCol w="1981080"/>
              </a:tblGrid>
              <a:tr h="358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highest risk because it is closer to the coast and therefore highe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dar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possible risk because it is located near a river that has possible chance of flooding if large precipitation occ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ing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50/50 risk because it is in a shallow floodplain which means if flooding occurs it would not be deep or high flood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2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ffalo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possible but unlikely risk since it is in a shallow floodplain with almost no chance of flooding yet it is still possibl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txBox="1"/>
          <p:nvPr/>
        </p:nvSpPr>
        <p:spPr>
          <a:xfrm>
            <a:off x="1828800" y="304920"/>
            <a:ext cx="557208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Floodplains Ranking</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0" name=""/>
          <p:cNvGraphicFramePr/>
          <p:nvPr/>
        </p:nvGraphicFramePr>
        <p:xfrm>
          <a:off x="533520" y="5715000"/>
          <a:ext cx="7924320" cy="533520"/>
        </p:xfrm>
        <a:graphic>
          <a:graphicData uri="http://schemas.openxmlformats.org/drawingml/2006/table">
            <a:tbl>
              <a:tblPr/>
              <a:tblGrid>
                <a:gridCol w="1981080"/>
                <a:gridCol w="1981080"/>
                <a:gridCol w="1981080"/>
                <a:gridCol w="1981080"/>
              </a:tblGrid>
              <a:tr h="533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 Zone 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ow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east risk since it is in FEMA zone X.</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1" name=""/>
          <p:cNvSpPr txBox="1"/>
          <p:nvPr/>
        </p:nvSpPr>
        <p:spPr>
          <a:xfrm>
            <a:off x="1523880" y="304920"/>
            <a:ext cx="647712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Flooding and </a:t>
            </a:r>
            <a:endParaRPr b="0" lang="en-US" sz="1800" spc="1" strike="noStrike">
              <a:ln w="9360">
                <a:solidFill>
                  <a:srgbClr val="000000"/>
                </a:solidFill>
                <a:miter/>
              </a:ln>
              <a:solidFill>
                <a:srgbClr val="ffcc00"/>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Hurricane Data</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2" name=""/>
          <p:cNvGraphicFramePr/>
          <p:nvPr/>
        </p:nvGraphicFramePr>
        <p:xfrm>
          <a:off x="838080" y="1981080"/>
          <a:ext cx="7848720" cy="4604040"/>
        </p:xfrm>
        <a:graphic>
          <a:graphicData uri="http://schemas.openxmlformats.org/drawingml/2006/table">
            <a:tbl>
              <a:tblPr/>
              <a:tblGrid>
                <a:gridCol w="1962360"/>
                <a:gridCol w="1962000"/>
                <a:gridCol w="1962360"/>
                <a:gridCol w="19620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that would require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ight of storm surge that would flood a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F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3" name=""/>
          <p:cNvSpPr txBox="1"/>
          <p:nvPr/>
        </p:nvSpPr>
        <p:spPr>
          <a:xfrm>
            <a:off x="2057400" y="228600"/>
            <a:ext cx="522936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Fault Data</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4" name=""/>
          <p:cNvGraphicFramePr/>
          <p:nvPr/>
        </p:nvGraphicFramePr>
        <p:xfrm>
          <a:off x="304920" y="1752480"/>
          <a:ext cx="5486400" cy="4969080"/>
        </p:xfrm>
        <a:graphic>
          <a:graphicData uri="http://schemas.openxmlformats.org/drawingml/2006/table">
            <a:tbl>
              <a:tblPr/>
              <a:tblGrid>
                <a:gridCol w="1371600"/>
                <a:gridCol w="1371600"/>
                <a:gridCol w="1371600"/>
                <a:gridCol w="1371600"/>
              </a:tblGrid>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ed Repair Cos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8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ton, Pecore, Ship Channel, Magnolia and Memorial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st because it has a large amount of faults in the are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nd, Pelly and Ship Channel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o worst because although it has no fault directly nearby is has many faults around the locat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core, Clinton and Eureka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because it has only a few faults that are located outside of the are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unidentified Fa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o best because it has one fault outside of the area quite far awa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st because it has no faults nearb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6095880" y="17524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172200" y="1828800"/>
            <a:ext cx="27432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aults could cause earthquakes and possible seismic waves from the bodies of water nearby like the Gulf of Mexic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880" y="259092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udents would prefer to live in a low crime area therefore you would want the crime rate to be low to attract more students. A conundrum is then formed because along with more students usually comes a higher crime rate since a good amount of crime is caused by teenagers and young adults. Overall creating a school in a low crime rate area would be more productive and would attract more students.</a:t>
            </a:r>
            <a:endParaRPr b="0" lang="en-US" sz="2000" spc="-1" strike="noStrike">
              <a:solidFill>
                <a:srgbClr val="000000"/>
              </a:solidFill>
              <a:latin typeface="Arial"/>
            </a:endParaRPr>
          </a:p>
        </p:txBody>
      </p:sp>
      <p:sp>
        <p:nvSpPr>
          <p:cNvPr id="58" name=""/>
          <p:cNvSpPr txBox="1"/>
          <p:nvPr/>
        </p:nvSpPr>
        <p:spPr>
          <a:xfrm>
            <a:off x="228600" y="533520"/>
            <a:ext cx="8534520" cy="685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Crime Data </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59" name=""/>
          <p:cNvGraphicFramePr/>
          <p:nvPr/>
        </p:nvGraphicFramePr>
        <p:xfrm>
          <a:off x="457200" y="1600200"/>
          <a:ext cx="4800600" cy="4813200"/>
        </p:xfrm>
        <a:graphic>
          <a:graphicData uri="http://schemas.openxmlformats.org/drawingml/2006/table">
            <a:tbl>
              <a:tblPr/>
              <a:tblGrid>
                <a:gridCol w="2400480"/>
                <a:gridCol w="2400120"/>
              </a:tblGrid>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Locat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rice per acr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 Tomball</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ffma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ysid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73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Downtown Houst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5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town Houston Eas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txBox="1"/>
          <p:nvPr/>
        </p:nvSpPr>
        <p:spPr>
          <a:xfrm>
            <a:off x="2133720" y="152280"/>
            <a:ext cx="547668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Land Prices</a:t>
            </a:r>
            <a:endParaRPr b="0" lang="en-US" sz="1800" spc="1" strike="noStrike">
              <a:ln w="9360">
                <a:solidFill>
                  <a:srgbClr val="000000"/>
                </a:solidFill>
                <a:miter/>
              </a:ln>
              <a:solidFill>
                <a:srgbClr val="ffcc00"/>
              </a:solidFill>
              <a:latin typeface="Copperplate Gothic Bold"/>
              <a:ea typeface="Copperplate Gothic Bold"/>
            </a:endParaRPr>
          </a:p>
        </p:txBody>
      </p:sp>
      <p:sp>
        <p:nvSpPr>
          <p:cNvPr id="61" name=""/>
          <p:cNvSpPr/>
          <p:nvPr/>
        </p:nvSpPr>
        <p:spPr>
          <a:xfrm>
            <a:off x="5791320" y="1676520"/>
            <a:ext cx="25146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of land could affect the new student recruitment because if the student can’t afford to live on or off campus whichever may be their choice then the chance of them attending the school lesse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board of Directors and Investors will put both into consideration and try to find a location that is low in crime and has cheap land.  As the crime rate decreases the land price will increase because it is a more desirably area and therefore it will probably in most cases be in the middle.</a:t>
            </a:r>
            <a:endParaRPr b="0" lang="en-US" sz="3200" spc="-1" strike="noStrike">
              <a:solidFill>
                <a:srgbClr val="000000"/>
              </a:solidFill>
              <a:latin typeface="Arial"/>
            </a:endParaRPr>
          </a:p>
        </p:txBody>
      </p:sp>
      <p:sp>
        <p:nvSpPr>
          <p:cNvPr id="63" name=""/>
          <p:cNvSpPr txBox="1"/>
          <p:nvPr/>
        </p:nvSpPr>
        <p:spPr>
          <a:xfrm rot="280800">
            <a:off x="761760" y="-304560"/>
            <a:ext cx="7753320" cy="2271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Crime and Land Data</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6:07:45Z</dcterms:created>
  <dc:creator>Daniel Dye</dc:creator>
  <dc:description/>
  <dc:language>en-US</dc:language>
  <cp:lastModifiedBy>cfisd</cp:lastModifiedBy>
  <dcterms:modified xsi:type="dcterms:W3CDTF">2008-10-03T13:10:12Z</dcterms:modified>
  <cp:revision>11</cp:revision>
  <dc:subject/>
  <dc:title>Slide 1</dc:title>
</cp:coreProperties>
</file>