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20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243B-C4DA-4F65-A8ED-6E1D0B40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7FE3-D6F6-40A2-AE48-F97D21E26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8691-32D8-4953-BC3C-C2212132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AA8-4AE5-4D69-820D-BD40FD45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67A-DC59-4703-AECD-96C6EF0A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E7E-031E-449F-B07D-271FD870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DD9-2109-449C-86B3-017E8FFD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A46A-050C-4712-8C9A-12F1F2B2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2A9-9042-479E-9568-2888215B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612-0F3B-4C2E-BD57-8D9A8E02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E95-7F6D-4C86-9A43-4554D4A9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77B-356B-442A-9133-178DE6E4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82FA-4BAB-4FD2-9AC4-71F09B227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United_States" TargetMode="External"/><Relationship Id="rId3" Type="http://schemas.openxmlformats.org/officeDocument/2006/relationships/hyperlink" Target="http://en.wikipedia.org/wiki/China" TargetMode="External"/><Relationship Id="rId4" Type="http://schemas.openxmlformats.org/officeDocument/2006/relationships/hyperlink" Target="http://en.wikipedia.org/wiki/Japan" TargetMode="External"/><Relationship Id="rId5" Type="http://schemas.openxmlformats.org/officeDocument/2006/relationships/hyperlink" Target="http://en.wikipedia.org/wiki/Russia" TargetMode="External"/><Relationship Id="rId6" Type="http://schemas.openxmlformats.org/officeDocument/2006/relationships/hyperlink" Target="http://en.wikipedia.org/wiki/Germany" TargetMode="External"/><Relationship Id="rId7" Type="http://schemas.openxmlformats.org/officeDocument/2006/relationships/hyperlink" Target="http://en.wikipedia.org/wiki/India" TargetMode="External"/><Relationship Id="rId8" Type="http://schemas.openxmlformats.org/officeDocument/2006/relationships/hyperlink" Target="http://en.wikipedia.org/wiki/Petroleum" TargetMode="External"/><Relationship Id="rId9" Type="http://schemas.openxmlformats.org/officeDocument/2006/relationships/image" Target="../media/image8.png"/><Relationship Id="rId10" Type="http://schemas.openxmlformats.org/officeDocument/2006/relationships/hyperlink" Target="http://en.wikipedia.org/wiki/Petroleum" TargetMode="External"/><Relationship Id="rId11" Type="http://schemas.openxmlformats.org/officeDocument/2006/relationships/image" Target="../media/image8.png"/><Relationship Id="rId12" Type="http://schemas.openxmlformats.org/officeDocument/2006/relationships/hyperlink" Target="http://en.wikipedia.org/wiki/Petroleum" TargetMode="External"/><Relationship Id="rId13" Type="http://schemas.openxmlformats.org/officeDocument/2006/relationships/image" Target="../media/image8.png"/><Relationship Id="rId14" Type="http://schemas.openxmlformats.org/officeDocument/2006/relationships/hyperlink" Target="http://en.wikipedia.org/wiki/Petroleum" TargetMode="External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44956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Oil in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Southwest 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Asia</a:t>
            </a:r>
            <a:endParaRPr b="0" lang="en-US" sz="1800" spc="1" strike="noStrike">
              <a:ln w="414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s below based on the two charts from the previous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o produc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o consumes the most oi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Saudi Arabia and the US are linked economic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oil important economically in Southwest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age 505 re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il Dominates the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age 530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sing Oil Wealth to Divers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nswer this ques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who needs oil and who has the o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information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2219400" cy="2819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276720" y="4648320"/>
            <a:ext cx="25812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019920" y="1600200"/>
            <a:ext cx="2705040" cy="238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rot="21455400">
            <a:off x="5181480" y="1981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rot="16291200">
            <a:off x="4335840" y="3817080"/>
            <a:ext cx="1447920" cy="97632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619123"/>
                <a:lnTo>
                  <a:pt x="15" y="10232"/>
                </a:lnTo>
                <a:arcTo wR="10800" hR="10800" stAng="-10619123" swAng="10619123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rot="7444200">
            <a:off x="7389360" y="3963240"/>
            <a:ext cx="1447920" cy="9759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975960"/>
              <a:gd name="textAreaBottom" fmla="*/ 976320 h 9759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200400" y="2057400"/>
            <a:ext cx="763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098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OP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3886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oil titled OPEC After 1975 from the wi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following questions and add them to your concept map/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. Who is OPEC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. What does OPEC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 Explain the origins of the Kuwait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1320" y="838080"/>
            <a:ext cx="3124080" cy="289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114800" y="36576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roducing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60199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C = Blu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52280" y="304560"/>
            <a:ext cx="944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kepoints – Narrow passages on land or water that are important economically and political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29440" y="6553080"/>
            <a:ext cx="55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people.hofstra.edu/geotrans/eng/ch5en/conc5en/ch5c1e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610480" cy="51595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ich chokepoint has more oil being transported for global tra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464832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562720" y="1676520"/>
            <a:ext cx="3429000" cy="3504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920" y="5118120"/>
            <a:ext cx="954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What would happen to oil produ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Saudi Arabia/Kuwa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9080" y="0"/>
            <a:ext cx="88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What would happen to oil consu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untries if these chokepoints w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osed? (Think about the US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19520" y="304812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209680"/>
            <a:ext cx="9144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W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kepoi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itional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rn Isl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23720" y="3048120"/>
            <a:ext cx="2286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1447920"/>
            <a:ext cx="3276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go to war to ge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 supp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648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4876920"/>
            <a:ext cx="2359080" cy="61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demand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 by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5486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8600" y="2895480"/>
            <a:ext cx="990720" cy="762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4952880"/>
            <a:ext cx="21337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OPEC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the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952880"/>
            <a:ext cx="26668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are choke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in this reg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46483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5638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324480" y="59436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ez Canal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t of Hormuz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5791320"/>
            <a:ext cx="2133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55627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1981080"/>
            <a:ext cx="28958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oil can lead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257800" y="2514600"/>
            <a:ext cx="7632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2819520"/>
            <a:ext cx="2210040" cy="99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2514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962520" y="2666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638680"/>
            <a:ext cx="2971800" cy="1067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-producing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on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velop infrastruct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, and educ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for oil can lead to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– Economic growth for oil producing developing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– Imported oil can cause inflation in consumer countries (prices go u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4800600"/>
            <a:ext cx="0" cy="3808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5257800"/>
            <a:ext cx="65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rices continue to go up, consu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develop alternative fuels/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715000" y="1066680"/>
            <a:ext cx="22766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0" y="533520"/>
            <a:ext cx="228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Explain the phrase “Oil makes the world go ‘round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Oil in Southwest Asia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743200" y="3123720"/>
            <a:ext cx="4572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2209680"/>
            <a:ext cx="2362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strategic commo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your textbook to page 529 for the definition to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age 517 and rea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 of Oil Fiel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ind an example to match the definition of strategic commo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Add the definition and example to your concept m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429000" y="1447920"/>
            <a:ext cx="518148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87760" y="58672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hting in the Persian Gulf War – Kuwa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burning oil fields in the backg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ian Gulf War – 199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Iraqi occupation of Kuwa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id Iraq invade Kuwait? (add this one to your concept m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7226" t="18337" r="46999" b="13605"/>
          <a:stretch/>
        </p:blipFill>
        <p:spPr>
          <a:xfrm>
            <a:off x="3886200" y="3124080"/>
            <a:ext cx="5029200" cy="3133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ud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246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20040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57913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7619760" y="4876560"/>
            <a:ext cx="7596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 both written and visual information to your concept map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il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971800" y="2057400"/>
            <a:ext cx="38088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371600"/>
            <a:ext cx="24382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038480"/>
            <a:ext cx="25909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 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743200" y="4343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990720" cy="761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7640" y="137160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il/petroleum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c commo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2057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438280"/>
            <a:ext cx="281952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source so importa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will go to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a steady supply of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– Persian Gulf Wa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Oil Producing Countries – Oil Reserves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1219320"/>
          <a:ext cx="8991720" cy="5084640"/>
        </p:xfrm>
        <a:graphic>
          <a:graphicData uri="http://schemas.openxmlformats.org/drawingml/2006/table">
            <a:tbl>
              <a:tblPr/>
              <a:tblGrid>
                <a:gridCol w="2581560"/>
                <a:gridCol w="2163600"/>
                <a:gridCol w="2128680"/>
                <a:gridCol w="21178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ductio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eserve lif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illion barrel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illion barrels/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udi 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wa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ed Arab Emira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il Con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066680"/>
          <a:ext cx="8381880" cy="5486400"/>
        </p:xfrm>
        <a:graphic>
          <a:graphicData uri="http://schemas.openxmlformats.org/drawingml/2006/table">
            <a:tbl>
              <a:tblPr/>
              <a:tblGrid>
                <a:gridCol w="814320"/>
                <a:gridCol w="2157480"/>
                <a:gridCol w="3400560"/>
                <a:gridCol w="2009520"/>
              </a:tblGrid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uming Nation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aaaaa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,000 bbl/day) 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da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United States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Chi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Japan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Russ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Germany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aaaaa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India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 w="720">
                      <a:solidFill>
                        <a:srgbClr val="aaaaaa"/>
                      </a:solidFill>
                    </a:lnR>
                    <a:lnT w="720">
                      <a:solidFill>
                        <a:srgbClr val="aaaaaa"/>
                      </a:solidFill>
                    </a:lnT>
                    <a:lnB w="720">
                      <a:solidFill>
                        <a:srgbClr val="aaaaaa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aaaaa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↓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11456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↓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4346640" y="2192400"/>
            <a:ext cx="114120" cy="1332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↓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265800" y="2192400"/>
            <a:ext cx="114480" cy="13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↓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8129520" y="2192400"/>
            <a:ext cx="11448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04:14:44Z</dcterms:created>
  <dc:creator>Andrew Nixon</dc:creator>
  <dc:description/>
  <dc:language>en-US</dc:language>
  <cp:lastModifiedBy>CFISD</cp:lastModifiedBy>
  <dcterms:modified xsi:type="dcterms:W3CDTF">2009-02-18T13:27:57Z</dcterms:modified>
  <cp:revision>27</cp:revision>
  <dc:subject/>
  <dc:title>Slide 1</dc:title>
</cp:coreProperties>
</file>