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1BC-A580-4577-9F24-0672545E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662-7C6C-48EE-89C5-2AC3A4A3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536-0CF5-4649-8D34-CF003E43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10F-27A8-4377-ABC0-59F0C10F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89E-5E0B-441A-820C-5E9DED62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DD6-A5D6-41E4-8B80-7D85026A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A72-8305-41AC-A841-C63343EF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31C-3818-43A0-A7DA-56780D2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FBD-7B71-4BE5-90C7-1941610E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FD9-24C7-4972-8C85-432A4091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8D5-9672-4BFC-986A-EBF28878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683-FFA5-4278-B8D6-0ABBEDAD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6EEB-7016-408D-BC0D-634606C4E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United_States" TargetMode="External"/><Relationship Id="rId3" Type="http://schemas.openxmlformats.org/officeDocument/2006/relationships/hyperlink" Target="http://en.wikipedia.org/wiki/China" TargetMode="External"/><Relationship Id="rId4" Type="http://schemas.openxmlformats.org/officeDocument/2006/relationships/hyperlink" Target="http://en.wikipedia.org/wiki/Japan" TargetMode="External"/><Relationship Id="rId5" Type="http://schemas.openxmlformats.org/officeDocument/2006/relationships/hyperlink" Target="http://en.wikipedia.org/wiki/Russia" TargetMode="External"/><Relationship Id="rId6" Type="http://schemas.openxmlformats.org/officeDocument/2006/relationships/hyperlink" Target="http://en.wikipedia.org/wiki/Germany" TargetMode="External"/><Relationship Id="rId7" Type="http://schemas.openxmlformats.org/officeDocument/2006/relationships/hyperlink" Target="http://en.wikipedia.org/wiki/India" TargetMode="External"/><Relationship Id="rId8" Type="http://schemas.openxmlformats.org/officeDocument/2006/relationships/hyperlink" Target="http://en.wikipedia.org/wiki/Petroleum" TargetMode="External"/><Relationship Id="rId9" Type="http://schemas.openxmlformats.org/officeDocument/2006/relationships/image" Target="../media/image8.png"/><Relationship Id="rId10" Type="http://schemas.openxmlformats.org/officeDocument/2006/relationships/hyperlink" Target="http://en.wikipedia.org/wiki/Petroleum" TargetMode="External"/><Relationship Id="rId11" Type="http://schemas.openxmlformats.org/officeDocument/2006/relationships/image" Target="../media/image8.png"/><Relationship Id="rId12" Type="http://schemas.openxmlformats.org/officeDocument/2006/relationships/hyperlink" Target="http://en.wikipedia.org/wiki/Petroleum" TargetMode="External"/><Relationship Id="rId13" Type="http://schemas.openxmlformats.org/officeDocument/2006/relationships/image" Target="../media/image8.png"/><Relationship Id="rId14" Type="http://schemas.openxmlformats.org/officeDocument/2006/relationships/hyperlink" Target="http://en.wikipedia.org/wiki/Petroleum" TargetMode="External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44956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il in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Southwest 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sia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below based on the two charts from the previous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o produc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o consum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Saudi Arabia and the US are linked econom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oil important economically in Southwest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ge 505 re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il Dominates the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age 53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ing Oil Wealth to Diver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nswer this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who needs oil and who has th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formation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2194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5812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019920" y="1600200"/>
            <a:ext cx="2705040" cy="238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rot="21455400">
            <a:off x="5181480" y="1981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91200">
            <a:off x="4335840" y="3817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619123"/>
                <a:lnTo>
                  <a:pt x="15" y="10232"/>
                </a:lnTo>
                <a:arcTo wR="10800" hR="10800" stAng="-10619123" swAng="106191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7444200">
            <a:off x="7389360" y="3963240"/>
            <a:ext cx="1447920" cy="9759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98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OP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oil titled OPEC After 1975 from the wi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following questions and add them to your concept map/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 Who is OPE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. What does OPEC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Explain the origins of the Kuwait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838080"/>
            <a:ext cx="3124080" cy="289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1480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Produc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60199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C = Blu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kepoints – Narrow passages on land or water that are important economically and politic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29440" y="6553080"/>
            <a:ext cx="55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people.hofstra.edu/geotrans/eng/ch5en/conc5en/ch5c1e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610480" cy="5159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chokepoint has more oil being transported for global tra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648320" cy="312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3429000" cy="3504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118120"/>
            <a:ext cx="95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would happen to oil produ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Saudi Arabia/Kuwa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 would happen to oil consu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the US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0481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209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1981080"/>
            <a:ext cx="2895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for oil can lea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57800" y="2514600"/>
            <a:ext cx="76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19520"/>
            <a:ext cx="221004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962520" y="266688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for oil can lead t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– Economic growth for oil producing developing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– Imported oil can cause inflation in consumer countries (prices go u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48006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2578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s continue to go up, consu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develop alternative fuels/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2766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0" y="533520"/>
            <a:ext cx="228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the phrase “Oil makes the world go ‘round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Oil in Southwest Asia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743200" y="3123720"/>
            <a:ext cx="4572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20968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strategic commo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your textbook to page 529 for the definition to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age 517 and re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 of Oil Fie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ind an example to match the definition of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dd the definition and example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7760" y="58672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in the Persian Gulf War – Ku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burning oil fields in the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an Gulf War – 199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Iraqi occupation of Kuwa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Iraq invade Kuwait? (add this one to your concept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7226" t="18337" r="46999" b="13605"/>
          <a:stretch/>
        </p:blipFill>
        <p:spPr>
          <a:xfrm>
            <a:off x="3886200" y="3124080"/>
            <a:ext cx="5029200" cy="31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579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619760" y="4876560"/>
            <a:ext cx="7596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971800" y="2057400"/>
            <a:ext cx="38088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3716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Oil Producing Countries – Oil Reserves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219320"/>
          <a:ext cx="8991720" cy="5084640"/>
        </p:xfrm>
        <a:graphic>
          <a:graphicData uri="http://schemas.openxmlformats.org/drawingml/2006/table">
            <a:tbl>
              <a:tblPr/>
              <a:tblGrid>
                <a:gridCol w="2581560"/>
                <a:gridCol w="2163600"/>
                <a:gridCol w="2128680"/>
                <a:gridCol w="21178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ductio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 lif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llion barr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llion barrels/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Arab Emir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066680"/>
          <a:ext cx="8381880" cy="5486400"/>
        </p:xfrm>
        <a:graphic>
          <a:graphicData uri="http://schemas.openxmlformats.org/drawingml/2006/table">
            <a:tbl>
              <a:tblPr/>
              <a:tblGrid>
                <a:gridCol w="814320"/>
                <a:gridCol w="2157480"/>
                <a:gridCol w="3400560"/>
                <a:gridCol w="200952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ing Nation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 bbl/day)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United States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Japan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Russ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Germany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Ind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↓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1456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↓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4664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↓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65800" y="2192400"/>
            <a:ext cx="114480" cy="13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↓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129520" y="2192400"/>
            <a:ext cx="1144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14:44Z</dcterms:created>
  <dc:creator>Andrew Nixon</dc:creator>
  <dc:description/>
  <dc:language>en-US</dc:language>
  <cp:lastModifiedBy>CFISD</cp:lastModifiedBy>
  <dcterms:modified xsi:type="dcterms:W3CDTF">2009-02-18T13:27:57Z</dcterms:modified>
  <cp:revision>27</cp:revision>
  <dc:subject/>
  <dc:title>Slide 1</dc:title>
</cp:coreProperties>
</file>