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7D0-7D94-4E50-AF45-06416E17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FB1-51C1-4DBE-BCA3-CDD3B60F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A85-CD78-4213-814E-C1D615B8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13E-B32C-42E0-9861-0F0C83FA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506-5CFC-4136-80E9-8DFA715B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CBB-6511-4964-A0D0-EA3D049E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BADF-7C9D-4BAB-B8F5-1AF6F45C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BF9-E760-4B29-84D0-B90A8777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4AD-64C1-4952-B9BA-1F520657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89E-27F4-4C8A-A689-803B5C9B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0D0-F67C-4033-8D10-66F6E8F6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62F-61D6-45FC-8D7F-11BFDB52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7558-0A92-42A7-864B-25AE2EEA6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United_States" TargetMode="External"/><Relationship Id="rId3" Type="http://schemas.openxmlformats.org/officeDocument/2006/relationships/hyperlink" Target="http://en.wikipedia.org/wiki/China" TargetMode="External"/><Relationship Id="rId4" Type="http://schemas.openxmlformats.org/officeDocument/2006/relationships/hyperlink" Target="http://en.wikipedia.org/wiki/Japan" TargetMode="External"/><Relationship Id="rId5" Type="http://schemas.openxmlformats.org/officeDocument/2006/relationships/hyperlink" Target="http://en.wikipedia.org/wiki/Russia" TargetMode="External"/><Relationship Id="rId6" Type="http://schemas.openxmlformats.org/officeDocument/2006/relationships/hyperlink" Target="http://en.wikipedia.org/wiki/Germany" TargetMode="External"/><Relationship Id="rId7" Type="http://schemas.openxmlformats.org/officeDocument/2006/relationships/hyperlink" Target="http://en.wikipedia.org/wiki/India" TargetMode="External"/><Relationship Id="rId8" Type="http://schemas.openxmlformats.org/officeDocument/2006/relationships/hyperlink" Target="http://en.wikipedia.org/wiki/Petroleum" TargetMode="External"/><Relationship Id="rId9" Type="http://schemas.openxmlformats.org/officeDocument/2006/relationships/image" Target="../media/image8.png"/><Relationship Id="rId10" Type="http://schemas.openxmlformats.org/officeDocument/2006/relationships/hyperlink" Target="http://en.wikipedia.org/wiki/Petroleum" TargetMode="External"/><Relationship Id="rId11" Type="http://schemas.openxmlformats.org/officeDocument/2006/relationships/image" Target="../media/image8.png"/><Relationship Id="rId12" Type="http://schemas.openxmlformats.org/officeDocument/2006/relationships/hyperlink" Target="http://en.wikipedia.org/wiki/Petroleum" TargetMode="External"/><Relationship Id="rId13" Type="http://schemas.openxmlformats.org/officeDocument/2006/relationships/image" Target="../media/image8.png"/><Relationship Id="rId14" Type="http://schemas.openxmlformats.org/officeDocument/2006/relationships/hyperlink" Target="http://en.wikipedia.org/wiki/Petroleum" TargetMode="External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0"/>
            <a:ext cx="44956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Oil in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Southwest 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sia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s below based on the two charts from the previous sl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o produces the most oi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o consumes the most oi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how Saudi Arabia and the US are linked economic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oil important economically in Southwest A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age 505 re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il Dominates the Econo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age 53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ing Oil Wealth to Divers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nswer this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who needs oil and who has the 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information to your concept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21940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76720" y="4648320"/>
            <a:ext cx="258120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019920" y="1600200"/>
            <a:ext cx="2705040" cy="2381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2971800" cy="224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 rot="21455400">
            <a:off x="5181480" y="1981080"/>
            <a:ext cx="1447920" cy="97632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6291200">
            <a:off x="4335840" y="3817080"/>
            <a:ext cx="1447920" cy="97632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619123"/>
                <a:lnTo>
                  <a:pt x="15" y="10232"/>
                </a:lnTo>
                <a:arcTo wR="10800" hR="10800" stAng="-10619123" swAng="106191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rot="7444200">
            <a:off x="7389360" y="3963240"/>
            <a:ext cx="1447920" cy="9759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5960"/>
              <a:gd name="textAreaBottom" fmla="*/ 976320 h 975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200400" y="2057400"/>
            <a:ext cx="763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200400" y="2057400"/>
            <a:ext cx="763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98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OPE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3886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oil titled OPEC After 1975 from the wi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following questions and add them to your concept map/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. Who is OPE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. What does OPEC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Explain the origins of the Kuwait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791320" y="838080"/>
            <a:ext cx="3124080" cy="2895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114800" y="36576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l Producing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60199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C = Blu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123720" y="304812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447920"/>
            <a:ext cx="32763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go to war to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u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812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4952880"/>
            <a:ext cx="2666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choke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n this reg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648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59436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z Cana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t of Hormuz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5791320"/>
            <a:ext cx="2133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556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94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kepoints – Narrow passages on land or water that are important economically and politica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29440" y="6553080"/>
            <a:ext cx="55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people.hofstra.edu/geotrans/eng/ch5en/conc5en/ch5c1e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8610480" cy="51595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chokepoint has more oil being transported for global tra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4648320" cy="3124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562720" y="1676520"/>
            <a:ext cx="3429000" cy="3504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5118120"/>
            <a:ext cx="954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What would happen to oil produ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ries if these chokepoints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ed? (Think about Saudi Arabia/Kuwai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080" y="0"/>
            <a:ext cx="885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What would happen to oil consu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ries if these chokepoints w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ed? (Think about the US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304812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2096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W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ke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23720" y="304812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447920"/>
            <a:ext cx="32763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go to war to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u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5812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952880"/>
            <a:ext cx="2666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choke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n this reg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4648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59436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z Cana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t of Hormuz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5791320"/>
            <a:ext cx="2133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56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1981080"/>
            <a:ext cx="2895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for oil can lead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257800" y="2514600"/>
            <a:ext cx="763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2819520"/>
            <a:ext cx="2210040" cy="9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2514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962520" y="2666880"/>
            <a:ext cx="99036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for oil can lead to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– Economic growth for oil producing developing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– Imported oil can cause inflation in consumer countries (prices go u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480060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525780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rices continue to go up, consu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develop alternative fuels/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22766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0" y="533520"/>
            <a:ext cx="228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Explain the phrase “Oil makes the world go ‘round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we learn about Oil in Southwest Asia, students will complete a concept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743200" y="3123720"/>
            <a:ext cx="4572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209680"/>
            <a:ext cx="2362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strategic commod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your textbook to page 529 for the definition to strategic commo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page 517 and rea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rol of Oil Fiel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ind an example to match the definition of strategic commo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dd the definition and example to your concept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518148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87760" y="58672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ing in the Persian Gulf War – Kuwa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e burning oil fields in the back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an Gulf War – 199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Iraqi occupation of Kuwa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id Iraq invade Kuwait? (add this one to your concept m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7226" t="18337" r="46999" b="13605"/>
          <a:stretch/>
        </p:blipFill>
        <p:spPr>
          <a:xfrm>
            <a:off x="3886200" y="3124080"/>
            <a:ext cx="5029200" cy="3133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008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3429000" cy="3505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15200" y="5791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7619760" y="4876560"/>
            <a:ext cx="7596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971800" y="2057400"/>
            <a:ext cx="38088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371600"/>
            <a:ext cx="2438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Oil Producing Countries – Oil Reserves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1219320"/>
          <a:ext cx="8991720" cy="5084640"/>
        </p:xfrm>
        <a:graphic>
          <a:graphicData uri="http://schemas.openxmlformats.org/drawingml/2006/table">
            <a:tbl>
              <a:tblPr/>
              <a:tblGrid>
                <a:gridCol w="2581560"/>
                <a:gridCol w="2163600"/>
                <a:gridCol w="2128680"/>
                <a:gridCol w="21178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serv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ductio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serve lif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illion barr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llion barrels/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e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udi 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w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Arab Emir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il Con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066680"/>
          <a:ext cx="8381880" cy="5486400"/>
        </p:xfrm>
        <a:graphic>
          <a:graphicData uri="http://schemas.openxmlformats.org/drawingml/2006/table">
            <a:tbl>
              <a:tblPr/>
              <a:tblGrid>
                <a:gridCol w="814320"/>
                <a:gridCol w="2157480"/>
                <a:gridCol w="3400560"/>
                <a:gridCol w="200952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ing Nation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000 bbl/day)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United States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Japan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Russia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Germany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India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↓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14560" y="219240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↓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46640" y="219240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↓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265800" y="2192400"/>
            <a:ext cx="114480" cy="13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↓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8129520" y="2192400"/>
            <a:ext cx="11448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4:14:44Z</dcterms:created>
  <dc:creator>Andrew Nixon</dc:creator>
  <dc:description/>
  <dc:language>en-US</dc:language>
  <cp:lastModifiedBy>CFISD</cp:lastModifiedBy>
  <dcterms:modified xsi:type="dcterms:W3CDTF">2009-02-18T13:27:57Z</dcterms:modified>
  <cp:revision>27</cp:revision>
  <dc:subject/>
  <dc:title>Slide 1</dc:title>
</cp:coreProperties>
</file>