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4BD-BED2-4493-A1D2-B49DF610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8F6-B542-4BEB-8E34-CD870C9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669-4241-4478-9006-71EE8A5B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BB2-7DE3-4AF4-985B-B8EF9362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BB1-53E4-4199-83C8-0AE8A26D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C79-78A2-40A5-B764-44E40C00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0A1-B418-4BD5-803D-10923FA0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43A-1A65-4578-A01C-21B7F83D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AF0-1C8D-4F39-A773-925FCBD4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955-C4CD-4783-BCC0-E451C27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2F5-E228-43F4-903C-7741184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166-B168-43A3-B469-AA50E8A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77B-2E75-4A1F-AFF8-84AE0250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China" TargetMode="External"/><Relationship Id="rId4" Type="http://schemas.openxmlformats.org/officeDocument/2006/relationships/hyperlink" Target="http://en.wikipedia.org/wiki/Japan" TargetMode="External"/><Relationship Id="rId5" Type="http://schemas.openxmlformats.org/officeDocument/2006/relationships/hyperlink" Target="http://en.wikipedia.org/wiki/Russia" TargetMode="External"/><Relationship Id="rId6" Type="http://schemas.openxmlformats.org/officeDocument/2006/relationships/hyperlink" Target="http://en.wikipedia.org/wiki/Germany" TargetMode="External"/><Relationship Id="rId7" Type="http://schemas.openxmlformats.org/officeDocument/2006/relationships/hyperlink" Target="http://en.wikipedia.org/wiki/India" TargetMode="External"/><Relationship Id="rId8" Type="http://schemas.openxmlformats.org/officeDocument/2006/relationships/hyperlink" Target="http://en.wikipedia.org/wiki/Petroleum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en.wikipedia.org/wiki/Petroleum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en.wikipedia.org/wiki/Petroleum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en.wikipedia.org/wiki/Petroleum" TargetMode="External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4495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il in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outhwest 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sia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below based on the two charts from the previous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o produc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o consum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Saudi Arabia and the US are linked econo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oil important economically in Southwest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ge 505 re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il Dominates the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age 5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Oil Wealth to Diver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who needs oil and who has th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formation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5812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70504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rot="21455400">
            <a:off x="5181480" y="1981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91200">
            <a:off x="4335840" y="3817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619123"/>
                <a:lnTo>
                  <a:pt x="15" y="10232"/>
                </a:lnTo>
                <a:arcTo wR="10800" hR="10800" stAng="-10619123" swAng="106191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7444200">
            <a:off x="7389360" y="3963240"/>
            <a:ext cx="1447920" cy="9759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OP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oil titled OPEC After 1975 from the wi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following questions and add them to your concept map/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 Who is OPE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 What does OPEC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Explain the origins of the Kuwait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1240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roduc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6019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C = Blu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kepoints – Narrow passages on land or water that are important economically and poli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29440" y="6553080"/>
            <a:ext cx="55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people.hofstra.edu/geotrans/eng/ch5en/conc5en/ch5c1e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610480" cy="5159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chokepoint has more oil being transported for global tra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64832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3429000" cy="350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118120"/>
            <a:ext cx="95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would happen to oil p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Saudi Arabia/Kuwa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would happen to oil 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the U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0481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209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9810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oil can lea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25146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221004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or oil can lead 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conomic growth for oil producing developing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Imported oil can cause inflation in consumer countries (prices go 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257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continue to go up, consu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develop alternative fuels/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276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335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the phrase “Oil makes the world go ‘roun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Oil in Southwest Asia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743200" y="312372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20968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trategic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textbook to page 529 for the definition to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age 517 and re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 of Oil 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nd an example to match the definition of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the definition and example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7760" y="58672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in the Persian Gulf War – Ku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burning oil fields in th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Gulf War – 199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raqi occupation of Ku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Iraq invade Kuwait? (add this one to your concept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7226" t="18337" r="46999" b="13605"/>
          <a:stretch/>
        </p:blipFill>
        <p:spPr>
          <a:xfrm>
            <a:off x="3886200" y="3124080"/>
            <a:ext cx="5029200" cy="31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619760" y="4876560"/>
            <a:ext cx="7596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71800" y="2057400"/>
            <a:ext cx="3808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Oil Producing Countries – Oil Reserves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219320"/>
          <a:ext cx="8991720" cy="5084640"/>
        </p:xfrm>
        <a:graphic>
          <a:graphicData uri="http://schemas.openxmlformats.org/drawingml/2006/table">
            <a:tbl>
              <a:tblPr/>
              <a:tblGrid>
                <a:gridCol w="2581560"/>
                <a:gridCol w="2163600"/>
                <a:gridCol w="2128680"/>
                <a:gridCol w="21178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 li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llion barr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lion barrels/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Arab Emi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066680"/>
          <a:ext cx="8381880" cy="5486400"/>
        </p:xfrm>
        <a:graphic>
          <a:graphicData uri="http://schemas.openxmlformats.org/drawingml/2006/table">
            <a:tbl>
              <a:tblPr/>
              <a:tblGrid>
                <a:gridCol w="814320"/>
                <a:gridCol w="2157480"/>
                <a:gridCol w="3400560"/>
                <a:gridCol w="200952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ng Nation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 bbl/day)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United States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Russ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Germ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Ind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↓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456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↓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664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↓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5800" y="219240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↓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129520" y="2192400"/>
            <a:ext cx="1144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4:44Z</dcterms:created>
  <dc:creator>Andrew Nixon</dc:creator>
  <dc:description/>
  <dc:language>en-US</dc:language>
  <cp:lastModifiedBy>CFISD</cp:lastModifiedBy>
  <dcterms:modified xsi:type="dcterms:W3CDTF">2009-02-18T13:27:57Z</dcterms:modified>
  <cp:revision>27</cp:revision>
  <dc:subject/>
  <dc:title>Slide 1</dc:title>
</cp:coreProperties>
</file>