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476D8-87BC-45C2-9914-A3C9CE503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3A5B0-DCF8-46C1-8618-40030F47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E98CF-04EF-4F1E-8030-71462EA4D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A84AA-A3C3-4BA0-B9B8-E7979D471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AF17-091F-4830-8CA7-F33A7C813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CDB31-C5B2-4DFA-AEF0-FBFCE7A86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90846-7A9C-4FBD-BB34-8FAB00946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1A9DE-F1C3-431E-9332-923449A50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B0495-C241-4F44-AA0D-9E82EF4DD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378F2-A132-4169-9577-DB1A807C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4B23-D81A-41AE-814F-384E8C478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384C-EF2C-460B-A7A4-E9047AAEC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37C1-E043-4721-B250-FAA504D60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ws.bbc.co.uk/2/hi/asia-pacific/6033893.s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fresh page titled North Kore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Cl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plain how the North Korean government uses the me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ould you describe their current military sit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animEffect filter="box(in)" transition="in">
                                      <p:cBhvr additive="repl">
                                        <p:cTn id="7" dur="500"/>
                                        <p:tgtEl>
                                          <p:spTgt spid="44">
                                            <p:txEl>
                                              <p:pRg st="3" end="3"/>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box(in)" transition="in">
                                      <p:cBhvr additive="repl">
                                        <p:cTn id="10" dur="500"/>
                                        <p:tgtEl>
                                          <p:spTgt spid="44">
                                            <p:txEl>
                                              <p:pRg st="4" end="4"/>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4">
                                            <p:txEl>
                                              <p:pRg st="5" end="5"/>
                                            </p:txEl>
                                          </p:spTgt>
                                        </p:tgtEl>
                                        <p:attrNameLst>
                                          <p:attrName>style.visibility</p:attrName>
                                        </p:attrNameLst>
                                      </p:cBhvr>
                                      <p:to>
                                        <p:strVal val="visible"/>
                                      </p:to>
                                    </p:set>
                                    <p:animEffect filter="box(in)" transition="in">
                                      <p:cBhvr additive="repl">
                                        <p:cTn id="13" dur="5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1 – Country Profi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country_profiles/1131421.st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the leader of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type of government do they h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scribe the human rights abuses in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xplain why North Korea has a weak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2 – North Korea’s Nuclear Missile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2564241.st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did North Korea get its missile supplies?  Why did these countries choose North Korea as a trading partner?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some of the positive and negative aspects of North Korea’s current missile arsenal.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countries are threatened by the potential range of North Korea’s nuclear weapon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3 – Underground Tes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ews.bbc.co.uk/2/hi/asia-pacific/6033893.s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View the graphic by click the NEXT button on the graphic titled “Stages of an Underground Nuclear Test” and read the article to answer the questions bel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escribe vent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w do other countries verify North Korea’s underground tes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impse into a secret state http://news.bbc.co.uk/2/hi/asia-pacific/795212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Korea: Engage, Appease, Opp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tp://news.bbc.co.uk/2/hi/asia-pacific/806671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hired by Hilary Clinton to work with her in the US State Depart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sick and needs you to address the leadership of North Kore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nda for a meeting with the North Korean governme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alking points and an explanation of what you would like to addr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sample o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 Meeting between ______ and Kim Jong 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lking Point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lking Point 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p:txBody>
      </p:sp>
      <p:sp>
        <p:nvSpPr>
          <p:cNvPr id="57" name="PlaceHolder 3"/>
          <p:cNvSpPr>
            <a:spLocks noGrp="1"/>
          </p:cNvSpPr>
          <p:nvPr>
            <p:ph/>
          </p:nvPr>
        </p:nvSpPr>
        <p:spPr>
          <a:xfrm>
            <a:off x="4647960" y="1600200"/>
            <a:ext cx="43434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ignment Requirem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r>
              <a:rPr b="0" lang="en-US" sz="2000" spc="-1" strike="noStrike">
                <a:solidFill>
                  <a:srgbClr val="000000"/>
                </a:solidFill>
                <a:latin typeface="Arial"/>
              </a:rPr>
              <a:t> – You must have a tit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lking Points</a:t>
            </a:r>
            <a:r>
              <a:rPr b="0" lang="en-US" sz="2000" spc="-1" strike="noStrike">
                <a:solidFill>
                  <a:srgbClr val="000000"/>
                </a:solidFill>
                <a:latin typeface="Arial"/>
              </a:rPr>
              <a:t> - You must include 3 talking poi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ions</a:t>
            </a:r>
            <a:r>
              <a:rPr b="0" lang="en-US" sz="2000" spc="-1" strike="noStrike">
                <a:solidFill>
                  <a:srgbClr val="000000"/>
                </a:solidFill>
                <a:latin typeface="Arial"/>
              </a:rPr>
              <a:t> - You must include at least 3 bulleted statements that explain or elaborate on each of the three talking points.  These are things you would want to reference and discuss in the mee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2:08:46Z</dcterms:created>
  <dc:creator>CFISD</dc:creator>
  <dc:description/>
  <dc:language>en-US</dc:language>
  <cp:lastModifiedBy>CFISD</cp:lastModifiedBy>
  <dcterms:modified xsi:type="dcterms:W3CDTF">2009-05-28T12:44:33Z</dcterms:modified>
  <cp:revision>7</cp:revision>
  <dc:subject/>
  <dc:title>North Korea</dc:title>
</cp:coreProperties>
</file>