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270BCB-90EC-4FE4-8547-4A57548FAC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86497-A1A0-4900-AF4D-4C8EE7253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A609D1-F9D3-4036-95BC-726C890946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2129D3-22F5-4425-86A4-41AF253D3E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64573-7B9A-48C8-A144-C6AE7D397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E53DB-F9A9-4B3D-88D1-CBE7BACBA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D10E3-995F-40D0-960C-5A2A354D9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00E48-4506-49A3-AB9E-F5D4A7346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254E4-D2B0-4EFC-9452-AED8730BE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11CBC-9DB4-4A01-A633-DA703C6F9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1B0EA-42E4-464C-8814-5C5A15E3A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3E165-766A-4464-AECF-9A5E751928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BCCAE-7048-458B-A84B-99114D20CC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news.bbc.co.uk/2/hi/asia-pacific/6033893.stm"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rth Kore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ion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fresh page titled North Korea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 Cli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Explain how the North Korean government uses the medi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How would you describe their current military situ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4">
                                            <p:txEl>
                                              <p:pRg st="3" end="3"/>
                                            </p:txEl>
                                          </p:spTgt>
                                        </p:tgtEl>
                                        <p:attrNameLst>
                                          <p:attrName>style.visibility</p:attrName>
                                        </p:attrNameLst>
                                      </p:cBhvr>
                                      <p:to>
                                        <p:strVal val="visible"/>
                                      </p:to>
                                    </p:set>
                                    <p:animEffect filter="box(in)" transition="in">
                                      <p:cBhvr additive="repl">
                                        <p:cTn id="7" dur="500"/>
                                        <p:tgtEl>
                                          <p:spTgt spid="44">
                                            <p:txEl>
                                              <p:pRg st="3" end="3"/>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44">
                                            <p:txEl>
                                              <p:pRg st="4" end="4"/>
                                            </p:txEl>
                                          </p:spTgt>
                                        </p:tgtEl>
                                        <p:attrNameLst>
                                          <p:attrName>style.visibility</p:attrName>
                                        </p:attrNameLst>
                                      </p:cBhvr>
                                      <p:to>
                                        <p:strVal val="visible"/>
                                      </p:to>
                                    </p:set>
                                    <p:animEffect filter="box(in)" transition="in">
                                      <p:cBhvr additive="repl">
                                        <p:cTn id="10" dur="500"/>
                                        <p:tgtEl>
                                          <p:spTgt spid="44">
                                            <p:txEl>
                                              <p:pRg st="4" end="4"/>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44">
                                            <p:txEl>
                                              <p:pRg st="5" end="5"/>
                                            </p:txEl>
                                          </p:spTgt>
                                        </p:tgtEl>
                                        <p:attrNameLst>
                                          <p:attrName>style.visibility</p:attrName>
                                        </p:attrNameLst>
                                      </p:cBhvr>
                                      <p:to>
                                        <p:strVal val="visible"/>
                                      </p:to>
                                    </p:set>
                                    <p:animEffect filter="box(in)" transition="in">
                                      <p:cBhvr additive="repl">
                                        <p:cTn id="13" dur="500"/>
                                        <p:tgtEl>
                                          <p:spTgt spid="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 1 – Country Profil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news.bbc.co.uk/2/hi/asia-pacific/country_profiles/1131421.st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ions: Click on the website above to answer the questions below.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Who is the leader of North Kore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What type of government do they hav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Describe the human rights abuses in North Kore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Explain why North Korea has a weak econom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ource 2 – North Korea’s Nuclear Missile Program</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news.bbc.co.uk/2/hi/asia-pacific/2564241.stm</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ions: Click on the website above to answer the questions below.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Where did North Korea get its missile supplies?  Why did these countries choose North Korea as a trading partner?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Identify some of the positive and negative aspects of North Korea’s current missile arsenal.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What countries are threatened by the potential range of North Korea’s nuclear weapons?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ource 3 – Underground Testing</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news.bbc.co.uk/2/hi/asia-pacific/6033893.st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ions: Click on the website above.  View the graphic by click the NEXT button on the graphic titled “Stages of an Underground Nuclear Test” and read the article to answer the questions below.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Describe venting.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How do other countries verify North Korea’s underground testing progra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Resource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limpse into a secret state http://news.bbc.co.uk/2/hi/asia-pacific/7952129.st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th Korea: Engage, Appease, Oppos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ttp://news.bbc.co.uk/2/hi/asia-pacific/8066719.st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ignmen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hired by Hilary Clinton to work with her in the US State Departmen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 is sick and needs you to address the leadership of North Korea.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n agenda for a meeting with the North Korean government.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talking points and an explanation of what you would like to addres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sample on the next sli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Agenda</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da – Meeting between ______ and Kim Jong I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Talking Point I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Explana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Explana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alking Point 2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Explana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Explanation…</a:t>
            </a:r>
            <a:endParaRPr b="0" lang="en-US" sz="2000" spc="-1" strike="noStrike">
              <a:solidFill>
                <a:srgbClr val="000000"/>
              </a:solidFill>
              <a:latin typeface="Arial"/>
            </a:endParaRPr>
          </a:p>
        </p:txBody>
      </p:sp>
      <p:sp>
        <p:nvSpPr>
          <p:cNvPr id="57" name="PlaceHolder 3"/>
          <p:cNvSpPr>
            <a:spLocks noGrp="1"/>
          </p:cNvSpPr>
          <p:nvPr>
            <p:ph/>
          </p:nvPr>
        </p:nvSpPr>
        <p:spPr>
          <a:xfrm>
            <a:off x="4647960" y="1600200"/>
            <a:ext cx="43434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ssignment Requirement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tle</a:t>
            </a:r>
            <a:r>
              <a:rPr b="0" lang="en-US" sz="2000" spc="-1" strike="noStrike">
                <a:solidFill>
                  <a:srgbClr val="000000"/>
                </a:solidFill>
                <a:latin typeface="Arial"/>
              </a:rPr>
              <a:t> – You must have a titl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lking Points</a:t>
            </a:r>
            <a:r>
              <a:rPr b="0" lang="en-US" sz="2000" spc="-1" strike="noStrike">
                <a:solidFill>
                  <a:srgbClr val="000000"/>
                </a:solidFill>
                <a:latin typeface="Arial"/>
              </a:rPr>
              <a:t> - You must include 3 talking point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lanations</a:t>
            </a:r>
            <a:r>
              <a:rPr b="0" lang="en-US" sz="2000" spc="-1" strike="noStrike">
                <a:solidFill>
                  <a:srgbClr val="000000"/>
                </a:solidFill>
                <a:latin typeface="Arial"/>
              </a:rPr>
              <a:t> - You must include at least 3 bulleted statements that explain or elaborate on each of the three talking points.  These are things you would want to reference and discuss in the meeti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2:08:46Z</dcterms:created>
  <dc:creator>CFISD</dc:creator>
  <dc:description/>
  <dc:language>en-US</dc:language>
  <cp:lastModifiedBy>CFISD</cp:lastModifiedBy>
  <dcterms:modified xsi:type="dcterms:W3CDTF">2009-05-28T12:44:33Z</dcterms:modified>
  <cp:revision>7</cp:revision>
  <dc:subject/>
  <dc:title>North Korea</dc:title>
</cp:coreProperties>
</file>