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FD1-C2E1-40E4-8688-F04C68A0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237-7F7F-498F-9801-FF0E675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4CE-49FE-440A-9C79-F914F83D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F91-597D-496C-9F75-6185A3D4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B4E-A2A0-4D66-BE33-1448665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3F0-0ABA-43C7-BE19-109CA6D1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AE1-92BF-465A-A88D-3B8C090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E59-CECF-49DF-936E-BD204898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5B9-2C0B-4AEC-973C-85F911F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620-EE68-4E80-BF73-1EA5B47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C53-1477-4315-BED2-B5ADC5A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A3C-7327-4C9C-863E-786038F0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58FF-0A8C-4AEC-A5FB-90691D29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ctr.pmel.noaa.gov/Mov/indo_gl2.m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uters.com/news/video?videoId=62824" TargetMode="External"/><Relationship Id="rId2" Type="http://schemas.openxmlformats.org/officeDocument/2006/relationships/hyperlink" Target="http://news.bbc.co.uk/player/nol/newsid_6990000/newsid_6990000/6990057.stm?bw=nb&amp;mp=wm&amp;news=1&amp;nol_storyid=6990057&amp;bbcws=1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sunami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.0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u will complete this in a secon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160" t="2221" r="5264" b="5558"/>
          <a:stretch/>
        </p:blipFill>
        <p:spPr>
          <a:xfrm>
            <a:off x="0" y="0"/>
            <a:ext cx="716292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53819" t="13192" r="31895" b="75842"/>
          <a:stretch/>
        </p:blipFill>
        <p:spPr>
          <a:xfrm>
            <a:off x="4343400" y="4309920"/>
            <a:ext cx="3505320" cy="254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0"/>
            <a:ext cx="2057400" cy="43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 massive rain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stern Ghats and Eastern Ghats push rain towards Bangladesh and Easter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11480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ats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s that bring heavy rains every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xtreme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water fo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Bangladeshis using rafts to escape from Dhaka"/>
          <p:cNvPicPr/>
          <p:nvPr/>
        </p:nvPicPr>
        <p:blipFill>
          <a:blip r:embed="rId1"/>
          <a:stretch/>
        </p:blipFill>
        <p:spPr>
          <a:xfrm>
            <a:off x="5638680" y="1828800"/>
            <a:ext cx="3175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hat type of problems exist for people in South Asia after monsoon flo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aid would you provide for them to address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7242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f 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9144000" cy="442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9900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maps show projected future changes in South Asian summer precipitation and monsoon onset date. A Purdue-led team found that rising future temperatures could lead to less rain and a delay in the start of monsoon season by up to 15 days by the end of the 21st centu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rticle to explain changes in India’s mons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the changes in the Monsoons that are caused by global w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problems would be created by a shift in the Monso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would this affect the reg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152280" y="0"/>
            <a:ext cx="8649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ster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tsunami of 2004 affect the people of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would you address their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4876920"/>
          <a:ext cx="8534520" cy="173196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olution or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lean drinking water is unavai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8919" t="14328" r="9785" b="72726"/>
          <a:stretch/>
        </p:blipFill>
        <p:spPr>
          <a:xfrm>
            <a:off x="4191120" y="4495680"/>
            <a:ext cx="49528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6600" y="0"/>
            <a:ext cx="2057400" cy="330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= a shift in w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inds that blow over water bring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1:24Z</dcterms:created>
  <dc:creator>CFISD</dc:creator>
  <dc:description/>
  <dc:language>en-US</dc:language>
  <cp:lastModifiedBy>CFISD</cp:lastModifiedBy>
  <dcterms:modified xsi:type="dcterms:W3CDTF">2009-03-11T13:48:05Z</dcterms:modified>
  <cp:revision>4</cp:revision>
  <dc:subject/>
  <dc:title>Monsoons</dc:title>
</cp:coreProperties>
</file>