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8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B565-1168-44D1-9EC8-10B7E8CD9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C720-5B2E-4FC6-99A5-F5C4209BB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1FB9-EA4D-4903-9AA4-4F4CDDDAC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6888-9398-4F3C-B578-B51FD1386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DDC7-56D8-4D3D-99BD-B62E26FCA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6EDF-1296-4BC8-AA81-578A34FB9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0D7F-587E-4E93-8DD0-4EF4CFC99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BD8C-D117-4257-92BE-D4F2686F1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1563-8920-400A-B4D2-977460654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A240-1FFF-4846-B6C3-3CA02AF8F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4CC7-B8DC-4F8D-A8D3-A66447EC8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DF6F-3EC3-48FC-BED7-6278E1A05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7283A-4519-48AB-92BF-06E2DA8741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nctr.pmel.noaa.gov/Mov/indo_gl2.mov" TargetMode="External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reuters.com/news/video?videoId=62824" TargetMode="External"/><Relationship Id="rId2" Type="http://schemas.openxmlformats.org/officeDocument/2006/relationships/hyperlink" Target="http://news.bbc.co.uk/player/nol/newsid_6990000/newsid_6990000/6990057.stm?bw=nb&amp;mp=wm&amp;news=1&amp;nol_storyid=6990057&amp;bbcws=1" TargetMode="External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Tsunami 200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use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9.0 earthqua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you will complete this in a second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3160" t="2221" r="5264" b="5558"/>
          <a:stretch/>
        </p:blipFill>
        <p:spPr>
          <a:xfrm>
            <a:off x="0" y="0"/>
            <a:ext cx="7162920" cy="68324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53819" t="13192" r="31895" b="75842"/>
          <a:stretch/>
        </p:blipFill>
        <p:spPr>
          <a:xfrm>
            <a:off x="4343400" y="4309920"/>
            <a:ext cx="3505320" cy="25480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086600" y="0"/>
            <a:ext cx="2057400" cy="430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Cause massive rainfal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Western Ghats and Eastern Ghats push rain towards Bangladesh and Eastern Ind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600200" y="4114800"/>
            <a:ext cx="13716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hats Mounta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nso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1920" y="1523520"/>
            <a:ext cx="5257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soon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nds that bring heavy rains every sum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uses extreme flo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s water for cr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Bangladeshis using rafts to escape from Dhaka"/>
          <p:cNvPicPr/>
          <p:nvPr/>
        </p:nvPicPr>
        <p:blipFill>
          <a:blip r:embed="rId1"/>
          <a:stretch/>
        </p:blipFill>
        <p:spPr>
          <a:xfrm>
            <a:off x="5638680" y="1828800"/>
            <a:ext cx="3175200" cy="39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p Ques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 What type of problems exist for people in South Asia after monsoon flood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What type of aid would you provide for them to address these probl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38080" y="4724280"/>
            <a:ext cx="17528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k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ar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ar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f Monso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2432160"/>
            <a:ext cx="9144000" cy="44258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57200" y="990000"/>
            <a:ext cx="845820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hese maps show projected future changes in South Asian summer precipitation and monsoon onset date. A Purdue-led team found that rising future temperatures could lead to less rain and a delay in the start of monsoon season by up to 15 days by the end of the 21st century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r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he article to explain changes in India’s monso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Explain the changes in the Monsoons that are caused by global warmin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What problems would be created by a shift in the Monso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How would this affect the regio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Tsunami Pictures: Banda Aceh, Indonesia, Homes (National Geographic)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553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Tsunami Pictures: Banda Aceh, Indonesia, Homes (National Geographic)"/>
          <p:cNvPicPr/>
          <p:nvPr/>
        </p:nvPicPr>
        <p:blipFill>
          <a:blip r:embed="rId1"/>
          <a:stretch/>
        </p:blipFill>
        <p:spPr>
          <a:xfrm>
            <a:off x="0" y="1106640"/>
            <a:ext cx="9144000" cy="57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Tsunami Pictures: Banda Aceh, Indonesia, Homes (National Geographic)"/>
          <p:cNvPicPr/>
          <p:nvPr/>
        </p:nvPicPr>
        <p:blipFill>
          <a:blip r:embed="rId1"/>
          <a:stretch/>
        </p:blipFill>
        <p:spPr>
          <a:xfrm>
            <a:off x="152280" y="0"/>
            <a:ext cx="8649000" cy="677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Tsunami Pictures: Banda Aceh, Indonesia, Homes (National Geographic)"/>
          <p:cNvPicPr/>
          <p:nvPr/>
        </p:nvPicPr>
        <p:blipFill>
          <a:blip r:embed="rId1"/>
          <a:stretch/>
        </p:blipFill>
        <p:spPr>
          <a:xfrm>
            <a:off x="0" y="0"/>
            <a:ext cx="9144000" cy="70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152280"/>
            <a:ext cx="8229600" cy="559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saster Reli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How did the tsunami of 2004 affect the people of the regio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How would you address their need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de at least 4 strategies or solutions to address the problems created by the tsunam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80880" y="4876920"/>
          <a:ext cx="8534520" cy="1731960"/>
        </p:xfrm>
        <a:graphic>
          <a:graphicData uri="http://schemas.openxmlformats.org/drawingml/2006/table">
            <a:tbl>
              <a:tblPr/>
              <a:tblGrid>
                <a:gridCol w="4267440"/>
                <a:gridCol w="4267080"/>
              </a:tblGrid>
              <a:tr h="78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ble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y Solution or strateg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Clean drinking water is unavailab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nso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ble of Contents – South As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228600" y="914400"/>
          <a:ext cx="8763120" cy="4808520"/>
        </p:xfrm>
        <a:graphic>
          <a:graphicData uri="http://schemas.openxmlformats.org/drawingml/2006/table">
            <a:tbl>
              <a:tblPr/>
              <a:tblGrid>
                <a:gridCol w="1219320"/>
                <a:gridCol w="5715000"/>
                <a:gridCol w="1828800"/>
              </a:tblGrid>
              <a:tr h="65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son #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/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t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/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raeli-Palestinian Conflic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*South Asia*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/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p/Cover P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/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malayas and Tsunam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/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so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"/>
          <p:cNvSpPr/>
          <p:nvPr/>
        </p:nvSpPr>
        <p:spPr>
          <a:xfrm>
            <a:off x="228600" y="2971800"/>
            <a:ext cx="8763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01028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rcRect l="48919" t="14328" r="9785" b="72726"/>
          <a:stretch/>
        </p:blipFill>
        <p:spPr>
          <a:xfrm>
            <a:off x="4191120" y="4495680"/>
            <a:ext cx="4952880" cy="19814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7086600" y="0"/>
            <a:ext cx="2057400" cy="330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soons = a shift in wi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winds that blow over water bring 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1T12:41:24Z</dcterms:created>
  <dc:creator>CFISD</dc:creator>
  <dc:description/>
  <dc:language>en-US</dc:language>
  <cp:lastModifiedBy>CFISD</cp:lastModifiedBy>
  <dcterms:modified xsi:type="dcterms:W3CDTF">2009-03-11T13:48:05Z</dcterms:modified>
  <cp:revision>4</cp:revision>
  <dc:subject/>
  <dc:title>Monsoons</dc:title>
</cp:coreProperties>
</file>