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867-8B2D-4334-9A04-DF55B6EB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B5B-6A55-4274-AB31-3DD9C112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796-98D7-4E2F-A3AB-464CCCA3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F37B-48A2-4E56-B6AC-171F1AA8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893-E826-40B5-BE95-9160848B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1ED-244E-428D-8B4E-1FA6B591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386E-4B77-4924-B221-63F5B4AC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EF8-3505-4FD8-B183-26C9EE15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7A0-2AE1-4BA9-A1A5-2D04BBA2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AE6-73F2-41EC-87B7-5182C7F7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61C-BC58-4C50-95BF-1B30A3A4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EFB-414B-4D45-AC9C-E9EA73EF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FDA2-920B-4160-97DC-C88FC4D17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ctr.pmel.noaa.gov/Mov/indo_gl2.mov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euters.com/news/video?videoId=62824" TargetMode="External"/><Relationship Id="rId2" Type="http://schemas.openxmlformats.org/officeDocument/2006/relationships/hyperlink" Target="http://news.bbc.co.uk/player/nol/newsid_6990000/newsid_6990000/6990057.stm?bw=nb&amp;mp=wm&amp;news=1&amp;nol_storyid=6990057&amp;bbcws=1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sunami 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.0 earthqu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you will complete this in a secon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3160" t="2221" r="5264" b="5558"/>
          <a:stretch/>
        </p:blipFill>
        <p:spPr>
          <a:xfrm>
            <a:off x="0" y="0"/>
            <a:ext cx="7162920" cy="683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53819" t="13192" r="31895" b="75842"/>
          <a:stretch/>
        </p:blipFill>
        <p:spPr>
          <a:xfrm>
            <a:off x="4343400" y="4309920"/>
            <a:ext cx="3505320" cy="2548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0"/>
            <a:ext cx="2057400" cy="43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use massive rainf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estern Ghats and Eastern Ghats push rain towards Bangladesh and Eastern In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114800"/>
            <a:ext cx="1371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hats Mou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so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5257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soo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nds that bring heavy rains every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extreme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water for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Bangladeshis using rafts to escape from Dhaka"/>
          <p:cNvPicPr/>
          <p:nvPr/>
        </p:nvPicPr>
        <p:blipFill>
          <a:blip r:embed="rId1"/>
          <a:stretch/>
        </p:blipFill>
        <p:spPr>
          <a:xfrm>
            <a:off x="5638680" y="1828800"/>
            <a:ext cx="31752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What type of problems exist for people in South Asia after monsoon floo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type of aid would you provide for them to address thes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472428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f Monso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432160"/>
            <a:ext cx="9144000" cy="4425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990000"/>
            <a:ext cx="8458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se maps show projected future changes in South Asian summer precipitation and monsoon onset date. A Purdue-led team found that rising future temperatures could lead to less rain and a delay in the start of monsoon season by up to 15 days by the end of the 21st centur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article to explain changes in India’s monso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xplain the changes in the Monsoons that are caused by global warm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problems would be created by a shift in the Monso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would this affect the reg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Tsunami Pictures: Banda Aceh, Indonesia, Homes (National Geographic)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sunami Pictures: Banda Aceh, Indonesia, Homes (National Geographic)"/>
          <p:cNvPicPr/>
          <p:nvPr/>
        </p:nvPicPr>
        <p:blipFill>
          <a:blip r:embed="rId1"/>
          <a:stretch/>
        </p:blipFill>
        <p:spPr>
          <a:xfrm>
            <a:off x="0" y="1106640"/>
            <a:ext cx="9144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Tsunami Pictures: Banda Aceh, Indonesia, Homes (National Geographic)"/>
          <p:cNvPicPr/>
          <p:nvPr/>
        </p:nvPicPr>
        <p:blipFill>
          <a:blip r:embed="rId1"/>
          <a:stretch/>
        </p:blipFill>
        <p:spPr>
          <a:xfrm>
            <a:off x="152280" y="0"/>
            <a:ext cx="864900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Tsunami Pictures: Banda Aceh, Indonesia, Homes (National Geographic)"/>
          <p:cNvPicPr/>
          <p:nvPr/>
        </p:nvPicPr>
        <p:blipFill>
          <a:blip r:embed="rId1"/>
          <a:stretch/>
        </p:blipFill>
        <p:spPr>
          <a:xfrm>
            <a:off x="0" y="0"/>
            <a:ext cx="914400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ster Rel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id the tsunami of 2004 affect the people of the reg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would you address their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4876920"/>
          <a:ext cx="8534520" cy="1731960"/>
        </p:xfrm>
        <a:graphic>
          <a:graphicData uri="http://schemas.openxmlformats.org/drawingml/2006/table">
            <a:tbl>
              <a:tblPr/>
              <a:tblGrid>
                <a:gridCol w="4267440"/>
                <a:gridCol w="4267080"/>
              </a:tblGrid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Solution or strate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lean drinking water is unavai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s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outh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raeli-Palestinian 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outh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/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alayas and Tsunam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o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29718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48919" t="14328" r="9785" b="72726"/>
          <a:stretch/>
        </p:blipFill>
        <p:spPr>
          <a:xfrm>
            <a:off x="4191120" y="4495680"/>
            <a:ext cx="4952880" cy="198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086600" y="0"/>
            <a:ext cx="2057400" cy="330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soons = a shift in wi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inds that blow over water bring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2:41:24Z</dcterms:created>
  <dc:creator>CFISD</dc:creator>
  <dc:description/>
  <dc:language>en-US</dc:language>
  <cp:lastModifiedBy>CFISD</cp:lastModifiedBy>
  <dcterms:modified xsi:type="dcterms:W3CDTF">2009-03-11T13:48:05Z</dcterms:modified>
  <cp:revision>4</cp:revision>
  <dc:subject/>
  <dc:title>Monsoons</dc:title>
</cp:coreProperties>
</file>