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470C-01D1-4364-946B-7E326D5A8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B1EE-58EA-493A-BC00-2C69E640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026B-3808-4248-B3FA-45903340F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A8EC-F54D-45D0-B9F9-109C62B52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5200-7203-44B1-937A-CD60F061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61A0-FF0D-4BDE-B982-31BF919D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7EC4-BD86-4041-AEEA-5C5BB7D9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A949-E4B9-43A5-86ED-D0833998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8136-28FE-4BFA-9722-AF62522E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8C20-FCF6-477D-ACCF-D8B0F58F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4099-5682-4B61-9967-EC4E1955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0A0B-2425-476B-90BD-DC8C7981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1C34-90DA-4F66-804E-DFFD762D7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nctr.pmel.noaa.gov/Mov/indo_gl2.mov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reuters.com/news/video?videoId=62824" TargetMode="External"/><Relationship Id="rId2" Type="http://schemas.openxmlformats.org/officeDocument/2006/relationships/hyperlink" Target="http://news.bbc.co.uk/player/nol/newsid_6990000/newsid_6990000/6990057.stm?bw=nb&amp;mp=wm&amp;news=1&amp;nol_storyid=6990057&amp;bbcws=1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sunami 20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9.0 earthqu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you will complete this in a second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3160" t="2221" r="5264" b="5558"/>
          <a:stretch/>
        </p:blipFill>
        <p:spPr>
          <a:xfrm>
            <a:off x="0" y="0"/>
            <a:ext cx="7162920" cy="6832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53819" t="13192" r="31895" b="75842"/>
          <a:stretch/>
        </p:blipFill>
        <p:spPr>
          <a:xfrm>
            <a:off x="4343400" y="4309920"/>
            <a:ext cx="3505320" cy="2548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0"/>
            <a:ext cx="2057400" cy="430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ause massive rainf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Western Ghats and Eastern Ghats push rain towards Bangladesh and Eastern Ind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00200" y="4114800"/>
            <a:ext cx="13716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hats Mount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nso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1920" y="1523520"/>
            <a:ext cx="5257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soon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nds that bring heavy rains every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extreme flo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water for cr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Bangladeshis using rafts to escape from Dhaka"/>
          <p:cNvPicPr/>
          <p:nvPr/>
        </p:nvPicPr>
        <p:blipFill>
          <a:blip r:embed="rId1"/>
          <a:stretch/>
        </p:blipFill>
        <p:spPr>
          <a:xfrm>
            <a:off x="5638680" y="1828800"/>
            <a:ext cx="317520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p Ques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What type of problems exist for people in South Asia after monsoon flood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type of aid would you provide for them to address these probl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4724280"/>
            <a:ext cx="17528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ar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ar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f Monso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2432160"/>
            <a:ext cx="9144000" cy="4425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7200" y="990000"/>
            <a:ext cx="84582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se maps show projected future changes in South Asian summer precipitation and monsoon onset date. A Purdue-led team found that rising future temperatures could lead to less rain and a delay in the start of monsoon season by up to 15 days by the end of the 21st century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article to explain changes in India’s monso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xplain the changes in the Monsoons that are caused by global warm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hat problems would be created by a shift in the Monso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How would this affect the reg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Tsunami Pictures: Banda Aceh, Indonesia, Homes (National Geographic)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Tsunami Pictures: Banda Aceh, Indonesia, Homes (National Geographic)"/>
          <p:cNvPicPr/>
          <p:nvPr/>
        </p:nvPicPr>
        <p:blipFill>
          <a:blip r:embed="rId1"/>
          <a:stretch/>
        </p:blipFill>
        <p:spPr>
          <a:xfrm>
            <a:off x="0" y="1106640"/>
            <a:ext cx="9144000" cy="57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Tsunami Pictures: Banda Aceh, Indonesia, Homes (National Geographic)"/>
          <p:cNvPicPr/>
          <p:nvPr/>
        </p:nvPicPr>
        <p:blipFill>
          <a:blip r:embed="rId1"/>
          <a:stretch/>
        </p:blipFill>
        <p:spPr>
          <a:xfrm>
            <a:off x="152280" y="0"/>
            <a:ext cx="8649000" cy="67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Tsunami Pictures: Banda Aceh, Indonesia, Homes (National Geographic)"/>
          <p:cNvPicPr/>
          <p:nvPr/>
        </p:nvPicPr>
        <p:blipFill>
          <a:blip r:embed="rId1"/>
          <a:stretch/>
        </p:blipFill>
        <p:spPr>
          <a:xfrm>
            <a:off x="0" y="0"/>
            <a:ext cx="9144000" cy="70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5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aster Reli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How did the tsunami of 2004 affect the people of the reg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How would you address their nee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at least 4 strategies or solutions to address the problems created by the tsuna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80880" y="4876920"/>
          <a:ext cx="8534520" cy="1731960"/>
        </p:xfrm>
        <a:graphic>
          <a:graphicData uri="http://schemas.openxmlformats.org/drawingml/2006/table">
            <a:tbl>
              <a:tblPr/>
              <a:tblGrid>
                <a:gridCol w="4267440"/>
                <a:gridCol w="4267080"/>
              </a:tblGrid>
              <a:tr h="7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 Solution or strate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Clean drinking water is unavai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so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South 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28600" y="914400"/>
          <a:ext cx="8763120" cy="480852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raeli-Palestinian Confli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South Asi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p/Cover P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malayas and Tsunam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so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228600" y="29718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1028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48919" t="14328" r="9785" b="72726"/>
          <a:stretch/>
        </p:blipFill>
        <p:spPr>
          <a:xfrm>
            <a:off x="4191120" y="4495680"/>
            <a:ext cx="4952880" cy="1981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086600" y="0"/>
            <a:ext cx="2057400" cy="330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soons = a shift in wi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winds that blow over water bring 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12:41:24Z</dcterms:created>
  <dc:creator>CFISD</dc:creator>
  <dc:description/>
  <dc:language>en-US</dc:language>
  <cp:lastModifiedBy>CFISD</cp:lastModifiedBy>
  <dcterms:modified xsi:type="dcterms:W3CDTF">2009-03-11T13:48:05Z</dcterms:modified>
  <cp:revision>4</cp:revision>
  <dc:subject/>
  <dc:title>Monsoons</dc:title>
</cp:coreProperties>
</file>