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5F5-DF19-4E0C-829E-2EF91843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67B-72EA-4E28-ABD8-0E607DD5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F00-DA2E-4367-9F4E-DB9081EF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ECF7-6007-461C-AEBD-C39CAEE07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D6D1-373D-460A-8D90-48F05E460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17AA-2B3F-4923-8B45-CA01709D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E5A8-80EE-4854-9E04-A60D73DB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22E7-5729-40FA-A2C8-18C5327B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18E-9E5D-40D5-B266-106F78C3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31C-DE5D-4FC6-A8A3-C24E0CD2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911-EC1B-47CA-B38A-F79F5A72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FC6-8D7E-4779-9D56-84EE1F3A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9171-AE5C-4E2E-9CD1-498A42B7ED4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hyperlink" Target="http://english.aljazeera.net/" TargetMode="External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hyperlink" Target="http://en.wikipedia.org/wiki/Image:Dubai_night_skyline.jpg" TargetMode="External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dubai.com/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vs. Secular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lamic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752480" cy="134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643040" cy="1752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3808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a list explaining how a day at school be different living under Islamic religious la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228600"/>
          <a:ext cx="8839440" cy="668196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0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ertiary Economic Activit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ip Question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Quaternary Economic Activit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8765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ertiary Activiti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development of banks, stock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women entering the workplace as teachers, doctors, lawy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5760" cy="3581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63868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 Hotel, largest in the wor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219320" y="4267080"/>
          <a:ext cx="2241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2241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an Analysis – Par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ions: Answer the question below on the MODERN side of your chart as your watch part 2 of the Iran Cl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cities does the narrator compare Tehran (Iran’s Capital city) to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List examples of tertiary activities you se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4038840" cy="2641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52880" y="152280"/>
            <a:ext cx="4038840" cy="297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4343040" y="3047760"/>
            <a:ext cx="4495680" cy="3050280"/>
            <a:chOff x="4343040" y="3047760"/>
            <a:chExt cx="4495680" cy="3050280"/>
          </a:xfrm>
        </p:grpSpPr>
        <p:sp>
          <p:nvSpPr>
            <p:cNvPr id="89" name=""/>
            <p:cNvSpPr/>
            <p:nvPr/>
          </p:nvSpPr>
          <p:spPr>
            <a:xfrm>
              <a:off x="5657400" y="5181120"/>
              <a:ext cx="3181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bai’s Media City, home to news stations, online publishing, newspaper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6694560" y="3860280"/>
              <a:ext cx="137880" cy="1015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4343040" y="3047760"/>
              <a:ext cx="1175400" cy="2031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3048120"/>
            <a:ext cx="42670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Quaternary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Development of information services: TV, </a:t>
            </a:r>
            <a:r>
              <a:rPr b="0" lang="en-US" sz="2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ecular (non-religious) 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228600" y="1600200"/>
            <a:ext cx="8686440" cy="4800600"/>
            <a:chOff x="228600" y="1600200"/>
            <a:chExt cx="8686440" cy="4800600"/>
          </a:xfrm>
        </p:grpSpPr>
        <p:sp>
          <p:nvSpPr>
            <p:cNvPr id="94" name=""/>
            <p:cNvSpPr/>
            <p:nvPr/>
          </p:nvSpPr>
          <p:spPr>
            <a:xfrm>
              <a:off x="228600" y="1600200"/>
              <a:ext cx="8686440" cy="4800600"/>
            </a:xfrm>
            <a:prstGeom prst="rect">
              <a:avLst/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4038480"/>
              <a:ext cx="8686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yer Model – create this on the Modern side of your ch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160020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17524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13372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oder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405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2120" y="4129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izatio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der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creased industrialization, increased urbanization, &amp; increased soci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ep W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809720" cy="766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1652760" cy="207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1827360" cy="1366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Dubai's skyline at nigh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67352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3657600" y="5181480"/>
            <a:ext cx="1828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ster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 – When a non-Western country adopts Western Ideas and traditions like culture, government, and econom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– technology, diet, language, religion, entertainment, law, pol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800280" cy="2186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0" t="10461" r="21735" b="0"/>
          <a:stretch/>
        </p:blipFill>
        <p:spPr>
          <a:xfrm>
            <a:off x="6705720" y="213372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269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Wes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Map of United States"/>
          <p:cNvPicPr/>
          <p:nvPr/>
        </p:nvPicPr>
        <p:blipFill>
          <a:blip r:embed="rId1"/>
          <a:stretch/>
        </p:blipFill>
        <p:spPr>
          <a:xfrm>
            <a:off x="45720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819160" cy="251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809880" y="2438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28954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www.dubai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website above, create a trip to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reate it using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Include pictures and description of events for a week long trip in Duba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ip to Dubai - Assig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equirements (Sli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Have a title page, with your name, title and some pi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You must select a hotel and include a picture and descri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You must analyze the history of Dubai and include at least 2 bullets and one pic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You must include at least 5 tertiary or quaternary economic activities you plan to do on your vacation.  Each activity must have a picture and a caption explaining how the activity represents moderniz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slamic Law – Characteristic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riminal laws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Must follow religious guidelines for prayers, fasting, and giving $$ to the po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Must follow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OCI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guidelines for personal hygiene, diet, sexual conduct, and raising child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Economic laws also based on the Qu’r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women in adverti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US corpo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give to ch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Arial"/>
              </a:rPr>
              <a:t>Modern Islam vs. Traditional Islam</a:t>
            </a: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2 – Traditional Life and Modern Life in Islamic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SW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EATE THIS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914400"/>
          <a:ext cx="8839440" cy="594324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98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4952880" y="2286000"/>
            <a:ext cx="3581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NOT WRITE ANYTHING HERE UNTIL IT  SAYS 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 –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82880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Based on PRIMARY activities like FISHING and FARM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Stock market and debt are seen as a form of ga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market selling agricultural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is chang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ulture change to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TAKE A LOOK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 AS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2125440" cy="218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315200" y="17524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880" y="4495680"/>
            <a:ext cx="4267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ODERN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73590" t="0" r="0" b="0"/>
          <a:stretch/>
        </p:blipFill>
        <p:spPr>
          <a:xfrm>
            <a:off x="5029200" y="4267080"/>
            <a:ext cx="151596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70752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↑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685800"/>
            <a:ext cx="91440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WITC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TCH TO THE MODERN SIDE OF THE T-CHART NO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2280" y="228600"/>
          <a:ext cx="8839440" cy="6713280"/>
        </p:xfrm>
        <a:graphic>
          <a:graphicData uri="http://schemas.openxmlformats.org/drawingml/2006/table">
            <a:tbl>
              <a:tblPr/>
              <a:tblGrid>
                <a:gridCol w="4114800"/>
                <a:gridCol w="4724640"/>
              </a:tblGrid>
              <a:tr h="109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ic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r>
                        <a:rPr b="0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952880" y="2286000"/>
            <a:ext cx="358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RITE IN THIS SECTION 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44:29Z</dcterms:created>
  <dc:creator>CFISD</dc:creator>
  <dc:description/>
  <dc:language>en-US</dc:language>
  <cp:lastModifiedBy>CFISD</cp:lastModifiedBy>
  <dcterms:modified xsi:type="dcterms:W3CDTF">2009-02-16T13:43:19Z</dcterms:modified>
  <cp:revision>69</cp:revision>
  <dc:subject/>
  <dc:title>Economic Development or Traditional Values?</dc:title>
</cp:coreProperties>
</file>