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wmf" ContentType="image/x-wmf"/>
  <Override PartName="/ppt/media/image2.png" ContentType="image/png"/>
  <Override PartName="/ppt/media/image9.png" ContentType="image/png"/>
  <Override PartName="/ppt/media/image11.wmf" ContentType="image/x-wmf"/>
  <Override PartName="/ppt/media/image3.png" ContentType="image/png"/>
  <Override PartName="/ppt/media/image7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jpeg" ContentType="image/jpeg"/>
  <Override PartName="/ppt/media/image13.jpeg" ContentType="image/jpeg"/>
  <Override PartName="/ppt/media/image8.jpeg" ContentType="image/jpeg"/>
  <Override PartName="/ppt/media/image5.png" ContentType="image/png"/>
  <Override PartName="/ppt/media/image6.jpeg" ContentType="image/jpeg"/>
  <Override PartName="/ppt/media/image4.png" ContentType="image/png"/>
  <Override PartName="/ppt/media/image1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87CB0-B457-437E-937B-AE7CAEAE8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405FB-6A27-46B9-8CE0-667B4B318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1BC1C-AC0D-4876-A614-829E8BC90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513F2-7879-464B-AFDB-CDB308C66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7DEF5-2EC8-41ED-98E8-445F57D0D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6297F-DBB4-483C-AE38-EBEE27C7C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C4A5C-B3C9-4C67-93A1-BB9012F1F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6FD83-5692-4A59-8BB7-E10C562D7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B7F00-891A-4D90-85C5-CBD3A2AD3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BC65C-3BE8-42DE-B675-6B7051980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CFAE4-0885-45D6-91EB-AF788A737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CD97F-4BAB-483E-8FFF-C7694F0EC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834DA-46EF-4E8B-8042-967F5D557CC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hyperlink" Target="http://english.aljazeera.net/" TargetMode="External"/><Relationship Id="rId4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hyperlink" Target="http://en.wikipedia.org/wiki/Image:Dubai_night_skyline.jpg" TargetMode="External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dubai.com/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Religious Law vs. Secular Law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slamic Law =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ular Law =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019920" y="1600200"/>
            <a:ext cx="3124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ides the la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ides the la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733920" y="1295280"/>
            <a:ext cx="1752480" cy="13478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809880" y="3048120"/>
            <a:ext cx="1643040" cy="17524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838080" y="5410080"/>
            <a:ext cx="739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ask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Create a list explaining how a day at school be different living under Islamic religious law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"/>
          <p:cNvGraphicFramePr/>
          <p:nvPr/>
        </p:nvGraphicFramePr>
        <p:xfrm>
          <a:off x="152280" y="228600"/>
          <a:ext cx="8839440" cy="6681960"/>
        </p:xfrm>
        <a:graphic>
          <a:graphicData uri="http://schemas.openxmlformats.org/drawingml/2006/table">
            <a:tbl>
              <a:tblPr/>
              <a:tblGrid>
                <a:gridCol w="4114800"/>
                <a:gridCol w="4724640"/>
              </a:tblGrid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aditional Isla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dern Islamic Society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10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Role of Women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: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Economics: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</a:t>
                      </a:r>
                      <a:r>
                        <a:rPr b="0" lang="en-US" sz="24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Tertiary Economic Activiti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lip Questions: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Quaternary Economic Activit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Modern Econom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487656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Tertiary Activitie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. development of banks, stock marke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. shopping mal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. women entering the workplace as teachers, doctors, lawyers, etc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5410080" y="1066680"/>
            <a:ext cx="3065760" cy="358164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5638680" y="480060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ubai Hotel, largest in the world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1219320" y="4267080"/>
          <a:ext cx="2241360" cy="2286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19320" y="4267080"/>
                    <a:ext cx="224136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" dur="5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ran Analysis – Part 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rections: Answer the question below on the MODERN side of your chart as your watch part 2 of the Iran Cl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Clip Questions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 What cities does the narrator compare Tehran (Iran’s Capital city) to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 List examples of tertiary activities you see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" dur="5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" dur="50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52280" y="228600"/>
            <a:ext cx="4038840" cy="264168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4952880" y="152280"/>
            <a:ext cx="4038840" cy="297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4343040" y="3047760"/>
            <a:ext cx="4495680" cy="3050280"/>
            <a:chOff x="4343040" y="3047760"/>
            <a:chExt cx="4495680" cy="3050280"/>
          </a:xfrm>
        </p:grpSpPr>
        <p:sp>
          <p:nvSpPr>
            <p:cNvPr id="89" name=""/>
            <p:cNvSpPr/>
            <p:nvPr/>
          </p:nvSpPr>
          <p:spPr>
            <a:xfrm>
              <a:off x="5657400" y="5181120"/>
              <a:ext cx="3181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Dubai’s Media City, home to news stations, online publishing, newspaper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flipV="1">
              <a:off x="6694560" y="3860280"/>
              <a:ext cx="137880" cy="1015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4343040" y="3047760"/>
              <a:ext cx="1175400" cy="20314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228240" y="3048120"/>
            <a:ext cx="426708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Quaternary Activ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. Development of information services: TV, </a:t>
            </a:r>
            <a:r>
              <a:rPr b="0" lang="en-US" sz="2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. Secular (non-religious) Univers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228600" y="1600200"/>
            <a:ext cx="8686440" cy="4800600"/>
            <a:chOff x="228600" y="1600200"/>
            <a:chExt cx="8686440" cy="4800600"/>
          </a:xfrm>
        </p:grpSpPr>
        <p:sp>
          <p:nvSpPr>
            <p:cNvPr id="94" name=""/>
            <p:cNvSpPr/>
            <p:nvPr/>
          </p:nvSpPr>
          <p:spPr>
            <a:xfrm>
              <a:off x="228600" y="1600200"/>
              <a:ext cx="8686440" cy="4800600"/>
            </a:xfrm>
            <a:prstGeom prst="rect">
              <a:avLst/>
            </a:prstGeom>
            <a:solidFill>
              <a:srgbClr val="60597b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28600" y="4038480"/>
              <a:ext cx="8686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Frayer Model – create this on the Modern side of your char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648320" y="1600200"/>
            <a:ext cx="0" cy="4800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724280" y="1752480"/>
            <a:ext cx="289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2133720"/>
            <a:ext cx="396252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Modernization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0" name=""/>
          <p:cNvSpPr/>
          <p:nvPr/>
        </p:nvSpPr>
        <p:spPr>
          <a:xfrm>
            <a:off x="4724280" y="405288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ampl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62120" y="4129200"/>
            <a:ext cx="289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er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ffffff"/>
                </a:solidFill>
                <a:latin typeface="Arial"/>
              </a:rPr>
              <a:t>Modernization</a:t>
            </a:r>
            <a:endParaRPr b="0" lang="en-US" sz="5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067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Modernization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– increased industrialization, increased urbanization, &amp; increased social chang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ampl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irpor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hopping Mal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chnology Syste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nline busin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a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ep Wel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895480" y="2819520"/>
            <a:ext cx="1809720" cy="7668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4572000" y="3124080"/>
            <a:ext cx="1652760" cy="20718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6324480" y="2895480"/>
            <a:ext cx="1827360" cy="13669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Dubai's skyline at night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172200" y="4673520"/>
            <a:ext cx="2666880" cy="17812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6"/>
          <a:stretch/>
        </p:blipFill>
        <p:spPr>
          <a:xfrm>
            <a:off x="3657600" y="5181480"/>
            <a:ext cx="1828800" cy="13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Westerniz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finition – When a non-Western country adopts Western Ideas and traditions like culture, government, and economic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s – technology, diet, language, religion, entertainment, law, political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5486400" y="1295280"/>
            <a:ext cx="800280" cy="21862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rcRect l="0" t="10461" r="21735" b="0"/>
          <a:stretch/>
        </p:blipFill>
        <p:spPr>
          <a:xfrm>
            <a:off x="6705720" y="2133720"/>
            <a:ext cx="1981080" cy="18795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4876920" y="4267080"/>
            <a:ext cx="1269720" cy="18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What is the West?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" descr="Map of United States"/>
          <p:cNvPicPr/>
          <p:nvPr/>
        </p:nvPicPr>
        <p:blipFill>
          <a:blip r:embed="rId1"/>
          <a:stretch/>
        </p:blipFill>
        <p:spPr>
          <a:xfrm>
            <a:off x="457200" y="2438280"/>
            <a:ext cx="3352680" cy="21337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791320" y="2209680"/>
            <a:ext cx="2819160" cy="25196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3809880" y="2438280"/>
            <a:ext cx="1905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267080" y="2895480"/>
            <a:ext cx="1067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3300"/>
                </a:solidFill>
                <a:latin typeface="Arial"/>
              </a:rPr>
              <a:t>+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ip to Dubai - Assign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http://www.dubai.com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ing the website above, create a trip to Dubai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Create it using powerpoi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Include pictures and description of events for a week long trip in Dubai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ip to Dubai - Assign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equirements (Slid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. Have a title page, with your name, title and some pic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. You must select a hotel and include a picture and descrip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. You must analyze the history of Dubai and include at least 2 bullets and one pictur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. You must include at least 5 tertiary or quaternary economic activities you plan to do on your vacation.  Each activity must have a picture and a caption explaining how the activity represents modernization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Islamic Law – Characteristic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3848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. Criminal laws based on the Qu’r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. Must follow religious guidelines for prayers, fasting, and giving $$ to the poo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48320" y="1371240"/>
            <a:ext cx="403848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. Must follow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SOCIAL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guidelines for personal hygiene, diet, sexual conduct, and raising child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. Economic laws also based on the Qu’r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women in advertis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US corpora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st give to chariti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2120" y="76176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ff"/>
                </a:solidFill>
                <a:latin typeface="Arial"/>
              </a:rPr>
              <a:t>Modern Islam vs. Traditional Islam</a:t>
            </a:r>
            <a:endParaRPr b="0" lang="en-US" sz="4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52388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y 2 – Traditional Life and Modern Life in Islamic N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able of Contents – SW Asi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228600" y="914400"/>
          <a:ext cx="8763120" cy="4808520"/>
        </p:xfrm>
        <a:graphic>
          <a:graphicData uri="http://schemas.openxmlformats.org/drawingml/2006/table">
            <a:tbl>
              <a:tblPr/>
              <a:tblGrid>
                <a:gridCol w="1219320"/>
                <a:gridCol w="5715000"/>
                <a:gridCol w="1828800"/>
              </a:tblGrid>
              <a:tr h="65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t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esson #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**SW Asia*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/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ver Pag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/1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hokepoint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/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igi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/1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aditional Isla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/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dern Isla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"/>
          <p:cNvSpPr/>
          <p:nvPr/>
        </p:nvSpPr>
        <p:spPr>
          <a:xfrm>
            <a:off x="228600" y="1600200"/>
            <a:ext cx="876312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REATE THIS CHA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152280" y="914400"/>
          <a:ext cx="8839440" cy="5943240"/>
        </p:xfrm>
        <a:graphic>
          <a:graphicData uri="http://schemas.openxmlformats.org/drawingml/2006/table">
            <a:tbl>
              <a:tblPr/>
              <a:tblGrid>
                <a:gridCol w="4419720"/>
                <a:gridCol w="4419720"/>
              </a:tblGrid>
              <a:tr h="980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aditional Islamic Society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dern Islamic Society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96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Role of Women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: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Economics: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</a:t>
                      </a:r>
                      <a:r>
                        <a:rPr b="0" lang="en-US" sz="24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" name=""/>
          <p:cNvSpPr/>
          <p:nvPr/>
        </p:nvSpPr>
        <p:spPr>
          <a:xfrm>
            <a:off x="4952880" y="2286000"/>
            <a:ext cx="358164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O NOT WRITE ANYTHING HERE UNTIL IT  SAYS T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raditional Southwest Asia – Econom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304920" y="1828800"/>
          <a:ext cx="4038480" cy="269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828800"/>
                    <a:ext cx="4038480" cy="269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48320" y="1904760"/>
            <a:ext cx="403848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. Based on PRIMARY activities like FISHING and FARMING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Stock market and debt are seen as a form of gamb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4648320"/>
            <a:ext cx="396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ditional market selling agricultural produc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conomic Development or Traditional Valu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conomics is changing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hould culture change too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ET’S TAKE A LOOK 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UTHWEST ASIA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5105520" y="1523880"/>
            <a:ext cx="2125440" cy="21862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7315200" y="1752480"/>
            <a:ext cx="914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3300"/>
                </a:solidFill>
                <a:latin typeface="Arial"/>
                <a:ea typeface="Arial"/>
              </a:rPr>
              <a:t>↓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380880" y="4495680"/>
            <a:ext cx="426744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MODERN 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rcRect l="73590" t="0" r="0" b="0"/>
          <a:stretch/>
        </p:blipFill>
        <p:spPr>
          <a:xfrm>
            <a:off x="5029200" y="4267080"/>
            <a:ext cx="1515960" cy="23623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6707520" y="5029200"/>
            <a:ext cx="79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3300"/>
                </a:solidFill>
                <a:latin typeface="Arial"/>
                <a:ea typeface="Arial"/>
              </a:rPr>
              <a:t>↑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8001000" y="205740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itrus Farm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467480" y="556272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hopping Mall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04920" y="685800"/>
            <a:ext cx="91440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AD ONL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WITCH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WITCH TO THE MODERN SIDE OF THE T-CHART NOW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152280" y="228600"/>
          <a:ext cx="8839440" cy="6713280"/>
        </p:xfrm>
        <a:graphic>
          <a:graphicData uri="http://schemas.openxmlformats.org/drawingml/2006/table">
            <a:tbl>
              <a:tblPr/>
              <a:tblGrid>
                <a:gridCol w="4114800"/>
                <a:gridCol w="4724640"/>
              </a:tblGrid>
              <a:tr h="109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aditional Islamic Society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dern Islamic Society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2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Role of Women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: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Economics: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</a:t>
                      </a:r>
                      <a:r>
                        <a:rPr b="0" lang="en-US" sz="24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6" name=""/>
          <p:cNvSpPr/>
          <p:nvPr/>
        </p:nvSpPr>
        <p:spPr>
          <a:xfrm>
            <a:off x="4952880" y="2286000"/>
            <a:ext cx="35816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WRITE IN THIS SECTION NOW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9T21:44:29Z</dcterms:created>
  <dc:creator>CFISD</dc:creator>
  <dc:description/>
  <dc:language>en-US</dc:language>
  <cp:lastModifiedBy>CFISD</cp:lastModifiedBy>
  <dcterms:modified xsi:type="dcterms:W3CDTF">2009-02-16T13:43:19Z</dcterms:modified>
  <cp:revision>69</cp:revision>
  <dc:subject/>
  <dc:title>Economic Development or Traditional Values?</dc:title>
</cp:coreProperties>
</file>