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14F-4FA3-4EDC-849A-B301EC60C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400B-31E4-44B4-8094-E000B5BF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051-1513-4E93-A52F-425BA5B0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768-8EA5-4AA3-BE4D-2A452B02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BEE-983D-4FAB-8AA1-CD5DF32E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F9C-0B99-4712-B396-42D5A1FA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C76-FD48-4CD9-9F66-210F05EC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DB21-2F70-4FE5-B325-7A718CFE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ACD4-3B45-421C-9040-3B576490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9B4-0914-47CF-A871-2313847D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2DF1-9719-45A6-B69E-868EDEE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0DC-4729-4E17-8B71-39A34C7D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C29-2CD6-4280-BA1F-6E2F1C022D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english.aljazeera.net/" TargetMode="External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ai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228600"/>
          <a:ext cx="8839440" cy="668196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ertiary Economic 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Question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Quaternary Economic Activi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87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tiary Activit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an Analysis – Par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Answer the question below on the MODERN side of your chart as your watch part 2 of the Iran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cities does the narrator compare Tehran (Iran’s Capital city) t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ist examples of tertiary activities you s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0388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343040" y="3047760"/>
            <a:ext cx="4495680" cy="3050280"/>
            <a:chOff x="4343040" y="3047760"/>
            <a:chExt cx="4495680" cy="3050280"/>
          </a:xfrm>
        </p:grpSpPr>
        <p:sp>
          <p:nvSpPr>
            <p:cNvPr id="89" name=""/>
            <p:cNvSpPr/>
            <p:nvPr/>
          </p:nvSpPr>
          <p:spPr>
            <a:xfrm>
              <a:off x="5657400" y="5181120"/>
              <a:ext cx="3181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bai’s Media City, home to news stations, online publishing, newspap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694560" y="3860280"/>
              <a:ext cx="137880" cy="101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343040" y="3047760"/>
              <a:ext cx="1175400" cy="203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ater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evelopment of information services: TV,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cular (non-religious)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600" y="1600200"/>
            <a:ext cx="8686440" cy="4800600"/>
            <a:chOff x="228600" y="1600200"/>
            <a:chExt cx="8686440" cy="4800600"/>
          </a:xfrm>
        </p:grpSpPr>
        <p:sp>
          <p:nvSpPr>
            <p:cNvPr id="94" name=""/>
            <p:cNvSpPr/>
            <p:nvPr/>
          </p:nvSpPr>
          <p:spPr>
            <a:xfrm>
              <a:off x="228600" y="1600200"/>
              <a:ext cx="8686440" cy="4800600"/>
            </a:xfrm>
            <a:prstGeom prst="rect">
              <a:avLst/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4038480"/>
              <a:ext cx="86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create this on the Modern side of your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0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1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dubai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 above, create a trip to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reate it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clude pictures and description of events for a week long trip in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ments (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Have a title page, with your name, title and som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You must select a hotel and include a picture and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ou must analyze the history of Dubai and include at least 2 bullets and one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You must include at least 5 tertiary or quaternary economic activities you plan to do on your vacation.  Each activity must have a picture and a caption explaining how the activity represents moderniz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lamic Law – 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riminal laws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st follow religious guidelines for prayers, fasting, and giving $$ to the po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Must follow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uidelines for personal hygiene, diet, sexual conduct, and raisi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Economic laws also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women in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US corpo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give to ch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Modern Islam vs. Traditional Islam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 – Traditional Life and Modern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SW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THIS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914400"/>
          <a:ext cx="8839440" cy="59432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952880" y="2286000"/>
            <a:ext cx="358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NOT WRITE ANYTHING HERE UNTIL IT  SAY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ased on PRIMARY activities like FISHING and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tock market and deb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44956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85800"/>
            <a:ext cx="91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IT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O THE MODERN SIDE OF THE T-CHART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228600"/>
          <a:ext cx="8839440" cy="671328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2286000"/>
            <a:ext cx="358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IN THIS SECTION 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6T13:43:19Z</dcterms:modified>
  <cp:revision>69</cp:revision>
  <dc:subject/>
  <dc:title>Economic Development or Traditional Values?</dc:title>
</cp:coreProperties>
</file>