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B9B-D223-4696-8BF3-03DEA140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7A9-D675-4980-8D95-183181C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E68-0084-4DD9-A977-85AE82EA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BB9-E770-4E54-AA31-0E2D8294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1BE-23D7-486B-B43D-89F4412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DE2-D0D7-4BD1-BDE3-7200F41F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8A0-130D-4895-9978-FD3665FE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EDE-AEB9-4A52-9C5E-FB51FF0B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C9C-DD31-40BE-8DA6-508365D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87C-E91E-4B78-B920-4E70293F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7C2-E580-4DCA-BB0D-EF448BC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1B6-17A3-4213-B739-0CDF446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D9A-81D4-405A-9A1F-ACDC0F4A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bcnews.go.com/Video/playerIndex?id=1674437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5 – RUR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7913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rural In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mited opportuniti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r standard of l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or foo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d farm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rribl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7800"/>
            <a:ext cx="8001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rompt to develop a story about the migration of your charac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formation from today’s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be at least three sentences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also hav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writing a story, you may sketch a three scene cartoon with dialogue or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Blog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people from the choices on the following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blog entry explaining how your life has changed since you migrated to the city of Bangalore, India from rural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4648320" cy="2209680"/>
            <a:chOff x="0" y="0"/>
            <a:chExt cx="4648320" cy="220968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0" t="16666" r="21443" b="41670"/>
            <a:stretch/>
          </p:blipFill>
          <p:spPr>
            <a:xfrm>
              <a:off x="0" y="0"/>
              <a:ext cx="46483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81133" t="48944" r="5468" b="33489"/>
            <a:stretch/>
          </p:blipFill>
          <p:spPr>
            <a:xfrm>
              <a:off x="3837960" y="441720"/>
              <a:ext cx="810000" cy="7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4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588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57600" y="3276720"/>
            <a:ext cx="2209680" cy="184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0" y="23623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15223" b="0"/>
          <a:stretch/>
        </p:blipFill>
        <p:spPr>
          <a:xfrm>
            <a:off x="0" y="0"/>
            <a:ext cx="3200400" cy="2523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14800" y="228600"/>
            <a:ext cx="4191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. Vama,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ttended Mumbai University and graduated with degree in Computer Science and 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ing for work in Bangalore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743200"/>
            <a:ext cx="2743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h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ends most of her day searching for water for her 5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ften goes without food because of her villages poor far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ves in a mud house that leaks during rain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2362320"/>
            <a:ext cx="27432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anj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s children attend a school for grades K-12 in rural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 grade levels work in the same room.  Students do not have chairs, books, or writing utens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ants his children to someday work for a US company in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648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362320"/>
            <a:ext cx="28195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a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ew up as a Muslim in a predominantly Hindu neighborh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st both his parents in a terrorist attack on a shopping center near his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practice his religion without fear of violence from Hi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people to mo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ree reasons why people move to a student next to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066680"/>
          <a:ext cx="8229600" cy="302436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762120" y="4495680"/>
            <a:ext cx="7924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cause will be the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i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cord the type (Economic, Political, or Social) in the Caus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2578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- JO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6576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obs cause urb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looking for a higher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066680"/>
          <a:ext cx="8229600" cy="495288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conom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ew jobs cause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ople are looking for a higher standard of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2 - OUTSOUR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800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businesses outsource many job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our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ferring jobs to other countries to save money on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oft hiring people in India to answer customer servic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4582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effect does outsourcing have on the Indian economy and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US companies choose Ind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glish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pay cheaper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 edu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arative Advantage – to do the same job better or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172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3 -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urban areas, schools in India are excel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ording to the clip who has a better education system, India or the U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4 – RELIGIOUS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9625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reas suffer from violence between Muslims and 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410080"/>
            <a:ext cx="60195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58:08Z</dcterms:created>
  <dc:creator>CFISD</dc:creator>
  <dc:description/>
  <dc:language>en-US</dc:language>
  <cp:lastModifiedBy>cfisd</cp:lastModifiedBy>
  <dcterms:modified xsi:type="dcterms:W3CDTF">2009-03-27T17:33:04Z</dcterms:modified>
  <cp:revision>36</cp:revision>
  <dc:subject/>
  <dc:title>Migration</dc:title>
</cp:coreProperties>
</file>