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BC1-96EC-435E-84D1-E2FFDFB4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341E-5082-458A-90F2-9822D835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3BBD-0EA8-4F63-80B2-76E528849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939-45EE-4A10-9E18-59F3DCC0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8AB-409D-4D06-90E3-CAEA6E7F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1D9-D0DC-4DC2-B51C-18950B12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D0DB-F959-4B1A-BB04-4C2F0C3D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7BB-1A03-4D18-84B9-36B9DA02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2DCB-D26A-41B7-9B7F-228EB9A7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17A2-89B2-4B8E-B73F-B4493231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A18-07CA-4FEC-A66D-1CC214AF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C4C-DA74-4FFD-A4B6-B97B2D39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C398-393F-48C2-9956-C0609DB76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abcnews.go.com/Video/playerIndex?id=1674437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5 – RURAL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5791320" cy="28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rural Ind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imited opportuniti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ower standard of li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oor food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ad farm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Horribl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5257800"/>
            <a:ext cx="800100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rompt to develop a story about the migration of your charac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formation from today’s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be at least three sentences lo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ory must also have a pi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writing a story, you may sketch a three scene cartoon with dialogue or ca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Blog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of the people from the choices on the following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blog entry explaining how your life has changed since you migrated to the city of Bangalore, India from rural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4648320" cy="2209680"/>
            <a:chOff x="0" y="0"/>
            <a:chExt cx="4648320" cy="2209680"/>
          </a:xfrm>
        </p:grpSpPr>
        <p:pic>
          <p:nvPicPr>
            <p:cNvPr id="74" name="" descr=""/>
            <p:cNvPicPr/>
            <p:nvPr/>
          </p:nvPicPr>
          <p:blipFill>
            <a:blip r:embed="rId1"/>
            <a:srcRect l="0" t="16666" r="21443" b="41670"/>
            <a:stretch/>
          </p:blipFill>
          <p:spPr>
            <a:xfrm>
              <a:off x="0" y="0"/>
              <a:ext cx="46483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"/>
            <a:srcRect l="81133" t="48944" r="5468" b="33489"/>
            <a:stretch/>
          </p:blipFill>
          <p:spPr>
            <a:xfrm>
              <a:off x="3837960" y="441720"/>
              <a:ext cx="810000" cy="7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791320" y="0"/>
            <a:ext cx="3352680" cy="2244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588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3657600" y="3276720"/>
            <a:ext cx="2209680" cy="1841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0" y="2362320"/>
            <a:ext cx="35812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0" r="15223" b="0"/>
          <a:stretch/>
        </p:blipFill>
        <p:spPr>
          <a:xfrm>
            <a:off x="0" y="0"/>
            <a:ext cx="3200400" cy="25239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114800" y="228600"/>
            <a:ext cx="41911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. Vama,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ttended Mumbai University and graduated with degree in Computer Science and Commun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oking for work in Bangalore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743200"/>
            <a:ext cx="27432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h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ends most of her day searching for water for her 5 child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ften goes without food because of her villages poor farming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ves in a mud house that leaks during rain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00400" y="2362320"/>
            <a:ext cx="27432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anj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s children attend a school for grades K-12 in rural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ll grade levels work in the same room.  Students do not have chairs, books, or writing utens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ants his children to someday work for a US company in Ind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10080" y="46483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72200" y="2362320"/>
            <a:ext cx="2819520" cy="366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a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rew up as a Muslim in a predominantly Hindu neighborh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st both his parents in a terrorist attack on a shopping center near his h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’t practice his religion without fear of violence from Hin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auses people to mo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scribe three reasons why people move to a student next to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066680"/>
          <a:ext cx="8229600" cy="302436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762120" y="4495680"/>
            <a:ext cx="7924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The cause will be the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i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cord the type (Economic, Political, or Social) in the Caus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228240"/>
            <a:ext cx="5257800" cy="56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- JO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3657600" cy="304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jobs cause urb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are looking for a higher standard of l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in your 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066680"/>
          <a:ext cx="8229600" cy="4952880"/>
        </p:xfrm>
        <a:graphic>
          <a:graphicData uri="http://schemas.openxmlformats.org/drawingml/2006/table">
            <a:tbl>
              <a:tblPr/>
              <a:tblGrid>
                <a:gridCol w="2666880"/>
                <a:gridCol w="556272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ob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conom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New jobs cause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ople are looking for a higher standard of liv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2 - OUTSOUR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80060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businesses outsource many job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utsour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ferring jobs to other countries to save money on labo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crosoft hiring people in India to answer customer servic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9625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560" y="151920"/>
            <a:ext cx="845820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effect does outsourcing have on the Indian economy and migr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13372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ould US companies choose Ind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nglish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n pay cheaper w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od educ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omparative Advantage – to do the same job better or che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6172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3 - EDU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urban areas, schools in India are excel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cording to the clip who has a better education system, India or the U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4 – RELIGIOUS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39625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reas suffer from violence between Muslims and Hind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5410080"/>
            <a:ext cx="60195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will this have on migr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9:58:08Z</dcterms:created>
  <dc:creator>CFISD</dc:creator>
  <dc:description/>
  <dc:language>en-US</dc:language>
  <cp:lastModifiedBy>cfisd</cp:lastModifiedBy>
  <dcterms:modified xsi:type="dcterms:W3CDTF">2009-03-27T17:33:04Z</dcterms:modified>
  <cp:revision>36</cp:revision>
  <dc:subject/>
  <dc:title>Migration</dc:title>
</cp:coreProperties>
</file>