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4CEA-53D7-48A4-99E0-EC0F3BE8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1E1-CCD8-4140-BDE6-2DAD6329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D78C-8724-4011-A4FA-CC227D06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E550-8B18-4759-9E86-3CE62ADA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9289-4E31-4E83-B38A-F1454CDE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770-5FB7-450A-ADB2-FFD26820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82B4-3133-4184-9C72-74B370D2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3495-0500-4A65-ACEC-90BFE436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8907-599F-499B-8F09-7238A641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0639-F2A6-4FC1-9B59-1C4EC929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748C-409E-460C-A411-D73E098C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4F42-34E7-4687-A9A2-D6C3274A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5C10-4127-4D5C-981A-60AC7D25B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abcnews.go.com/Video/playerIndex?id=1674437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391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#5 – RURAL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5791320" cy="28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rural Ind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imited opportunities for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ower standard of li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oor food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ad farm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orrible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257800"/>
            <a:ext cx="80010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ffect will this have on migr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prompt to develop a story about the migration of your charact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information from today’s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ory must be at least three sentences lo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ory must also have a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writing a story, you may sketch a three scene cartoon with dialogue or ca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ure – Blog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one of the people from the choices on the following slid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blog entry explaining how your life has changed since you migrated to the city of Bangalore, India from rural Ind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4648320" cy="2209680"/>
            <a:chOff x="0" y="0"/>
            <a:chExt cx="4648320" cy="2209680"/>
          </a:xfrm>
        </p:grpSpPr>
        <p:pic>
          <p:nvPicPr>
            <p:cNvPr id="74" name="" descr=""/>
            <p:cNvPicPr/>
            <p:nvPr/>
          </p:nvPicPr>
          <p:blipFill>
            <a:blip r:embed="rId1"/>
            <a:srcRect l="0" t="16666" r="21443" b="41670"/>
            <a:stretch/>
          </p:blipFill>
          <p:spPr>
            <a:xfrm>
              <a:off x="0" y="0"/>
              <a:ext cx="464832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rcRect l="81133" t="48944" r="5468" b="33489"/>
            <a:stretch/>
          </p:blipFill>
          <p:spPr>
            <a:xfrm>
              <a:off x="3837960" y="441720"/>
              <a:ext cx="810000" cy="77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791320" y="0"/>
            <a:ext cx="3352680" cy="2244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095880" y="2514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3657600" y="3276720"/>
            <a:ext cx="2209680" cy="1841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0" y="2362320"/>
            <a:ext cx="358128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15223" b="0"/>
          <a:stretch/>
        </p:blipFill>
        <p:spPr>
          <a:xfrm>
            <a:off x="0" y="0"/>
            <a:ext cx="3200400" cy="2523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114800" y="228600"/>
            <a:ext cx="41911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. Vama,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ttended Mumbai University and graduated with degree in Computer Science and Communic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ooking for work in Bangalore, 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2743200"/>
            <a:ext cx="27432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Ch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pends most of her day searching for water for her 5 child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ften goes without food because of her villages poor farming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ives in a mud house that leaks during rainst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0400" y="2362320"/>
            <a:ext cx="274320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anj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is children attend a school for grades K-12 in rural In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ll grade levels work in the same room.  Students do not have chairs, books, or writing utens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ants his children to someday work for a US company in In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46483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2362320"/>
            <a:ext cx="281952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Ra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rew up as a Muslim in a predominantly Hindu neighborh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ost both his parents in a terrorist attack on a shopping center near his hou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’t practice his religion without fear of violence from Hin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s people to mov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cribe three reasons why people move to a student next to you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this in your note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066680"/>
          <a:ext cx="8229600" cy="3024360"/>
        </p:xfrm>
        <a:graphic>
          <a:graphicData uri="http://schemas.openxmlformats.org/drawingml/2006/table">
            <a:tbl>
              <a:tblPr/>
              <a:tblGrid>
                <a:gridCol w="2666880"/>
                <a:gridCol w="55627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762120" y="4495680"/>
            <a:ext cx="7924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rectio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e cause will be the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xplanation i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Record the type (Economic, Political, or Social) in the Caus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525780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#1 - JO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365760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jobs cause urb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are looking for a higher standard of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this in your note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066680"/>
          <a:ext cx="8229600" cy="4952880"/>
        </p:xfrm>
        <a:graphic>
          <a:graphicData uri="http://schemas.openxmlformats.org/drawingml/2006/table">
            <a:tbl>
              <a:tblPr/>
              <a:tblGrid>
                <a:gridCol w="2666880"/>
                <a:gridCol w="5562720"/>
              </a:tblGrid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Jo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conom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New jobs cause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eople are looking for a higher standard of liv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#2 - OUTSOUR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48006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businesses outsource many jobs to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utsourc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nsferring jobs to other countries to save money on labo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crosoft hiring people in India to answer customer servic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9625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560" y="151920"/>
            <a:ext cx="84582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effect does outsourcing have on the Indian economy and mig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133720"/>
            <a:ext cx="80773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US companies choose Indi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glish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an pay cheaper w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od educ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omparative Advantage – to do the same job better or che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172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#3 -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ny urban areas, schools in India are excell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p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ccording to the clip who has a better education system, India or the US? 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#4 – RELIGIOUS DIF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396252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areas suffer from violence between Muslims and Hind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5410080"/>
            <a:ext cx="60195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ffect will this have on migr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9:58:08Z</dcterms:created>
  <dc:creator>CFISD</dc:creator>
  <dc:description/>
  <dc:language>en-US</dc:language>
  <cp:lastModifiedBy>cfisd</cp:lastModifiedBy>
  <dcterms:modified xsi:type="dcterms:W3CDTF">2009-03-27T17:33:04Z</dcterms:modified>
  <cp:revision>36</cp:revision>
  <dc:subject/>
  <dc:title>Migration</dc:title>
</cp:coreProperties>
</file>