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DF8-0EBD-4599-A995-D7F2B686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A00-4FCD-4E41-8A11-FD26F880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75A-05E5-44BC-A33F-CCCB597B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A703-59C6-4635-A685-EEE18D75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185-D514-4507-AEE0-2DD72B59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105B-1618-49E5-801B-B259DCD1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12A-AA41-4F94-ABED-7CB92042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C68-1AFF-4834-B858-06E7C8BD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CC3-E530-4F1C-8AAE-1A2346D0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64CF-0AD1-4B5F-B0EF-98A3B5E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73E-4E4F-40E2-982F-A4B34148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50E-8F37-4D83-88A1-596D8EBA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57C-A25B-4DBE-A2A9-1DF56B633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bcnews.go.com/Video/playerIndex?id=1674437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5 – RUR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rural In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ed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r standard of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or foo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d farm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rrib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8001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rompt to develop a story about the migration of your charac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from today’s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be at least three sentences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also hav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writing a story, you may sketch a three scene cartoon with dialogue or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Blog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people from the choices on the following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blog entry explaining how your life has changed since you migrated to the city of Bangalore, India from rural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4648320" cy="2209680"/>
            <a:chOff x="0" y="0"/>
            <a:chExt cx="4648320" cy="220968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16666" r="21443" b="41670"/>
            <a:stretch/>
          </p:blipFill>
          <p:spPr>
            <a:xfrm>
              <a:off x="0" y="0"/>
              <a:ext cx="46483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81133" t="48944" r="5468" b="33489"/>
            <a:stretch/>
          </p:blipFill>
          <p:spPr>
            <a:xfrm>
              <a:off x="3837960" y="441720"/>
              <a:ext cx="810000" cy="7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20968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15223" b="0"/>
          <a:stretch/>
        </p:blipFill>
        <p:spPr>
          <a:xfrm>
            <a:off x="0" y="0"/>
            <a:ext cx="3200400" cy="2523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228600"/>
            <a:ext cx="4191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Vama,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ttended Mumbai University and graduated with degree in Computer Science and 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for work in Bangalore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743200"/>
            <a:ext cx="2743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h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ends most of her day searching for water for her 5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ften goes without food because of her villages poor far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s in a mud house that leaks during rain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362320"/>
            <a:ext cx="27432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anj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s children attend a school for grades K-12 in rural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grade levels work in the same room.  Students do not have chairs, books, or writing utens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ants his children to someday work for a US company in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648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362320"/>
            <a:ext cx="28195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a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w up as a Muslim in a predominantly Hindu neighborh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st both his parents in a terrorist attack on a shopping center near his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practice his religion without fear of violence from Hi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people to mo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ree reasons why people move to a student next to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066680"/>
          <a:ext cx="8229600" cy="302436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762120" y="4495680"/>
            <a:ext cx="7924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cause will be the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i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ord the type (Economic, Political, or Social) in the Caus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- JO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6576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obs cause 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looking for a higher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95288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conom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ew jobs cause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ople are looking for a higher standard of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2 - OUTSOUR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800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businesses outsource many job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erring jobs to other countries to save money on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oft hiring people in India to answer customer servic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effect does outsourcing have on the Indian economy and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US companies choose Ind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glish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pay cheaper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edu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ative Advantage – to do the same job better or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172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3 -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urban areas, schools in India are excel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ording to the clip who has a better education system, India or the U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4 – RELIGIOUS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9625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as suffer from violence between Muslims and 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410080"/>
            <a:ext cx="60195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58:08Z</dcterms:created>
  <dc:creator>CFISD</dc:creator>
  <dc:description/>
  <dc:language>en-US</dc:language>
  <cp:lastModifiedBy>cfisd</cp:lastModifiedBy>
  <dcterms:modified xsi:type="dcterms:W3CDTF">2009-03-27T17:33:04Z</dcterms:modified>
  <cp:revision>36</cp:revision>
  <dc:subject/>
  <dc:title>Migration</dc:title>
</cp:coreProperties>
</file>