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C6A-2353-494C-A7E2-B39F9E91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F62-4E8C-452E-A103-199E2D95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EE60-124D-4B4E-941F-8056BF80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EB77-73CD-4E99-BD44-36257507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3149-4E88-40BC-A106-55D20953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AB03-FD5B-4FC7-AE90-B3446D0E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A1EA-68F3-439A-8408-1CA5D9AB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036D-6A67-48CD-971B-2B0C41E4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DC07-9529-4C77-B116-52533E53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6785-770C-48E5-BF30-01AD9443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C2A-C5AD-486E-BC6F-B2F8DC6F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CD47-E28A-430C-83EB-370EF8C8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F178-0AFD-401F-8EB3-318C64255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nn.com/2009/WORLD/asiapcf/02/25/sierra.leone.trial/index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snbc.msn.com/id/21134540/vp/9041334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rso2ndperiod.wikispaces.com/" TargetMode="External"/><Relationship Id="rId2" Type="http://schemas.openxmlformats.org/officeDocument/2006/relationships/hyperlink" Target="http://www.orso2ndperiod.wikispaces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laverysite.com/slave%20trade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ion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ierra L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y do they use these tac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natural resources are they fighting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Uga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563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ic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party politics restored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vernment and Lord's Resistance Army (LRA) rebels have signed a truce aimed at ending a 19-year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ganda is vulnerable to changes in the world price of coffee, its main export ear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ganda has been actively involved in the DR Congo conflict. LRA leaders are wanted by the International Criminal Court for war cr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91320" y="1219320"/>
            <a:ext cx="2971800" cy="2225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934320" y="5029200"/>
            <a:ext cx="99036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90560" y="-360"/>
            <a:ext cx="65530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U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olence has displaced more than 1.6 million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F has abducted 20,000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5181480"/>
            <a:ext cx="1828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g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type of tactics are used in the Ugandan Civil W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has this conflict contributed to mig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 List –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your assignments and due d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Review She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tomorrow when you walk in the ro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Blogging Assig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Friday at mid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Darfur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Saturday @ 10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mplete the Migration worksheet. 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rso2ndperiod.wikispaces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open the power point titled “Migration in Africa FINAL”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lete the Map from yesterday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mplete the African Art Assignment from Friday. 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rso2ndperiod.wikispaces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open the power point titled “African Ar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4813200"/>
        </p:xfrm>
        <a:graphic>
          <a:graphicData uri="http://schemas.openxmlformats.org/drawingml/2006/table">
            <a:tbl>
              <a:tblPr/>
              <a:tblGrid>
                <a:gridCol w="1066680"/>
                <a:gridCol w="586764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population/Graying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AFRIC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22860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Mi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Voluntary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hen people move because of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gold discoveries like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Forced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hen people because of conflict or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ivil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drawingml/2006/table">
            <a:tbl>
              <a:tblPr/>
              <a:tblGrid>
                <a:gridCol w="2209680"/>
                <a:gridCol w="63244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 txBox="1"/>
          <p:nvPr/>
        </p:nvSpPr>
        <p:spPr>
          <a:xfrm>
            <a:off x="2666880" y="380880"/>
            <a:ext cx="3867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gration Ch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48006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drawingml/2006/table">
            <a:tbl>
              <a:tblPr/>
              <a:tblGrid>
                <a:gridCol w="2209680"/>
                <a:gridCol w="63244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ivil War – Sierra Le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ivil War - Uga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 txBox="1"/>
          <p:nvPr/>
        </p:nvSpPr>
        <p:spPr>
          <a:xfrm>
            <a:off x="2666880" y="380880"/>
            <a:ext cx="3867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gration Ch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48006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 #1 - 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ced 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riangular Trade led to enslaved Africans being sold/traded for goods and forcefully sent to the Amer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09556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86400" y="5715000"/>
            <a:ext cx="365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re most of the Africans forced to mov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 #2 - Civil W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Sierra L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erra Leone is recovering from a 10-year civil war which ended in 2002; war centred around a power struggle and had a regional dim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erra Leone is bottom of UN's league for human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809880" cy="285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477120" y="5257800"/>
            <a:ext cx="99036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Sierra Le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99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ople flee the country after a brutal civil war be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ls (RUF) vs.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6555" b="0"/>
          <a:stretch/>
        </p:blipFill>
        <p:spPr>
          <a:xfrm>
            <a:off x="4267080" y="3502080"/>
            <a:ext cx="4191120" cy="335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81080" y="44956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els use amputation and rape as tools of w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28600"/>
            <a:ext cx="1828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3:14:40Z</dcterms:created>
  <dc:creator>CFISD</dc:creator>
  <dc:description/>
  <dc:language>en-US</dc:language>
  <cp:lastModifiedBy>CFISD</cp:lastModifiedBy>
  <dcterms:modified xsi:type="dcterms:W3CDTF">2009-05-21T12:23:39Z</dcterms:modified>
  <cp:revision>13</cp:revision>
  <dc:subject/>
  <dc:title>Civil Wars</dc:title>
</cp:coreProperties>
</file>