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DEB0-CE0D-4B21-B98F-196941550A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B738-72B3-4F32-BDAF-E4C91FD98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7B9C-B59C-474A-B630-69B8FC885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7F2C-0CE4-4F9A-B5ED-0CDFFC3D8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6543-FAA2-4EED-BB22-9351DFABE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9484-0F53-4929-976C-560BC8AF12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3A34-120F-47CB-A08A-4104652CE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46A2-3848-46B5-8846-CCFB71807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DB2E-DD61-4660-8094-65BC3B7F0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2B7D-6765-4A6E-8DE5-0971B6F43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4D3B-5AB9-4BF4-88E9-372BE2E13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6136-3955-4339-9206-50012DD5F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B2E64-79DC-4B37-A630-CA8E5DA55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24327-AD6D-4737-AFDC-105125468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A5140-718B-47BF-8317-4C4F415A1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AEE5A-7D0A-425A-95F4-C6CCEC7CD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04207-F1D5-469A-B385-8CEB62CA2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758D7-BBCD-4ED3-9552-C9B369F85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61B4D-0560-46A6-8148-7877C468B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E9AF9-4AB4-461F-97A4-20491B02E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021A5-D64B-4F2E-ABCA-333DF20DC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E8497-F96F-4865-969B-C0CFED713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1BD85-CD18-4D3D-9605-24603D9C0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53F83-F8BA-4751-AB55-9A7346E1E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B85F8-145D-4673-9DB0-C869DEDC8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FA07D-3A25-4419-9C0C-EAECE1424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16342-83DA-4E92-98ED-56DD0C448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E7886-7D57-455B-BD70-9EFE3929B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71C83-8310-43EB-9AF0-E3310B4E5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62D8A76-E1D1-428A-B7F5-7B24859306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4CAAEE1-2656-41E4-BABE-284F349AE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8B4D715-4F15-4ECB-AA1F-BA684636D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8C7E637-01C6-4B11-A2AF-06204AC445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4AB018D-781D-48B7-9720-CB3E2EB3DF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5582B-36A5-4980-AE39-0E6383D73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7CD6C4-48EE-4927-B022-5C99D46428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0FAE76-4D30-4FF6-A110-C8A23CDE2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F7CC70-DD13-4CD8-89F5-E1FF551FD9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5A028B-D5B0-478D-97C2-7195F37DDE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5285523-B59E-4A69-BA4D-FF079C9ED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4A57EA7-E3EA-4377-95B1-2F02819D84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CDC58F1-07CF-4769-9C37-726206B85F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AD91A2-2F95-4953-9BD7-401935678E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B12C6-2FDC-466F-BD16-71C9BAD5E9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768868-E278-4B00-8E9B-C9C26C09A5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DC0EF-E74C-4955-8ECB-31365E85E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30A57D-2315-4A64-8CBB-91CC1E5FA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58A7AE-529D-460B-9973-076C58B9B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38925E-8DB9-4295-A54D-B56DFED9DE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BDAFE-4B99-4D07-9459-F24695488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2F660-1561-4BBB-8FB9-B8307C917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CDA87-BA7B-4963-916C-365E0AC0B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ADCD7-518A-4365-A43C-9B8C32926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D31148-9C78-4C08-906F-971F780902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9DEDBA-3DCF-4691-8B9E-372068E074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DADF2AA-E9E8-4B99-A26B-73C666DB31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E6633-7A34-41F4-B693-0F19BFD9D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3D87B7D-463A-42A0-80C0-4BF9392221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F3149A5-4709-4686-890B-66532D7D33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011383-72DB-4C97-A17E-6DFAF65EFC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4DADE6-9DEA-4FFA-84B6-90AC5FA41D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DC157E-83AD-4B62-9652-D59706E5F8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F5378D-E02D-4233-8F4D-195E1447EB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CDEF65-99DC-41A0-837B-27C67AC1B7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2657E1-7554-46DD-A465-3D670CBA7B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6948CD-B15D-45FD-A54F-D977EDE073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A907D9F-9B56-411E-9401-BB5EEFD9D5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0EB5A-39DE-4330-A15F-86B348F34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44BFB73-E5E8-4F27-A95D-D207F11CD0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CB387E2-ABC2-4B0D-AA04-1470B08CBB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83CDB43-0766-4D7C-9AB1-A82D380E77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B8BE484-F66D-4AD5-A8EA-0B8661B2A0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7A083B1-7F27-44B7-A924-7387B3DED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A80B3B0-CDAE-4C93-BD3A-03C0D08C17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558E05C-9B87-41AD-B08B-517A9FA21A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89F7AC4-AC48-4DEF-964D-9F552D6B8B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10C4890-CADD-48F7-9FD3-BA4EC9022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21CB33-391A-4718-A3AF-4E64FFB3A4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D68EB-6EBC-45BB-B53C-CD04CB38A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6716DCA-148E-4F86-AF54-87669ADB40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8B30416-6D15-4EAC-81A4-D2449633D0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963EB06-57FC-43D5-9459-A6876F7F54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DF5A6CF-8366-4BE3-BAC3-96C17813EE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5B049ED-6716-43BF-93A6-BA654F51E5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7A8E622-DEAE-49C7-B937-C0B8C228F1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00E8F76-5B41-4B86-9755-FEB7BBD21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8C8E7DF-13D2-47DE-B28C-123979D4B7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A6C8A80-5E9F-4D90-BB68-D159719F38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3D47B7-E8A5-454B-A8A1-D12A3BCB3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ADE11-22A1-47C0-94C1-FB34EC7A8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1F43976-3D49-4C63-8BA3-7A95D1DD7F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F3F8650-0093-48AA-9F55-22386E2023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A01CEB6-0A03-43D1-A241-149A2641EF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7F78221-ADFF-4BCD-B757-EC3BC82130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A2985EB-93ED-48F8-B469-D767752756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5B83-4291-4D59-A3FD-DF6A719DB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617D-147B-411A-AB84-674929DBEAC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0151-C6EB-4F2B-8ADF-32B41B692AD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F321-4132-4F8A-B540-B64FC2C90B9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8206-C806-42B5-9531-6A7763F0DF2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A3CD-79EA-4BAB-AFA2-7806E1B7FE8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6017-28AF-4612-A404-53FC290B7FA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5634-2660-4899-9042-0B55315681B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Migration_to_Cities.asf"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IGRATION IN AFRICA</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a:t>
            </a:r>
            <a:br>
              <a:rPr sz="3000"/>
            </a:b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The months of April 1994 through July 1994, was known as the </a:t>
            </a:r>
            <a:r>
              <a:rPr b="1" lang="en-US" sz="1600" spc="-1" strike="noStrike">
                <a:solidFill>
                  <a:srgbClr val="000000"/>
                </a:solidFill>
                <a:latin typeface="Century Schoolbook"/>
              </a:rPr>
              <a:t>genocidal period in Rwanda. Between half a million and a million people were massacred during this period.</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se</a:t>
            </a:r>
            <a:r>
              <a:rPr b="1" lang="en-US" sz="1800" spc="-1" strike="noStrike">
                <a:solidFill>
                  <a:srgbClr val="000000"/>
                </a:solidFill>
                <a:latin typeface="Century Schoolbook"/>
              </a:rPr>
              <a:t> refugees </a:t>
            </a:r>
            <a:r>
              <a:rPr b="0" lang="en-US" sz="1800" spc="-1" strike="noStrike">
                <a:solidFill>
                  <a:srgbClr val="000000"/>
                </a:solidFill>
                <a:latin typeface="Century Schoolbook"/>
              </a:rPr>
              <a:t>concentrated in huge numbers at barren places with no sanitation, polluted water and little food. These conditions have caused great suffering and mass death. </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Source http://www.globalsecurity.org/military/world/war/rwanda.htm</a:t>
            </a: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 </a:t>
            </a:r>
            <a:endParaRPr b="0" lang="en-US" sz="700" spc="-1" strike="noStrike">
              <a:solidFill>
                <a:srgbClr val="000000"/>
              </a:solidFill>
              <a:latin typeface="Century Schoolbook"/>
            </a:endParaRPr>
          </a:p>
        </p:txBody>
      </p:sp>
      <p:pic>
        <p:nvPicPr>
          <p:cNvPr id="399" name="Picture 2" descr="http://w7resources.com/uploaded_images/map-of-rwanda-777375.jpg"/>
          <p:cNvPicPr/>
          <p:nvPr/>
        </p:nvPicPr>
        <p:blipFill>
          <a:blip r:embed="rId1"/>
          <a:stretch/>
        </p:blipFill>
        <p:spPr>
          <a:xfrm>
            <a:off x="4572000" y="0"/>
            <a:ext cx="4572000" cy="2819520"/>
          </a:xfrm>
          <a:prstGeom prst="rect">
            <a:avLst/>
          </a:prstGeom>
          <a:ln w="0">
            <a:noFill/>
          </a:ln>
        </p:spPr>
      </p:pic>
      <p:sp>
        <p:nvSpPr>
          <p:cNvPr id="400" name="Rectangle 4"/>
          <p:cNvSpPr/>
          <p:nvPr/>
        </p:nvSpPr>
        <p:spPr>
          <a:xfrm>
            <a:off x="457200" y="1600200"/>
            <a:ext cx="4114800" cy="1143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Rwanda</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Between two groups</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Tutsis (11%)</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Hutus (88%)</a:t>
            </a:r>
            <a:endParaRPr b="0" lang="en-US" sz="1800" spc="-1" strike="noStrike">
              <a:solidFill>
                <a:srgbClr val="000000"/>
              </a:solidFill>
              <a:latin typeface="Arial"/>
            </a:endParaRPr>
          </a:p>
        </p:txBody>
      </p:sp>
      <p:sp>
        <p:nvSpPr>
          <p:cNvPr id="401" name="Rectangle 5"/>
          <p:cNvSpPr/>
          <p:nvPr/>
        </p:nvSpPr>
        <p:spPr>
          <a:xfrm>
            <a:off x="457200" y="3733920"/>
            <a:ext cx="7467480" cy="121896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s a result, many refugees (mostly Hutus) fled Rwanda to neighboring Zaire (2 million), Tanzania (480,000), Burundi (200,000) and Uganda (10,000). In addition, another 1 million refugees were believed to be within Rwand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 CONTINUED</a:t>
            </a:r>
            <a:endParaRPr b="0" lang="en-US" sz="3000" spc="-1" strike="noStrike">
              <a:solidFill>
                <a:srgbClr val="575f6d"/>
              </a:solidFill>
              <a:latin typeface="Century Schoolbook"/>
            </a:endParaRPr>
          </a:p>
        </p:txBody>
      </p:sp>
      <p:sp>
        <p:nvSpPr>
          <p:cNvPr id="403" name=""/>
          <p:cNvSpPr txBox="1"/>
          <p:nvPr/>
        </p:nvSpPr>
        <p:spPr>
          <a:xfrm>
            <a:off x="457200" y="1600200"/>
            <a:ext cx="3657600" cy="4572000"/>
          </a:xfrm>
          <a:prstGeom prst="rect">
            <a:avLst/>
          </a:prstGeom>
          <a:noFill/>
          <a:ln w="0">
            <a:noFill/>
          </a:ln>
        </p:spPr>
        <p:txBody>
          <a:bodyPr anchor="t">
            <a:normAutofit/>
          </a:bodyPr>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04" name="Picture 2" descr="http://exploringafrica.matrix.msu.edu/images/sierraleone.jpg"/>
          <p:cNvPicPr/>
          <p:nvPr/>
        </p:nvPicPr>
        <p:blipFill>
          <a:blip r:embed="rId1"/>
          <a:stretch/>
        </p:blipFill>
        <p:spPr>
          <a:xfrm>
            <a:off x="4322880" y="1523880"/>
            <a:ext cx="4821120" cy="5334120"/>
          </a:xfrm>
          <a:prstGeom prst="rect">
            <a:avLst/>
          </a:prstGeom>
          <a:ln w="0">
            <a:noFill/>
          </a:ln>
        </p:spPr>
      </p:pic>
      <p:sp>
        <p:nvSpPr>
          <p:cNvPr id="405" name="Rectangle 10"/>
          <p:cNvSpPr/>
          <p:nvPr/>
        </p:nvSpPr>
        <p:spPr>
          <a:xfrm>
            <a:off x="152280" y="1600200"/>
            <a:ext cx="4038840" cy="51055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entury Schoolbook"/>
              </a:rPr>
              <a:t>Sierra Leone</a:t>
            </a:r>
            <a:endParaRPr b="0" lang="en-US" sz="22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Began in 1991</a:t>
            </a:r>
            <a:endParaRPr b="0" lang="en-US" sz="17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Revolutionary United Front (RUF) under Foday Sankoh vs. Sierra Leone Government</a:t>
            </a:r>
            <a:endParaRPr b="0" lang="en-US" sz="17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Tens of thousands died and more </a:t>
            </a:r>
            <a:r>
              <a:rPr b="1" lang="en-US" sz="1800" spc="-1" strike="noStrike">
                <a:solidFill>
                  <a:srgbClr val="ffffff"/>
                </a:solidFill>
                <a:latin typeface="Century Schoolbook"/>
                <a:ea typeface="Arial"/>
              </a:rPr>
              <a:t>than 2 million people (well over one-third of the population) were displaced because of the 11-year conflict</a:t>
            </a:r>
            <a:r>
              <a:rPr b="0" lang="en-US" sz="1800" spc="-1" strike="noStrike">
                <a:solidFill>
                  <a:srgbClr val="ffffff"/>
                </a:solidFill>
                <a:latin typeface="Century Schoolbook"/>
                <a:ea typeface="Arial"/>
              </a:rPr>
              <a:t>. </a:t>
            </a:r>
            <a:endParaRPr b="0" lang="en-US" sz="18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ontrol of Sierra Leone's </a:t>
            </a:r>
            <a:r>
              <a:rPr b="1" lang="en-US" sz="1800" spc="-1" strike="noStrike">
                <a:solidFill>
                  <a:srgbClr val="ffffff"/>
                </a:solidFill>
                <a:latin typeface="Century Schoolbook"/>
                <a:ea typeface="Arial"/>
              </a:rPr>
              <a:t>diamond industry was a primary cause of the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85440"/>
            <a:ext cx="74674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en-US" sz="2700" spc="-1" strike="noStrike">
                <a:solidFill>
                  <a:srgbClr val="575f6d"/>
                </a:solidFill>
                <a:latin typeface="Century Schoolbook"/>
              </a:rPr>
              <a:t>1.WHAT DOES THIS IMAGE PORTRAY ABOUT THE CONDITIONS IN AFRICA?</a:t>
            </a:r>
            <a:br>
              <a:rPr sz="2700"/>
            </a:br>
            <a:r>
              <a:rPr b="0" lang="en-US" sz="2700" spc="-1" strike="noStrike">
                <a:solidFill>
                  <a:srgbClr val="575f6d"/>
                </a:solidFill>
                <a:latin typeface="Century Schoolbook"/>
              </a:rPr>
              <a:t>2.HOW DO YOU THESE CONDITIONS AFFECT THE MIGRATION PATTERNS WITHIN AFRICA?</a:t>
            </a:r>
            <a:endParaRPr b="0" lang="en-US" sz="2700" spc="-1" strike="noStrike">
              <a:solidFill>
                <a:srgbClr val="575f6d"/>
              </a:solidFill>
              <a:latin typeface="Century Schoolbook"/>
            </a:endParaRPr>
          </a:p>
        </p:txBody>
      </p:sp>
      <p:pic>
        <p:nvPicPr>
          <p:cNvPr id="361" name="Picture 2" descr="http://www.toonpool.com/user/851/files/africa_105145.jpg"/>
          <p:cNvPicPr/>
          <p:nvPr/>
        </p:nvPicPr>
        <p:blipFill>
          <a:blip r:embed="rId1"/>
          <a:stretch/>
        </p:blipFill>
        <p:spPr>
          <a:xfrm>
            <a:off x="457200" y="2438280"/>
            <a:ext cx="8229600" cy="4419720"/>
          </a:xfrm>
          <a:prstGeom prst="rect">
            <a:avLst/>
          </a:prstGeom>
          <a:ln w="0">
            <a:noFill/>
          </a:ln>
        </p:spPr>
      </p:pic>
      <p:sp>
        <p:nvSpPr>
          <p:cNvPr id="362" name="TextBox 3"/>
          <p:cNvSpPr/>
          <p:nvPr/>
        </p:nvSpPr>
        <p:spPr>
          <a:xfrm>
            <a:off x="685800" y="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RM 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LUENCES OF MIGRATION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vil Wars</a:t>
            </a:r>
            <a:r>
              <a:rPr b="0" lang="en-US" sz="1400" spc="-1" strike="noStrike">
                <a:solidFill>
                  <a:srgbClr val="000000"/>
                </a:solidFill>
                <a:latin typeface="Arial"/>
                <a:ea typeface="Arial"/>
              </a:rPr>
              <a: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w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g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dan</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erra Leone</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mand for resources</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l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monds </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cao</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ld</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troleum </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lavery</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angle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ab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entury Schoolbook"/>
            </a:endParaRPr>
          </a:p>
        </p:txBody>
      </p:sp>
      <p:pic>
        <p:nvPicPr>
          <p:cNvPr id="365" name="Picture 2" descr="http://www.open2.net/blogs/media/blogs/39197167_gold.jpg"/>
          <p:cNvPicPr/>
          <p:nvPr/>
        </p:nvPicPr>
        <p:blipFill>
          <a:blip r:embed="rId1"/>
          <a:stretch/>
        </p:blipFill>
        <p:spPr>
          <a:xfrm>
            <a:off x="6095880" y="4289400"/>
            <a:ext cx="2419560" cy="2073240"/>
          </a:xfrm>
          <a:prstGeom prst="rect">
            <a:avLst/>
          </a:prstGeom>
          <a:ln w="0">
            <a:noFill/>
          </a:ln>
        </p:spPr>
      </p:pic>
      <p:pic>
        <p:nvPicPr>
          <p:cNvPr id="366" name="Picture 4" descr="http://www.solarnavigator.net/history/explorers_history/diamond_brillanten.jpg"/>
          <p:cNvPicPr/>
          <p:nvPr/>
        </p:nvPicPr>
        <p:blipFill>
          <a:blip r:embed="rId2"/>
          <a:stretch/>
        </p:blipFill>
        <p:spPr>
          <a:xfrm>
            <a:off x="5943600" y="1676520"/>
            <a:ext cx="2590920" cy="2511360"/>
          </a:xfrm>
          <a:prstGeom prst="rect">
            <a:avLst/>
          </a:prstGeom>
          <a:ln w="0">
            <a:noFill/>
          </a:ln>
        </p:spPr>
      </p:pic>
      <p:pic>
        <p:nvPicPr>
          <p:cNvPr id="367" name="Picture 6" descr="http://www.the-diplomat.com/uploads/Image/WebFeatures/LIBERIA-web.jpg"/>
          <p:cNvPicPr/>
          <p:nvPr/>
        </p:nvPicPr>
        <p:blipFill>
          <a:blip r:embed="rId3"/>
          <a:stretch/>
        </p:blipFill>
        <p:spPr>
          <a:xfrm>
            <a:off x="2971800" y="3200400"/>
            <a:ext cx="290520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ANTU MIGRATION</a:t>
            </a:r>
            <a:endParaRPr b="0" lang="en-US" sz="3000" spc="-1" strike="noStrike">
              <a:solidFill>
                <a:srgbClr val="575f6d"/>
              </a:solidFill>
              <a:latin typeface="Century Schoolbook"/>
            </a:endParaRPr>
          </a:p>
        </p:txBody>
      </p:sp>
      <p:sp>
        <p:nvSpPr>
          <p:cNvPr id="36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Picture 2" descr="http://images.encarta.msn.com/xrefmedia/aencmed/targets/maps/mhi/000f2413.gif"/>
          <p:cNvPicPr/>
          <p:nvPr/>
        </p:nvPicPr>
        <p:blipFill>
          <a:blip r:embed="rId1"/>
          <a:stretch/>
        </p:blipFill>
        <p:spPr>
          <a:xfrm>
            <a:off x="4572000" y="1447920"/>
            <a:ext cx="4343400" cy="5029200"/>
          </a:xfrm>
          <a:prstGeom prst="rect">
            <a:avLst/>
          </a:prstGeom>
          <a:ln w="0">
            <a:noFill/>
          </a:ln>
        </p:spPr>
      </p:pic>
      <p:sp>
        <p:nvSpPr>
          <p:cNvPr id="372" name="Rectangle 5"/>
          <p:cNvSpPr/>
          <p:nvPr/>
        </p:nvSpPr>
        <p:spPr>
          <a:xfrm>
            <a:off x="457200" y="1447920"/>
            <a:ext cx="3962520" cy="50292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O? </a:t>
            </a:r>
            <a:r>
              <a:rPr b="0" lang="en-US" sz="1800" spc="-1" strike="noStrike">
                <a:solidFill>
                  <a:srgbClr val="ffffff"/>
                </a:solidFill>
                <a:latin typeface="Century Schoolbook"/>
              </a:rPr>
              <a:t>Group of peoples and cultures who speak one of the Bantu language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EN?  </a:t>
            </a:r>
            <a:r>
              <a:rPr b="0" lang="en-US" sz="1800" spc="-1" strike="noStrike">
                <a:solidFill>
                  <a:srgbClr val="ffffff"/>
                </a:solidFill>
                <a:latin typeface="Century Schoolbook"/>
              </a:rPr>
              <a:t>Started around 2000 B.C.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WHERE? </a:t>
            </a:r>
            <a:r>
              <a:rPr b="0" lang="en-US" sz="1800" spc="-1" strike="noStrike">
                <a:solidFill>
                  <a:srgbClr val="ffffff"/>
                </a:solidFill>
                <a:latin typeface="Century Schoolbook"/>
              </a:rPr>
              <a:t>in southeastern Nigeria</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 </a:t>
            </a:r>
            <a:r>
              <a:rPr b="1" lang="en-US" sz="2000" spc="-1" strike="noStrike">
                <a:solidFill>
                  <a:srgbClr val="ffffff"/>
                </a:solidFill>
                <a:latin typeface="Century Schoolbook"/>
              </a:rPr>
              <a:t>WHAT? </a:t>
            </a:r>
            <a:r>
              <a:rPr b="0" lang="en-US" sz="1800" spc="-1" strike="noStrike">
                <a:solidFill>
                  <a:srgbClr val="ffffff"/>
                </a:solidFill>
                <a:latin typeface="Century Schoolbook"/>
              </a:rPr>
              <a:t>Bantu moved southward spreading their language and culture throughout Africa linking various areas of the continent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Schoolbook"/>
              </a:rPr>
              <a:t>WHY?  </a:t>
            </a:r>
            <a:r>
              <a:rPr b="0" lang="en-US" sz="1800" spc="-1" strike="noStrike">
                <a:solidFill>
                  <a:srgbClr val="ffffff"/>
                </a:solidFill>
                <a:latin typeface="Century Schoolbook"/>
              </a:rPr>
              <a:t>Land shortages forced Bantu people to migrate throughout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FRICAN SLAVE TRADE                   </a:t>
            </a:r>
            <a:endParaRPr b="0" lang="en-US" sz="3000" spc="-1" strike="noStrike">
              <a:solidFill>
                <a:srgbClr val="575f6d"/>
              </a:solidFill>
              <a:latin typeface="Century Schoolbook"/>
            </a:endParaRPr>
          </a:p>
        </p:txBody>
      </p:sp>
      <p:sp>
        <p:nvSpPr>
          <p:cNvPr id="374" name=""/>
          <p:cNvSpPr txBox="1"/>
          <p:nvPr/>
        </p:nvSpPr>
        <p:spPr>
          <a:xfrm>
            <a:off x="533160" y="1676520"/>
            <a:ext cx="4724280" cy="457200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waited on the coast for African merchants to bring the slaves to them </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traded for slaves in exchange for guns and other goods. </a:t>
            </a:r>
            <a:endParaRPr b="0" lang="en-US" sz="2400" spc="-1" strike="noStrike">
              <a:solidFill>
                <a:srgbClr val="000000"/>
              </a:solidFill>
              <a:latin typeface="Century Schoolbook"/>
            </a:endParaRPr>
          </a:p>
        </p:txBody>
      </p:sp>
      <p:pic>
        <p:nvPicPr>
          <p:cNvPr id="375" name="Picture 2" descr="http://www.bbc.co.uk/scotland/education/hist/abolition/images/content/tactics/trade-end-slogan.jpg"/>
          <p:cNvPicPr/>
          <p:nvPr/>
        </p:nvPicPr>
        <p:blipFill>
          <a:blip r:embed="rId1"/>
          <a:stretch/>
        </p:blipFill>
        <p:spPr>
          <a:xfrm>
            <a:off x="5638680" y="304920"/>
            <a:ext cx="2772000" cy="2103480"/>
          </a:xfrm>
          <a:prstGeom prst="rect">
            <a:avLst/>
          </a:prstGeom>
          <a:ln w="0">
            <a:noFill/>
          </a:ln>
        </p:spPr>
      </p:pic>
      <p:pic>
        <p:nvPicPr>
          <p:cNvPr id="376" name="Forced_Migration__The_Transatlantic_Slave_Trade.asf" descr=""/>
          <p:cNvPicPr/>
          <p:nvPr/>
        </p:nvPicPr>
        <p:blipFill>
          <a:blip r:embed="rId2"/>
          <a:stretch/>
        </p:blipFill>
        <p:spPr>
          <a:xfrm>
            <a:off x="5410080" y="2819520"/>
            <a:ext cx="3733920" cy="4038480"/>
          </a:xfrm>
          <a:prstGeom prst="rect">
            <a:avLst/>
          </a:prstGeom>
          <a:ln w="0">
            <a:noFill/>
          </a:ln>
        </p:spPr>
      </p:pic>
      <p:sp>
        <p:nvSpPr>
          <p:cNvPr id="377" name="Rectangle 6"/>
          <p:cNvSpPr/>
          <p:nvPr/>
        </p:nvSpPr>
        <p:spPr>
          <a:xfrm>
            <a:off x="533520" y="1676520"/>
            <a:ext cx="4724280" cy="2286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Europeans had a great need for slaves in the Americ</a:t>
            </a:r>
            <a:r>
              <a:rPr b="0" lang="en-US" sz="1800" spc="-1" strike="noStrike">
                <a:solidFill>
                  <a:srgbClr val="ffffff"/>
                </a:solidFill>
                <a:latin typeface="Century Schoolbook"/>
              </a:rPr>
              <a:t>a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Many African rulers took part in the slave trade with other African rulers and Arabs before dealing with the Europe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76"/>
                    </p:tgtEl>
                  </p:cond>
                </p:stCondLst>
                <p:childTnLst>
                  <p:par>
                    <p:cTn id="3" fill="hold">
                      <p:stCondLst>
                        <p:cond evt="onClick">
                          <p:tgtEl>
                            <p:spTgt spid="37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RIANGLE TRADE</a:t>
            </a:r>
            <a:endParaRPr b="0" lang="en-US" sz="3000" spc="-1" strike="noStrike">
              <a:solidFill>
                <a:srgbClr val="575f6d"/>
              </a:solidFill>
              <a:latin typeface="Century Schoolbook"/>
            </a:endParaRPr>
          </a:p>
        </p:txBody>
      </p:sp>
      <p:sp>
        <p:nvSpPr>
          <p:cNvPr id="37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1" name="Picture 2" descr="http://projectmiddlepassage.files.wordpress.com/2008/09/triangle_trade_euro.png"/>
          <p:cNvPicPr/>
          <p:nvPr/>
        </p:nvPicPr>
        <p:blipFill>
          <a:blip r:embed="rId1"/>
          <a:stretch/>
        </p:blipFill>
        <p:spPr>
          <a:xfrm>
            <a:off x="4267080" y="1523880"/>
            <a:ext cx="4876920" cy="5334120"/>
          </a:xfrm>
          <a:prstGeom prst="rect">
            <a:avLst/>
          </a:prstGeom>
          <a:ln w="0">
            <a:noFill/>
          </a:ln>
        </p:spPr>
      </p:pic>
      <p:sp>
        <p:nvSpPr>
          <p:cNvPr id="382" name="Rectangle 5"/>
          <p:cNvSpPr/>
          <p:nvPr/>
        </p:nvSpPr>
        <p:spPr>
          <a:xfrm>
            <a:off x="457200" y="1600200"/>
            <a:ext cx="3733920" cy="23623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Rum and manufactured tools were sent to Africa in exchange for Slaves brought to the Amer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NAL SLAVERY </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Forced Labor for Mining</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fricans are forced to work in the mining fields throughout Africa especially in the Sub- Saharan (South of the Saharan desert) region.</a:t>
            </a:r>
            <a:endParaRPr b="0" lang="en-US" sz="18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hild Labor</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stimated that some 80 million children between the ages of 10-14 work across Africa. 100 million child laborers in 2015 is expected </a:t>
            </a:r>
            <a:endParaRPr b="0" lang="en-US" sz="1800" spc="-1" strike="noStrike">
              <a:solidFill>
                <a:srgbClr val="000000"/>
              </a:solidFill>
              <a:latin typeface="Century Schoolbook"/>
            </a:endParaRPr>
          </a:p>
        </p:txBody>
      </p:sp>
      <p:sp>
        <p:nvSpPr>
          <p:cNvPr id="385" name="Rectangle 3"/>
          <p:cNvSpPr/>
          <p:nvPr/>
        </p:nvSpPr>
        <p:spPr>
          <a:xfrm>
            <a:off x="1143000" y="2895480"/>
            <a:ext cx="662940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Estimated 660,000 in sub-Saharan Africa are forced to work in poor conditions with the constant fear of penalties and fines</a:t>
            </a:r>
            <a:endParaRPr b="0" lang="en-US" sz="1800" spc="-1" strike="noStrike">
              <a:solidFill>
                <a:srgbClr val="000000"/>
              </a:solidFill>
              <a:latin typeface="Arial"/>
            </a:endParaRPr>
          </a:p>
        </p:txBody>
      </p:sp>
      <p:sp>
        <p:nvSpPr>
          <p:cNvPr id="386" name="Rectangle 4"/>
          <p:cNvSpPr/>
          <p:nvPr/>
        </p:nvSpPr>
        <p:spPr>
          <a:xfrm>
            <a:off x="1219320" y="5105520"/>
            <a:ext cx="6553080" cy="13716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hildren migrate because of pressure from their parents. Often they migrate from their poverty stricken (poor) countries to other similar poor countries in search of work leaving them in similar conditions to where they migrated fro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a:t>
            </a:r>
            <a:br>
              <a:rPr sz="3000"/>
            </a:b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eate a T-chart in your Spiral. Use pg.417-418 in your book to fill in the chart below </a:t>
            </a:r>
            <a:endParaRPr b="0" lang="en-US" sz="2400" spc="-1" strike="noStrike">
              <a:solidFill>
                <a:srgbClr val="000000"/>
              </a:solidFill>
              <a:latin typeface="Century Schoolbook"/>
            </a:endParaRPr>
          </a:p>
        </p:txBody>
      </p:sp>
      <p:graphicFrame>
        <p:nvGraphicFramePr>
          <p:cNvPr id="389" name=""/>
          <p:cNvGraphicFramePr/>
          <p:nvPr/>
        </p:nvGraphicFramePr>
        <p:xfrm>
          <a:off x="228600" y="2438280"/>
          <a:ext cx="8686800" cy="3733920"/>
        </p:xfrm>
        <a:graphic>
          <a:graphicData uri="http://schemas.openxmlformats.org/drawingml/2006/table">
            <a:tbl>
              <a:tblPr/>
              <a:tblGrid>
                <a:gridCol w="2743200"/>
                <a:gridCol w="594360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U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MONEY ,JEWELRY, DECOR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Plat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hrom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Diam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O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0" name="TextBox 5"/>
          <p:cNvSpPr/>
          <p:nvPr/>
        </p:nvSpPr>
        <p:spPr>
          <a:xfrm>
            <a:off x="304920" y="6324480"/>
            <a:ext cx="838188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w would the resources above affect migration within Africa? </a:t>
            </a:r>
            <a:r>
              <a:rPr b="0" lang="en-US" sz="1800" spc="-1" strike="noStrike" u="sng">
                <a:solidFill>
                  <a:srgbClr val="d2611c"/>
                </a:solidFill>
                <a:uFillTx/>
                <a:latin typeface="Century Schoolbook"/>
                <a:hlinkClick r:id="rId1"/>
              </a:rPr>
              <a:t>Migration Clip</a:t>
            </a:r>
            <a:r>
              <a:rPr b="0" lang="en-US" sz="1800" spc="-1" strike="noStrike" u="sng">
                <a:solidFill>
                  <a:srgbClr val="000000"/>
                </a:solidFill>
                <a:uFillTx/>
                <a:latin typeface="Century School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 CONTINUED…</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colonial rulers had the ability to export the minerals for a prof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ever since European colonies no longer exist in Africa, Africa has been slow to develop the infrastructure (factories) and industries needed to profit from exporting the minerals.      </a:t>
            </a:r>
            <a:endParaRPr b="0" lang="en-US" sz="2400" spc="-1" strike="noStrike">
              <a:solidFill>
                <a:srgbClr val="000000"/>
              </a:solidFill>
              <a:latin typeface="Century Schoolbook"/>
            </a:endParaRPr>
          </a:p>
        </p:txBody>
      </p:sp>
      <p:pic>
        <p:nvPicPr>
          <p:cNvPr id="393" name="Picture 2" descr="http://api.ning.com/files/*I1INhOtZt*wBIe5F-*HbuUwQ-P0LjBVbt78ZW5aChrCxu62hqpVlxIv3f3xOApge3kFhNa4fTnhaTC4gKnR*mPwYSqX54EJ/diamond.jpg"/>
          <p:cNvPicPr/>
          <p:nvPr/>
        </p:nvPicPr>
        <p:blipFill>
          <a:blip r:embed="rId1"/>
          <a:stretch/>
        </p:blipFill>
        <p:spPr>
          <a:xfrm>
            <a:off x="304920" y="5105520"/>
            <a:ext cx="1676160" cy="1682640"/>
          </a:xfrm>
          <a:prstGeom prst="rect">
            <a:avLst/>
          </a:prstGeom>
          <a:ln w="0">
            <a:noFill/>
          </a:ln>
        </p:spPr>
      </p:pic>
      <p:pic>
        <p:nvPicPr>
          <p:cNvPr id="394" name="Picture 6" descr="http://www.consrv.ca.gov/cgs/information/PublishingImages/GoldNug01.jpg"/>
          <p:cNvPicPr/>
          <p:nvPr/>
        </p:nvPicPr>
        <p:blipFill>
          <a:blip r:embed="rId2"/>
          <a:stretch/>
        </p:blipFill>
        <p:spPr>
          <a:xfrm>
            <a:off x="3505320" y="5181480"/>
            <a:ext cx="2131920" cy="1511280"/>
          </a:xfrm>
          <a:prstGeom prst="rect">
            <a:avLst/>
          </a:prstGeom>
          <a:ln w="0">
            <a:noFill/>
          </a:ln>
        </p:spPr>
      </p:pic>
      <p:pic>
        <p:nvPicPr>
          <p:cNvPr id="395" name="Picture 8" descr="http://ecotechdaily.com/wp-content/uploads/2008/05/oil_drums_450.jpg"/>
          <p:cNvPicPr/>
          <p:nvPr/>
        </p:nvPicPr>
        <p:blipFill>
          <a:blip r:embed="rId3"/>
          <a:stretch/>
        </p:blipFill>
        <p:spPr>
          <a:xfrm>
            <a:off x="6778800" y="4876920"/>
            <a:ext cx="2365200" cy="1981080"/>
          </a:xfrm>
          <a:prstGeom prst="rect">
            <a:avLst/>
          </a:prstGeom>
          <a:ln w="0">
            <a:noFill/>
          </a:ln>
        </p:spPr>
      </p:pic>
      <p:sp>
        <p:nvSpPr>
          <p:cNvPr id="396" name="Rectangle 6"/>
          <p:cNvSpPr/>
          <p:nvPr/>
        </p:nvSpPr>
        <p:spPr>
          <a:xfrm>
            <a:off x="609480" y="1600200"/>
            <a:ext cx="716292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Despite Africa’s great mineral wealth, Africa still does not have great economic prosperity (wealth) for most of its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21:04:08Z</dcterms:created>
  <dc:creator>Jason P Warnick</dc:creator>
  <dc:description/>
  <dc:language>en-US</dc:language>
  <cp:lastModifiedBy>CFISD</cp:lastModifiedBy>
  <dcterms:modified xsi:type="dcterms:W3CDTF">2009-05-05T14:05:14Z</dcterms:modified>
  <cp:revision>51</cp:revision>
  <dc:subject/>
  <dc:title>Migration in Africa</dc:title>
</cp:coreProperties>
</file>