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072-5E9E-43F0-8566-D699EE23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EC5-8583-4D9C-8861-93DB5C07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3BF-17CE-4C15-A64F-936D55C7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250-990E-4D1C-8B27-82C63EB7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9A2-EF47-4FDC-9621-452A7790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224-1465-44D6-98BB-6206D49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1D5-B1F1-4265-A003-AAA4E55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746-5C48-40C4-AF07-B602FB11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880-69BB-407A-8122-B5EBF08A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A9A-7685-4598-9AEA-2389D7E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319-AEFB-4583-9B0C-B62D704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828-3E6E-40F2-B8AF-76289723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040-35D2-4775-A954-1629527C1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–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list of human rights violations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Rights were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free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l art must support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ns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hibiting people from expressing their beliefs or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e S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itizens were  immediately arrested for illegal activiti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Police – plain-clothes officers who worked for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people were arrested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ing to give land to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ng goods (ex. Growing wheat and selling it to your neighb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aking or writing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songs or other art forms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1905120"/>
            <a:ext cx="18288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 an example of something a person could do in the US that would get him/her in trouble in the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ore rights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igion is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 was used to train people to become loyal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designed to make them loyal and patriotic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books were created by government approved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formation would guard students against the influence of communism's many enemies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mocracy and market econom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memorized slogans favorable to Lenin and Stalin and their works would inspire them to carry on the goals of the part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752480"/>
            <a:ext cx="17528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an example of a homework assignment or in-class activity that could occur in a Soviet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Worship the government instead of Christian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rding to communism, political leaders, would quickly replace religious l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gion was considered useless superstition, whereas communism was considered a science, a better way of thinking and ac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was no place in a Communist society for Christian ideas that promised salvation and heaven for the well-behaved individual, as measured by the B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– Why would a communist leader want people to worship the government instead of reli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collectivization policies caused massive f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Ban on private property devastated liv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Purge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lin killed millions of people who he felt were against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08:15Z</dcterms:created>
  <dc:creator>CFISD</dc:creator>
  <dc:description/>
  <dc:language>en-US</dc:language>
  <cp:lastModifiedBy>CFISD</cp:lastModifiedBy>
  <dcterms:modified xsi:type="dcterms:W3CDTF">2008-12-19T13:54:37Z</dcterms:modified>
  <cp:revision>5</cp:revision>
  <dc:subject/>
  <dc:title>Slide 1</dc:title>
</cp:coreProperties>
</file>