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C9F9-985B-490C-88A3-EB0B3643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734-1FA8-4223-B909-FCA7B440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090-13BE-4277-8DB1-E6778FB4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2E8-718B-46FC-9C33-52B6642D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37E-994C-4030-92D8-BFC95448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60D-D3D5-4274-BA61-229FB189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350-94D7-40E7-96B4-B27C388D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2340-693C-44BD-9A7C-3DE9D5E1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97C-E1DA-4F0B-A92E-0D2926F9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2C8-B23E-4E18-BC60-F993552E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CE6-96D3-4D78-BC62-3B0FBB1A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0DB-7C91-4E96-B5CE-9D516B1F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04FA-A151-4F2D-BF5D-3EC995793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Under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Econom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viet Union –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lin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e a list of human rights violations you observe in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Rights were restri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 free 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o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ll art must support the Communist pa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ensorshi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hibiting people from expressing their beliefs or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ice Sta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citizens were  immediately arrested for illegal activitie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 Police – plain-clothes officers who worked for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people were arrested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using to give land to the gover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ding goods (ex. Growing wheat and selling it to your neighb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v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aking or writing against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ing songs or other art forms against the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81680" y="1905120"/>
            <a:ext cx="182880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 an example of something a person could do in the US that would get him/her in trouble in the Soviet 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More rights restr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ligion is ban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ducation was used to train people to become loyal commun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ducation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designed to make them loyal and patriotic citiz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 books were created by government approved wri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information would guard students against the influence of communism's many enemies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Democracy and market econom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tudents memorized slogans favorable to Lenin and Stalin and their works would inspire them to carry on the goals of the part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24480" y="1752480"/>
            <a:ext cx="175284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 an example of a homework assignment or in-class activity that could occur in a Soviet classro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lig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Worship the government instead of Christian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343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cording to communism, political leaders, would quickly replace religious lead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ligion was considered useless superstition, whereas communism was considered a science, a better way of thinking and ac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re was no place in a Communist society for Christian ideas that promised salvation and heaven for the well-behaved individual, as measured by the B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243828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– Why would a communist leader want people to worship the government instead of relig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5638680"/>
            <a:ext cx="2057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E HEADLINE – But Complet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Dai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Stalin’s collectivization policies caused massive fam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Ban on private property devastated living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Stalin’s Purges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talin killed millions of people who he felt were against commu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3:08:15Z</dcterms:created>
  <dc:creator>CFISD</dc:creator>
  <dc:description/>
  <dc:language>en-US</dc:language>
  <cp:lastModifiedBy>CFISD</cp:lastModifiedBy>
  <dcterms:modified xsi:type="dcterms:W3CDTF">2008-12-19T13:54:37Z</dcterms:modified>
  <cp:revision>5</cp:revision>
  <dc:subject/>
  <dc:title>Slide 1</dc:title>
</cp:coreProperties>
</file>