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E53-73A2-4370-BA92-D80A9020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9EA-B00A-42A5-A57C-59DA7391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B53-7F27-488C-86B6-BE698948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08B1-71F3-45EE-BE2A-DEBD394D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E5E8-EE08-4FC8-B586-1D52A1F5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1AA-4D43-4D4C-861D-5F9D6607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483-741E-4751-ACD5-73265B7E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18D-E43F-4601-A64A-AD03CA47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806B-A722-4072-B0FC-053D1700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23B-E380-49B4-A6F8-036C3753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98F-FD5F-467A-BCD8-13642DBE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7AB-515F-4020-B45F-B3BB0CC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4D27-E624-44F9-9A8B-ED1ED327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–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list of human rights violations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Rights we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fre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l art must support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ns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hibiting people from expressing their beliefs o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e S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itizens were  immediately arrested for illegal activiti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Police – plain-clothes officers who worked for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people were arrested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ing to give land to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 goods (ex. Growing wheat and selling it to your neighb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aking or writing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songs or other art forms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1905120"/>
            <a:ext cx="18288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 an example of something a person could do in the US that would get him/her in trouble in the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ore rights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igion is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 was used to train people to become loyal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designed to make them loyal and patriotic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books were created by government approv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would guard students against the influence of communism's many enemies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mocracy and market econom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memorized slogans favorable to Lenin and Stalin and their works would inspire them to carry on the goals of the part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752480"/>
            <a:ext cx="17528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an example of a homework assignment or in-class activity that could occur in a Soviet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Worship the government instead of Christian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rding to communism, political leaders, would quickly replace religious l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gion was considered useless superstition, whereas communism was considered a science, a better way of thinking and ac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was no place in a Communist society for Christian ideas that promised salvation and heaven for the well-behaved individual, as measured by the B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– Why would a communist leader want people to worship the government instead of reli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collectivization policies caused massive f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n on private property devastated liv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Purge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lin killed millions of people who he felt were against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08:15Z</dcterms:created>
  <dc:creator>CFISD</dc:creator>
  <dc:description/>
  <dc:language>en-US</dc:language>
  <cp:lastModifiedBy>CFISD</cp:lastModifiedBy>
  <dcterms:modified xsi:type="dcterms:W3CDTF">2008-12-19T13:54:37Z</dcterms:modified>
  <cp:revision>5</cp:revision>
  <dc:subject/>
  <dc:title>Slide 1</dc:title>
</cp:coreProperties>
</file>