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319E-B065-4282-ADB6-91BE53D4A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83D2-F256-407A-AE35-A2A6D772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881C-8640-4ABC-960F-61D90FDE9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51DF-E476-4844-8D44-28387616E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3587-28B1-480B-AB5E-51D1D94B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282E-88D1-41E7-AD35-9E9CD7F7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F68B-03DC-47F7-BCCD-7B0FD351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8A9B-F768-4534-842D-E8318EF8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E569-244E-445C-916F-7E8B95C5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2A67-DC28-42B1-8C78-53302D2B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D84B-0413-4F45-B75A-40386468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87A0-7924-4F01-BE2F-6D7D78A3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3A46-6FCF-4DCD-9C37-3C3824637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8600" y="914400"/>
          <a:ext cx="8763120" cy="550080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RUSSIA (EURASIA) UNIT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 and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-Away 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-Environment Inte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fe Under Commun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viet Union - Econom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viet Union - Soc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28600" y="1600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viet Union –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in C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e a list of human rights violations you observe in the cli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Rights were restri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no free 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no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ll art must support the Communist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ensorshi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hibiting people from expressing their beliefs or 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lice Sta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citizens were  immediately arrested for illegal activitie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ret Police – plain-clothes officers who worked for the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gs people were arrested fo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using to give land to the govern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ding goods (ex. Growing wheat and selling it to your neighbo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v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aking or writing against the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ing songs or other art forms against the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5638680"/>
            <a:ext cx="20574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HEADLINE – But Complet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81680" y="1905120"/>
            <a:ext cx="1828800" cy="256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ive an example of something a person could do in the US that would get him/her in trouble in the Soviet 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 More rights restri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eligion is ban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ducation was used to train people to become loyal commun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ducation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designed to make them loyal and patriotic citize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 books were created by government approved wri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information would guard students against the influence of communism's many enemies 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Democracy and market econom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udents memorized slogans favorable to Lenin and Stalin and their works would inspire them to carry on the goals of the part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24480" y="1752480"/>
            <a:ext cx="1752840" cy="256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reate an example of a homework assignment or in-class activity that could occur in a Soviet classro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5638680"/>
            <a:ext cx="20574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HEADLINE – But Complet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lig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Worship the government instead of Christian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34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cording to communism, political leaders, would quickly replace religious lead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ligion was considered useless superstition, whereas communism was considered a science, a better way of thinking and act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re was no place in a Communist society for Christian ideas that promised salvation and heaven for the well-behaved individual, as measured by the Bi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5880" y="243828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– Why would a communist leader want people to worship the government instead of relig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5638680"/>
            <a:ext cx="20574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HEADLINE – But Complet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. Dail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Stalin’s collectivization policies caused massive fam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Ban on private property devastated living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Stalin’s Purges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talin killed millions of people who he felt were against commu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3:08:15Z</dcterms:created>
  <dc:creator>CFISD</dc:creator>
  <dc:description/>
  <dc:language>en-US</dc:language>
  <cp:lastModifiedBy>CFISD</cp:lastModifiedBy>
  <dcterms:modified xsi:type="dcterms:W3CDTF">2008-12-19T13:54:37Z</dcterms:modified>
  <cp:revision>5</cp:revision>
  <dc:subject/>
  <dc:title>Slide 1</dc:title>
</cp:coreProperties>
</file>