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391C-8652-478D-AACF-43A5F4D7F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2FA8-5A5D-466C-B8F6-18D0EDB76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3F05-87B6-47E6-8B95-62B29022B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B08E-5BEE-4F88-B508-A02285C30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11DD-FC53-457A-8869-F2CD7E8CF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C2A7-5E22-4172-A6AB-598A4EBA6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3777-9D44-45C4-8834-F7D8591C2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900F-0995-4E56-987E-60FC05762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79C5-B9FE-4112-B5A7-7693E082B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624B-4A83-4A01-A972-87E6D66D9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F181-1737-47F3-9AFB-4EDF9E60D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9346-F673-4649-938D-AF330C7EF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5FA45-C0F6-415D-A448-1790609FC2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Image:Soviet_Union%2C_Lenin_%2855%29.jp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Image:Tsarbomb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 – Russ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28600" y="914400"/>
          <a:ext cx="8763120" cy="5500800"/>
        </p:xfrm>
        <a:graphic>
          <a:graphicData uri="http://schemas.openxmlformats.org/drawingml/2006/table">
            <a:tbl>
              <a:tblPr/>
              <a:tblGrid>
                <a:gridCol w="1219320"/>
                <a:gridCol w="5715000"/>
                <a:gridCol w="1828800"/>
              </a:tblGrid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 Revie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RUSSIA (EURASIA) UNIT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ver Page and M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t-Away Box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man-Environment Intera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fe Under Communis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viet Union - Econom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228600" y="2286000"/>
            <a:ext cx="8763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52280" y="456840"/>
            <a:ext cx="883944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ay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plete your ECONOMIC HISTORICAL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the Acrostic Poem or the Poster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portion of the project is due tomorrow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do it anyway you wa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your note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a piece of computer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a power point (do your rough draft today and email it to me when you are finish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your own wiki (go to wikispaces.c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924680" y="1295280"/>
            <a:ext cx="8384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viet Union - Econom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22-199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onom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Economic System = Command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Main Economic Policy = Rapid Industri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Vladimir Lenin speaking to Red Army troops before their departure to the Polish front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943600" y="3733920"/>
            <a:ext cx="27716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. Command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Government controls all busin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Government takes all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Equal pay crushes incentive to work h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Unemployment low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overnment provides people with jo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p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ffects of Communism Clip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What is Stalin’s 5 year pla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How did it turn ou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. Massive Cold War Spe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Built up military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ms 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Spent money on wars in Vietnam, North Korea, Afghanist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Space 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The Tsar Bomba, the most powerful nuclear weapon ever detonated, was one of many products of the Cold War tension between the Soviet Union and the United States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62520" y="3505320"/>
            <a:ext cx="4572000" cy="24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rcRect l="0" t="13330" r="0" b="0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21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3. Collective Farm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Soviet government kicks farmers off their 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Sets up huge government-run farm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llectiv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ject Int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9154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se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fe during Communism (Historic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fe after Communism (Moder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ay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conomic during Commu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 due tomorr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iday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cial and Political during Commu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product due Monday 1/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772400" y="380880"/>
            <a:ext cx="8380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l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he following at the top of your project direction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sit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ww.orso2ndperiod.wikispaces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ail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raden.orso@cfisd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772400" y="380880"/>
            <a:ext cx="8380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8T12:49:44Z</dcterms:created>
  <dc:creator>CFISD</dc:creator>
  <dc:description/>
  <dc:language>en-US</dc:language>
  <cp:lastModifiedBy>CFISD</cp:lastModifiedBy>
  <dcterms:modified xsi:type="dcterms:W3CDTF">2008-12-18T17:45:29Z</dcterms:modified>
  <cp:revision>12</cp:revision>
  <dc:subject/>
  <dc:title>Life Under Communism</dc:title>
</cp:coreProperties>
</file>