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A66-D25A-4DCF-B6AC-A4D0F149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DA4-52E6-4DC7-B4EE-43306A10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AAA-9990-4373-8A5E-C0E37985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6EC-7F95-4CD3-8367-7B0797B7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976-F44E-440D-9FDA-C39C88E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AF8-D0FE-46FA-9CD5-0AFE817F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2B6-611E-40C3-945C-6E3F8BC1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BCE-DB9B-4528-8BF8-066656A8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206-18BC-4A46-A723-E235DDCE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113-6C50-46E3-88B9-0CA8AC1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F4A-3FC5-48D2-AF6A-8BBDAB7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CBB-482F-4F69-9079-E28C3D02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C10B-B338-48CA-988B-5E8B7456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oviet_Union%2C_Lenin_%2855%29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Tsarbom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83944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 your ECONOMIC HISTORIC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Acrostic Poem or the Pos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ion of the project is due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o it anyway you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iece of comput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ower point (do your rough draft today and email it to me when you are fin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own wiki (go to wikispace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129528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-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conomic System =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in Economic Policy = Rapid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Vladimir Lenin speaking to Red Army troops before their departure to the Polish fro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733920"/>
            <a:ext cx="2771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controls 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takes al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qual pay crushes incentive to work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nemployment l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vernment provides people with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 of Communism 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is Stalin’s 5 year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ow did it turn 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assive Cold War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t up milit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nt money on wars in Vietnam, North Korea,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Tsar Bomba, the most powerful nuclear weapon ever detonated, was one of many products of the Cold War tension between the Soviet Union and the United Stat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505320"/>
            <a:ext cx="4572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13330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llective Far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viet government kicks farmers off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ts up huge government-run far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lectiv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during Communism (Histo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after Communism (Mode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conomic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ue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ial and Political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duct due Monday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llowing at the top of your project direc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ww.orso2ndperiod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aden.orso@cfis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2:49:44Z</dcterms:created>
  <dc:creator>CFISD</dc:creator>
  <dc:description/>
  <dc:language>en-US</dc:language>
  <cp:lastModifiedBy>CFISD</cp:lastModifiedBy>
  <dcterms:modified xsi:type="dcterms:W3CDTF">2008-12-18T17:45:29Z</dcterms:modified>
  <cp:revision>12</cp:revision>
  <dc:subject/>
  <dc:title>Life Under Communism</dc:title>
</cp:coreProperties>
</file>