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714-9AF3-4038-8470-3509888A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A0F-E725-43D2-8B79-8A9557F7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365-EEF6-4932-B0C1-182D4467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5DE-42FD-4E6A-AC62-5AD7BB01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A73-50DA-4453-8282-C35E0DDB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140-A07E-439A-9C4C-42DAF45CA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7B7-372A-41F3-8D92-6235A029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8E61-0244-4A1B-90D3-8A895560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77BD-3EDB-4EF2-93E3-8D11E5A6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E0D-EF72-497A-9AA1-6BF85973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41F-1C7E-4CC0-8BE9-5C0EFFCB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D90-077E-4E14-8302-474A04C7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C3B5-F456-4D54-BD39-4FD5800CA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oviet_Union%2C_Lenin_%2855%29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Tsarbom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83944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te your ECONOMIC HISTORIC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Acrostic Poem or the Pos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ion of the project is due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o it anyway you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iece of comput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power point (do your rough draft today and email it to me when you are fin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own wiki (go to wikispace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129528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-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conomic System =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in Economic Policy = Rapid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Vladimir Lenin speaking to Red Army troops before their departure to the Polish fro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733920"/>
            <a:ext cx="2771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controls 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takes al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qual pay crushes incentive to work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nemployment lo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vernment provides people with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 of Communism 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is Stalin’s 5 year pl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ow did it turn 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assive Cold War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t up milita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ent money on wars in Vietnam, North Korea,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Tsar Bomba, the most powerful nuclear weapon ever detonated, was one of many products of the Cold War tension between the Soviet Union and the United Stat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3505320"/>
            <a:ext cx="4572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13330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llective Far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viet government kicks farmers off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ts up huge government-run far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lectiv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during Communism (Histo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after Communism (Mode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conomic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ue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cial and Political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duct due Monday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llowing at the top of your project direc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ww.orso2ndperiod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aden.orso@cfisd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2:49:44Z</dcterms:created>
  <dc:creator>CFISD</dc:creator>
  <dc:description/>
  <dc:language>en-US</dc:language>
  <cp:lastModifiedBy>CFISD</cp:lastModifiedBy>
  <dcterms:modified xsi:type="dcterms:W3CDTF">2008-12-18T17:45:29Z</dcterms:modified>
  <cp:revision>12</cp:revision>
  <dc:subject/>
  <dc:title>Life Under Communism</dc:title>
</cp:coreProperties>
</file>