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145E-8BD7-481F-A484-244739139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2126-7533-45C2-A985-3DE5CA3E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600C-262B-4902-86E0-549EBC46B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D1C5-54C7-4442-A606-90953C25E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7EE4-C6FD-4C5B-9770-D883D067D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AA54-C4AD-4605-B2EF-E18869D4F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257A-38E9-41E7-BD7C-71D115731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83D1-A307-4F58-B6A5-FDA4F7897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445C-1A4F-4460-8209-3BC25B313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D1E2-D8AA-4D50-B6C5-A65C03D1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DAEF-E742-474A-90AF-63821447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D0C1-683C-4589-BEFD-C768DA00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5448C-54D0-4CBB-ADB6-3452CBDD9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Image:Soviet_Union%2C_Lenin_%2855%29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Image:Tsarbomb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Rus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28600" y="914400"/>
          <a:ext cx="8763120" cy="550080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 Revi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RUSSIA (EURASIA) UNIT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ver Page and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-Away Box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an-Environment Inter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fe Under Communis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viet Union - Econom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228600" y="22860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52280" y="456840"/>
            <a:ext cx="883944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plete your ECONOMIC HISTORICAL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the Acrostic Poem or the Poste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ortion of the project is due tomorrow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do it anyway you wa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your note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 piece of computer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 power point (do your rough draft today and email it to me when you are finish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your own wiki (go to wikispaces.c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924680" y="1295280"/>
            <a:ext cx="8384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viet Union - Econo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22-19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conomic System = Command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ain Economic Policy = Rapid Industri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Vladimir Lenin speaking to Red Army troops before their departure to the Polish fron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943600" y="3733920"/>
            <a:ext cx="27716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. Command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Government controls all busin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Government takes all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qual pay crushes incentive to work h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Unemployment low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overnment provides people with jo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p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ffects of Communism Clip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What is Stalin’s 5 year pla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How did it turn ou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. Massive Cold War Spe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Built up militar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ms 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pent money on wars in Vietnam, North Korea, Afghanis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pace 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The Tsar Bomba, the most powerful nuclear weapon ever detonated, was one of many products of the Cold War tension between the Soviet Union and the United States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62520" y="3505320"/>
            <a:ext cx="457200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rcRect l="0" t="13330" r="0" b="0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Collective Farm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Soviet government kicks farmers off their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Sets up huge government-run farm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llectiv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ject Int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9154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se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fe during Communism (Historic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fe after Communism (Moder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conomic during Commu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due tomor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ida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cial and Political during Commu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product due Monday 1/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772400" y="380880"/>
            <a:ext cx="8380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l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 following at the top of your project direction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sit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ww.orso2ndperiod.wikispace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ail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raden.orso@cfisd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772400" y="380880"/>
            <a:ext cx="8380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12:49:44Z</dcterms:created>
  <dc:creator>CFISD</dc:creator>
  <dc:description/>
  <dc:language>en-US</dc:language>
  <cp:lastModifiedBy>CFISD</cp:lastModifiedBy>
  <dcterms:modified xsi:type="dcterms:W3CDTF">2008-12-18T17:45:29Z</dcterms:modified>
  <cp:revision>12</cp:revision>
  <dc:subject/>
  <dc:title>Life Under Communism</dc:title>
</cp:coreProperties>
</file>