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2A57-DC8A-476F-92B1-90630427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D66-2A8E-4223-A4B0-86277C10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8F42-B7ED-4F09-9359-6A5AD8A4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282-1C7E-435C-9F6E-D1812FED3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52F-A5DA-40DC-BD0E-D530BDC2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8B0-9064-4088-9D5C-14E5FF9F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F72-285B-47CA-B418-7858E4E3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A743-3F33-464E-921A-79546E05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B6A6-8342-4AC2-9597-2F97C7D9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F35-BAFB-4258-BD3D-97F2375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FF7-9E65-4368-8AB9-C3EE2F06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87A-73F0-41BD-B75F-ACDBEA4E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600A-63DC-4DDC-8580-4E7D33DB3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dition.cnn.com/2007/WORLD/europe/04/27/chechnya.timeline/index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Russ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Fall of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Perestroik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restructuring of the Sovi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from command economy to 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privatization of busine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rbachev’s Economic Poli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Russia” Clip Questions – Par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xplain the changes in Russia since it has become a market econom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7531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 After Communism - Poli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all of Communism i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point in history where the Soviet Union broke apar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en Russia changed to a Democrac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en Russia changed to a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hifts from Communism to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ave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eople gain freed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 a list of freedoms that were banned under the Soviet Union that are now accep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bachev’s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Glasn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policy of openness in the gover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arency in the activities of all government instit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freedom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Explain why the freedom of information is important?  How is this different from life in the Soviet Un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438280"/>
            <a:ext cx="1600200" cy="24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all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5562720"/>
            <a:ext cx="1524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572000"/>
            <a:ext cx="26668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the Fall of Commu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used to all be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4680" y="68580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Ethnic Confli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thnic groups inside of Russia’s borders see other people gaining free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y want it to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Leads to conflict in Chechnya and Georg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hnya timeline – use this source to assist you with the conflict portion of the project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dition.cnn.com/2007/WORLD/europe/04/27/chechnya.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7:04:33Z</dcterms:created>
  <dc:creator>CFISD</dc:creator>
  <dc:description/>
  <dc:language>en-US</dc:language>
  <cp:lastModifiedBy>CFISD</cp:lastModifiedBy>
  <dcterms:modified xsi:type="dcterms:W3CDTF">2009-01-06T13:49:46Z</dcterms:modified>
  <cp:revision>14</cp:revision>
  <dc:subject/>
  <dc:title>Life in Russia </dc:title>
</cp:coreProperties>
</file>