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18F-F8D1-4CA1-920F-87241440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5C82-86BE-4DCE-B009-E7A5BCF2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127-97DE-4549-92F7-712FF218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424-37C1-4BC7-B837-CE34A4FC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D2F9-8DF9-41C3-AB77-C8DC87A7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322B-4A1D-420F-9517-0C45E6F2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65DA-BCD1-423A-86AB-C89EE4AA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2A74-C492-4051-8911-88F83048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8EA3-6273-48E1-9E53-D97011A8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69B-2433-47A9-9B97-DBDAF670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CAE1-4011-4D9B-A266-36116582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14F-3D57-4BAF-A7F6-D6944624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908E-6C47-401F-A6FF-46EE5946C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dition.cnn.com/2007/WORLD/europe/04/27/chechnya.timeline/index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Russ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Fall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Perestroik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restructuring of the Sovi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from command economy to 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to privatization of busines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rbachev’s Economic Polic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Russia” Clip Questions – Par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xplain the changes in Russia since it has become a market econom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57531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Under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 of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 After Communism - Poli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all of Communism 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point in history where the Soviet Union broke a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en Russia changed to a Democrac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en Russia changed to a Mark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hifts from Communism to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ave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eople gain freed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 a list of freedoms that were banned under the Soviet Union that are now accep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rbachev’s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Glasn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he policy of openness in the gover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arency in the activities of all government instit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freedom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Explain why the freedom of information is important?  How is this different from life in the Soviet Un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Revolutions in the former Soviet Unio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438280"/>
            <a:ext cx="1600200" cy="243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all a part of the Soviet Union – controlled by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1219320"/>
            <a:ext cx="6781680" cy="54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5562720"/>
            <a:ext cx="15242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Revolutions in the former Soviet Unio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8763120" cy="5494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4572000"/>
            <a:ext cx="266688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the Fall of Commu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used to all be a part of the Soviet Union – controlled by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24680" y="685800"/>
            <a:ext cx="914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Ethnic Confli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thnic groups inside of Russia’s borders see other people gaining free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y want it to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eads to conflict in Chechnya and Georg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hnya timeline – use this source to assist you with the conflict portion of the projec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dition.cnn.com/2007/WORLD/europe/04/27/chechnya.timeline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7:04:33Z</dcterms:created>
  <dc:creator>CFISD</dc:creator>
  <dc:description/>
  <dc:language>en-US</dc:language>
  <cp:lastModifiedBy>CFISD</cp:lastModifiedBy>
  <dcterms:modified xsi:type="dcterms:W3CDTF">2009-01-06T13:49:46Z</dcterms:modified>
  <cp:revision>14</cp:revision>
  <dc:subject/>
  <dc:title>Life in Russia </dc:title>
</cp:coreProperties>
</file>