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DAE-0178-4B61-9000-14B3CD87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3F9-3D44-486E-BA0A-0EFDECFA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D13-1FF3-47F1-84D0-15ED8934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DD6-6F66-41E2-A83A-CEA2E510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B30-FC45-44E5-853F-BE185EF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2DB-DBF3-4791-9036-A3A1713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0DB-F092-4993-A7E3-442BE629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CE0-B4B9-4122-9688-ACE12905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6A0-8265-4461-A703-61285305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2B0-DDC9-4D0C-91AD-2BB1CD4B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AE9-1FD2-4A25-9F5E-A55A2634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B10-9834-4BF2-8AF7-507CE443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97E0-AE67-40B8-A4D7-70DD5B22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ition.cnn.com/2007/WORLD/europe/04/27/chechnya.timeline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Perestro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from command economy to 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Economic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7531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- 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all of Communism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oint in history where the Soviet Union broke a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n Russia changed to a Democrac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Russia changed to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 a list of freedoms that were banned under the Soviet Union that are now accep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las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olicy of openness in the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reedom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why the freedom of information is important?  How is this different from life in the Soviet Un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572000"/>
            <a:ext cx="26668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thnic groups inside of Russia’s borders see other people gaining free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y want it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ds to conflict in Chechnya and Geor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 – use this source to assist you with the conflict portion of the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6T13:49:46Z</dcterms:modified>
  <cp:revision>14</cp:revision>
  <dc:subject/>
  <dc:title>Life in Russia </dc:title>
</cp:coreProperties>
</file>