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EA9-AE0E-4C46-AF6D-0E4FD387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1F1A-298B-49C4-901A-ADA054FB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1DC8-BE82-4772-9FD0-66D54743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5635-AB42-4ABF-B86C-F4E9ECC5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12F-7F24-4D85-9AFB-70290F26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0CAA-AF32-46F5-91F0-C8423A46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776D-5945-4DF5-84A0-22518727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71F8-7324-43B1-A65C-02F007CB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F48-0891-4D04-A8CF-B831285B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0FAD-1649-40AC-AF5D-DCA1218B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3299-B8F5-487A-B140-749F8D0F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05C-2062-4FB3-87BF-94D30B97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EFD5-BC66-43C8-A7F5-A93C59D03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dition.cnn.com/2007/WORLD/europe/04/27/chechnya.timeline/index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Russ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Fall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Perestroik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restructuring of the Sovi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from command economy to 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to privatization of busines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rbachev’s Economic Polic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Russia” Clip Questions – Par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xplain the changes in Russia since it has become a market econom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57531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Under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 of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 After Communism - Poli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all of Communism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point in history where the Soviet Union broke a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en Russia changed to a Democrac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en Russia changed to a Mark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hifts from Communism to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ave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eople gain freed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 a list of freedoms that were banned under the Soviet Union that are now accep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rbachev’s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Glasn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he policy of openness in the gover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arency in the activities of all government instit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freedom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Explain why the freedom of information is important?  How is this different from life in the Soviet Un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Revolutions in the former Soviet Unio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438280"/>
            <a:ext cx="1600200" cy="24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all a part of the Soviet Union – controlled by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6781680" cy="54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5562720"/>
            <a:ext cx="15242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Revolutions in the former Soviet Unio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8763120" cy="5494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4572000"/>
            <a:ext cx="266688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the Fall of Commu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used to all be a part of the Soviet Union – controlled by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24680" y="685800"/>
            <a:ext cx="914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Ethnic Confli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thnic groups inside of Russia’s borders see other people gaining free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y want it to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eads to conflict in Chechnya and Georg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hnya timeline – use this source to assist you with the conflict portion of the projec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dition.cnn.com/2007/WORLD/europe/04/27/chechnya.timeline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7:04:33Z</dcterms:created>
  <dc:creator>CFISD</dc:creator>
  <dc:description/>
  <dc:language>en-US</dc:language>
  <cp:lastModifiedBy>CFISD</cp:lastModifiedBy>
  <dcterms:modified xsi:type="dcterms:W3CDTF">2009-01-06T13:49:46Z</dcterms:modified>
  <cp:revision>14</cp:revision>
  <dc:subject/>
  <dc:title>Life in Russia </dc:title>
</cp:coreProperties>
</file>